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41A1-9AEE-463C-B90C-A0343CD8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6D5-EECC-4713-B69F-7B619416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1A3-B4A9-40AE-84E8-D06CB152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1CE-965D-4260-8394-A25B8931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CF0-453A-48DE-BDD7-9E486213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5616-4162-4BCF-9947-3922E3A7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C1A-9C21-44C3-9B59-0D5C88B1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648-B96A-40FF-A5B8-628DA8E1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252-8686-44EC-9D5C-753C7D4B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215-B184-471C-9BB0-668DB1F4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C20-17F5-4971-973F-AB1AC799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042-694F-485F-B670-FD12A4FB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9489-4652-4F82-AB7C-A1F8C8F95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rogramming in Java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X. 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Mason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e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419120"/>
            <a:ext cx="9144000" cy="488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00720" y="1355760"/>
            <a:ext cx="28432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Java3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ooks on Java3D. It can be a game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ore functions to be add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an excellent tool for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AL, JInput, JOGL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cene Grap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scengraph"/>
          <p:cNvPicPr/>
          <p:nvPr/>
        </p:nvPicPr>
        <p:blipFill>
          <a:blip r:embed="rId1"/>
          <a:stretch/>
        </p:blipFill>
        <p:spPr>
          <a:xfrm>
            <a:off x="380880" y="1300320"/>
            <a:ext cx="8458200" cy="464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13400" y="765000"/>
            <a:ext cx="2148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C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x to build a virtual worl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Create a drawing area canvas3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Construct ViewBranch topdow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Construct sceneGraph: a color cu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Go live under locale in the virtual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Initialize view bran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Move the view branch to view object at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ColorC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Universe class to construct the view branch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417852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orm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4967280" cy="516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27954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G Bra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1447920"/>
            <a:ext cx="7129440" cy="519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279540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2536920" cy="4321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76720" y="4076640"/>
            <a:ext cx="1834920" cy="1755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435640" y="3933720"/>
            <a:ext cx="1878120" cy="1795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59280" y="213372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st of values that can be modified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pabilit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object. Each node has a set of capability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i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530360"/>
            <a:ext cx="864216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arance (Light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446120"/>
            <a:ext cx="9144000" cy="483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326280" y="1484280"/>
            <a:ext cx="281772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7:41:11Z</dcterms:created>
  <dc:creator>Jim</dc:creator>
  <dc:description/>
  <dc:language>en-US</dc:language>
  <cp:lastModifiedBy>Jim</cp:lastModifiedBy>
  <dcterms:modified xsi:type="dcterms:W3CDTF">2007-11-26T22:08:29Z</dcterms:modified>
  <cp:revision>4</cp:revision>
  <dc:subject/>
  <dc:title>Programming in Java3D</dc:title>
</cp:coreProperties>
</file>