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WHOOSH.WAV" ContentType="audio/x-wav"/>
  <Override PartName="/ppt/media/carbrake.wav" ContentType="audio/x-wav"/>
  <Override PartName="/ppt/media/image6.png" ContentType="image/png"/>
  <Override PartName="/ppt/media/image3.png" ContentType="image/png"/>
  <Override PartName="/ppt/media/image2.png" ContentType="image/png"/>
  <Override PartName="/ppt/media/image7.png" ContentType="image/png"/>
  <Override PartName="/ppt/media/CHIMES.WAV" ContentType="audio/x-wav"/>
  <Override PartName="/ppt/media/image10.png" ContentType="image/png"/>
  <Override PartName="/ppt/media/image5.png" ContentType="image/png"/>
  <Override PartName="/ppt/media/image4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1.jpeg" ContentType="image/jpeg"/>
  <Override PartName="/ppt/media/image12.png" ContentType="image/png"/>
  <Override PartName="/ppt/media/CASHREG.WAV" ContentType="audio/x-wav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53B-3FA5-4075-B0AB-0DAC2DFC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CF7-C48A-4926-B7D3-17C7F72C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415-5C88-44E4-8350-1197E2AB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492-624F-4DFE-ACDA-CA2C2BAC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6AE-7CC5-4180-A905-FA5C91F0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DE2-DAC8-4611-BFE4-6F970EFF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A05-AE6D-4730-AD64-016DBCAF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148-87EE-4B92-9B2E-A3776AE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979-6C6C-456F-8AD9-66D2D41D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68F-16A2-4C50-A5B3-2A716F9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B9A-27CF-43DB-9B8F-FEFCD55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D83-AAAE-4DE0-A83F-0E9737E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EA37-8050-443E-B728-5E4571DB0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audio" Target="../media/WHOOSH.WAV"/><Relationship Id="rId95" Type="http://schemas.openxmlformats.org/officeDocument/2006/relationships/audio" Target="../media/WHOOSH.WAV"/><Relationship Id="rId96" Type="http://schemas.openxmlformats.org/officeDocument/2006/relationships/audio" Target="../media/CAMERA.WAV"/><Relationship Id="rId97" Type="http://schemas.openxmlformats.org/officeDocument/2006/relationships/audio" Target="../media/CAMERA.WAV"/><Relationship Id="rId9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audio" Target="../media/WHOOSH.WAV"/><Relationship Id="rId86" Type="http://schemas.openxmlformats.org/officeDocument/2006/relationships/audio" Target="../media/WHOOSH.WAV"/><Relationship Id="rId87" Type="http://schemas.openxmlformats.org/officeDocument/2006/relationships/audio" Target="../media/CAMERA.WAV"/><Relationship Id="rId88" Type="http://schemas.openxmlformats.org/officeDocument/2006/relationships/audio" Target="../media/CAMERA.WAV"/><Relationship Id="rId89" Type="http://schemas.openxmlformats.org/officeDocument/2006/relationships/audio" Target="../media/CAMERA.WAV"/><Relationship Id="rId9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audio" Target="../media/WHOOSH.WAV"/><Relationship Id="rId97" Type="http://schemas.openxmlformats.org/officeDocument/2006/relationships/audio" Target="../media/WHOOSH.WAV"/><Relationship Id="rId98" Type="http://schemas.openxmlformats.org/officeDocument/2006/relationships/audio" Target="../media/CAMERA.WAV"/><Relationship Id="rId99" Type="http://schemas.openxmlformats.org/officeDocument/2006/relationships/audio" Target="../media/CAMERA.WAV"/><Relationship Id="rId10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audio" Target="../media/WHOOSH.WAV"/><Relationship Id="rId56" Type="http://schemas.openxmlformats.org/officeDocument/2006/relationships/audio" Target="../media/WHOOSH.WAV"/><Relationship Id="rId57" Type="http://schemas.openxmlformats.org/officeDocument/2006/relationships/audio" Target="../media/CAMERA.WAV"/><Relationship Id="rId58" Type="http://schemas.openxmlformats.org/officeDocument/2006/relationships/audio" Target="../media/CAMERA.WAV"/><Relationship Id="rId5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3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3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1.png"/><Relationship Id="rId105" Type="http://schemas.openxmlformats.org/officeDocument/2006/relationships/image" Target="../media/image1.png"/><Relationship Id="rId106" Type="http://schemas.openxmlformats.org/officeDocument/2006/relationships/image" Target="../media/image1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1.png"/><Relationship Id="rId129" Type="http://schemas.openxmlformats.org/officeDocument/2006/relationships/audio" Target="../media/WHOOSH.WAV"/><Relationship Id="rId130" Type="http://schemas.openxmlformats.org/officeDocument/2006/relationships/audio" Target="../media/WHOOSH.WAV"/><Relationship Id="rId131" Type="http://schemas.openxmlformats.org/officeDocument/2006/relationships/audio" Target="../media/CAMERA.WAV"/><Relationship Id="rId132" Type="http://schemas.openxmlformats.org/officeDocument/2006/relationships/audio" Target="../media/CAMERA.WAV"/><Relationship Id="rId133" Type="http://schemas.openxmlformats.org/officeDocument/2006/relationships/audio" Target="../media/CAMERA.WAV"/><Relationship Id="rId13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1.png"/><Relationship Id="rId105" Type="http://schemas.openxmlformats.org/officeDocument/2006/relationships/image" Target="../media/image1.png"/><Relationship Id="rId106" Type="http://schemas.openxmlformats.org/officeDocument/2006/relationships/image" Target="../media/image1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4.wmf"/><Relationship Id="rId131" Type="http://schemas.openxmlformats.org/officeDocument/2006/relationships/audio" Target="../media/WHOOSH.WAV"/><Relationship Id="rId132" Type="http://schemas.openxmlformats.org/officeDocument/2006/relationships/audio" Target="../media/WHOOSH.WAV"/><Relationship Id="rId133" Type="http://schemas.openxmlformats.org/officeDocument/2006/relationships/audio" Target="../media/CAMERA.WAV"/><Relationship Id="rId134" Type="http://schemas.openxmlformats.org/officeDocument/2006/relationships/audio" Target="../media/CAMERA.WAV"/><Relationship Id="rId135" Type="http://schemas.openxmlformats.org/officeDocument/2006/relationships/audio" Target="../media/CAMERA.WAV"/><Relationship Id="rId1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1.png"/><Relationship Id="rId105" Type="http://schemas.openxmlformats.org/officeDocument/2006/relationships/image" Target="../media/image1.png"/><Relationship Id="rId106" Type="http://schemas.openxmlformats.org/officeDocument/2006/relationships/image" Target="../media/image1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2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1.png"/><Relationship Id="rId131" Type="http://schemas.openxmlformats.org/officeDocument/2006/relationships/image" Target="../media/image1.png"/><Relationship Id="rId132" Type="http://schemas.openxmlformats.org/officeDocument/2006/relationships/image" Target="../media/image1.png"/><Relationship Id="rId133" Type="http://schemas.openxmlformats.org/officeDocument/2006/relationships/image" Target="../media/image1.png"/><Relationship Id="rId134" Type="http://schemas.openxmlformats.org/officeDocument/2006/relationships/image" Target="../media/image1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1.png"/><Relationship Id="rId140" Type="http://schemas.openxmlformats.org/officeDocument/2006/relationships/image" Target="../media/image1.png"/><Relationship Id="rId141" Type="http://schemas.openxmlformats.org/officeDocument/2006/relationships/image" Target="../media/image1.png"/><Relationship Id="rId142" Type="http://schemas.openxmlformats.org/officeDocument/2006/relationships/image" Target="../media/image1.png"/><Relationship Id="rId143" Type="http://schemas.openxmlformats.org/officeDocument/2006/relationships/image" Target="../media/image1.png"/><Relationship Id="rId144" Type="http://schemas.openxmlformats.org/officeDocument/2006/relationships/image" Target="../media/image1.png"/><Relationship Id="rId145" Type="http://schemas.openxmlformats.org/officeDocument/2006/relationships/image" Target="../media/image1.png"/><Relationship Id="rId146" Type="http://schemas.openxmlformats.org/officeDocument/2006/relationships/image" Target="../media/image1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.png"/><Relationship Id="rId152" Type="http://schemas.openxmlformats.org/officeDocument/2006/relationships/image" Target="../media/image1.png"/><Relationship Id="rId153" Type="http://schemas.openxmlformats.org/officeDocument/2006/relationships/image" Target="../media/image1.png"/><Relationship Id="rId154" Type="http://schemas.openxmlformats.org/officeDocument/2006/relationships/image" Target="../media/image1.png"/><Relationship Id="rId155" Type="http://schemas.openxmlformats.org/officeDocument/2006/relationships/image" Target="../media/image1.png"/><Relationship Id="rId156" Type="http://schemas.openxmlformats.org/officeDocument/2006/relationships/image" Target="../media/image1.png"/><Relationship Id="rId157" Type="http://schemas.openxmlformats.org/officeDocument/2006/relationships/image" Target="../media/image1.png"/><Relationship Id="rId158" Type="http://schemas.openxmlformats.org/officeDocument/2006/relationships/image" Target="../media/image1.png"/><Relationship Id="rId159" Type="http://schemas.openxmlformats.org/officeDocument/2006/relationships/image" Target="../media/image1.png"/><Relationship Id="rId160" Type="http://schemas.openxmlformats.org/officeDocument/2006/relationships/image" Target="../media/image1.png"/><Relationship Id="rId161" Type="http://schemas.openxmlformats.org/officeDocument/2006/relationships/image" Target="../media/image1.png"/><Relationship Id="rId162" Type="http://schemas.openxmlformats.org/officeDocument/2006/relationships/image" Target="../media/image1.png"/><Relationship Id="rId163" Type="http://schemas.openxmlformats.org/officeDocument/2006/relationships/image" Target="../media/image1.png"/><Relationship Id="rId164" Type="http://schemas.openxmlformats.org/officeDocument/2006/relationships/image" Target="../media/image1.png"/><Relationship Id="rId165" Type="http://schemas.openxmlformats.org/officeDocument/2006/relationships/image" Target="../media/image1.png"/><Relationship Id="rId166" Type="http://schemas.openxmlformats.org/officeDocument/2006/relationships/image" Target="../media/image1.png"/><Relationship Id="rId167" Type="http://schemas.openxmlformats.org/officeDocument/2006/relationships/image" Target="../media/image1.png"/><Relationship Id="rId168" Type="http://schemas.openxmlformats.org/officeDocument/2006/relationships/image" Target="../media/image1.png"/><Relationship Id="rId169" Type="http://schemas.openxmlformats.org/officeDocument/2006/relationships/image" Target="../media/image1.png"/><Relationship Id="rId170" Type="http://schemas.openxmlformats.org/officeDocument/2006/relationships/image" Target="../media/image1.png"/><Relationship Id="rId171" Type="http://schemas.openxmlformats.org/officeDocument/2006/relationships/image" Target="../media/image1.png"/><Relationship Id="rId172" Type="http://schemas.openxmlformats.org/officeDocument/2006/relationships/image" Target="../media/image1.png"/><Relationship Id="rId173" Type="http://schemas.openxmlformats.org/officeDocument/2006/relationships/image" Target="../media/image1.png"/><Relationship Id="rId174" Type="http://schemas.openxmlformats.org/officeDocument/2006/relationships/image" Target="../media/image1.png"/><Relationship Id="rId175" Type="http://schemas.openxmlformats.org/officeDocument/2006/relationships/image" Target="../media/image1.png"/><Relationship Id="rId176" Type="http://schemas.openxmlformats.org/officeDocument/2006/relationships/image" Target="../media/image1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audio" Target="../media/WHOOSH.WAV"/><Relationship Id="rId184" Type="http://schemas.openxmlformats.org/officeDocument/2006/relationships/audio" Target="../media/WHOOSH.WAV"/><Relationship Id="rId185" Type="http://schemas.openxmlformats.org/officeDocument/2006/relationships/audio" Target="../media/CAMERA.WAV"/><Relationship Id="rId186" Type="http://schemas.openxmlformats.org/officeDocument/2006/relationships/audio" Target="../media/CAMERA.WAV"/><Relationship Id="rId187" Type="http://schemas.openxmlformats.org/officeDocument/2006/relationships/audio" Target="../media/CHIMES.WAV"/><Relationship Id="rId188" Type="http://schemas.openxmlformats.org/officeDocument/2006/relationships/audio" Target="../media/CAMERA.WAV"/><Relationship Id="rId18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audio" Target="../media/WHOOSH.WAV"/><Relationship Id="rId86" Type="http://schemas.openxmlformats.org/officeDocument/2006/relationships/audio" Target="../media/WHOOSH.WAV"/><Relationship Id="rId87" Type="http://schemas.openxmlformats.org/officeDocument/2006/relationships/audio" Target="../media/CAMERA.WAV"/><Relationship Id="rId88" Type="http://schemas.openxmlformats.org/officeDocument/2006/relationships/audio" Target="../media/CAMERA.WAV"/><Relationship Id="rId89" Type="http://schemas.openxmlformats.org/officeDocument/2006/relationships/audio" Target="../media/CAMERA.WAV"/><Relationship Id="rId9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198520"/>
            <a:ext cx="77724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viewing (some different methods exi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ion methods and view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pective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8280" y="841320"/>
            <a:ext cx="7143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EWING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3796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657600" y="6477120"/>
            <a:ext cx="1523880" cy="231120"/>
            <a:chOff x="3657600" y="6477120"/>
            <a:chExt cx="1523880" cy="231120"/>
          </a:xfrm>
        </p:grpSpPr>
        <p:sp>
          <p:nvSpPr>
            <p:cNvPr id="45" name=""/>
            <p:cNvSpPr/>
            <p:nvPr/>
          </p:nvSpPr>
          <p:spPr>
            <a:xfrm>
              <a:off x="37339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576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55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467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2296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8610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8487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05320" y="0"/>
            <a:ext cx="2133360" cy="246240"/>
            <a:chOff x="3505320" y="0"/>
            <a:chExt cx="2133360" cy="246240"/>
          </a:xfrm>
        </p:grpSpPr>
        <p:sp>
          <p:nvSpPr>
            <p:cNvPr id="53" name=""/>
            <p:cNvSpPr/>
            <p:nvPr/>
          </p:nvSpPr>
          <p:spPr>
            <a:xfrm>
              <a:off x="36576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05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627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2296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D2FDFBA-7DBC-4087-9E6A-4566C2460A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8487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8280" y="3828960"/>
            <a:ext cx="2376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8280" y="2968560"/>
            <a:ext cx="2376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1600" y="3662280"/>
            <a:ext cx="1440" cy="2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5960" y="3662280"/>
            <a:ext cx="1440" cy="2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0200" y="3710160"/>
            <a:ext cx="1440" cy="23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6800" y="3710160"/>
            <a:ext cx="1440" cy="23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76840"/>
            <a:ext cx="2376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9000" y="3303720"/>
            <a:ext cx="1440" cy="23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969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977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3A73B7E-4BF4-4023-A1FB-7170F0EF62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5480" y="458640"/>
            <a:ext cx="348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Times New Roman"/>
              </a:rPr>
              <a:t>A Perspective Proj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97640" y="401328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891520" y="2276640"/>
            <a:ext cx="3426840" cy="2218680"/>
            <a:chOff x="2891520" y="2276640"/>
            <a:chExt cx="3426840" cy="2218680"/>
          </a:xfrm>
        </p:grpSpPr>
        <p:sp>
          <p:nvSpPr>
            <p:cNvPr id="985" name=""/>
            <p:cNvSpPr/>
            <p:nvPr/>
          </p:nvSpPr>
          <p:spPr>
            <a:xfrm>
              <a:off x="5124600" y="3887640"/>
              <a:ext cx="1440" cy="2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776840" y="3063960"/>
              <a:ext cx="1800" cy="21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99040" y="3887640"/>
              <a:ext cx="1440" cy="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86160" y="3887640"/>
              <a:ext cx="180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37480" y="3887640"/>
              <a:ext cx="1440" cy="21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24600" y="3887640"/>
              <a:ext cx="1440" cy="21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973600" y="3672000"/>
              <a:ext cx="1440" cy="2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12040" y="3692520"/>
              <a:ext cx="1440" cy="21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9040" y="3238560"/>
              <a:ext cx="1440" cy="20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86160" y="3238560"/>
              <a:ext cx="1800" cy="20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951280" y="3063960"/>
              <a:ext cx="1800" cy="21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38760" y="3063960"/>
              <a:ext cx="1440" cy="21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89720" y="3085920"/>
              <a:ext cx="1440" cy="219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776840" y="3085920"/>
              <a:ext cx="1800" cy="21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24600" y="3887640"/>
              <a:ext cx="20520" cy="1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776840" y="3063960"/>
              <a:ext cx="1800" cy="21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99040" y="3975120"/>
              <a:ext cx="22320" cy="10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99040" y="4494240"/>
              <a:ext cx="22320" cy="10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02280" y="3975120"/>
              <a:ext cx="22320" cy="10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02280" y="4494240"/>
              <a:ext cx="22320" cy="10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72240" y="3975120"/>
              <a:ext cx="21960" cy="10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38800" y="3346560"/>
              <a:ext cx="20520" cy="10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73640" y="2868480"/>
              <a:ext cx="20520" cy="14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67360" y="2913120"/>
              <a:ext cx="22320" cy="1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9360" y="3476520"/>
              <a:ext cx="22320" cy="14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92880" y="3779640"/>
              <a:ext cx="1800" cy="2196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50000" y="2847960"/>
              <a:ext cx="22320" cy="108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0000" y="3063960"/>
              <a:ext cx="22320" cy="10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97840" y="4060800"/>
              <a:ext cx="20520" cy="10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2891520" y="2276640"/>
              <a:ext cx="3216960" cy="2144520"/>
              <a:chOff x="2891520" y="2276640"/>
              <a:chExt cx="3216960" cy="2144520"/>
            </a:xfrm>
          </p:grpSpPr>
          <p:sp>
            <p:nvSpPr>
              <p:cNvPr id="1015" name=""/>
              <p:cNvSpPr/>
              <p:nvPr/>
            </p:nvSpPr>
            <p:spPr>
              <a:xfrm>
                <a:off x="3111480" y="3273480"/>
                <a:ext cx="64800" cy="4284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0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328920" y="331632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09720" y="33591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914640" y="338148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219560" y="342432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02160" y="3468960"/>
                <a:ext cx="172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805280" y="351180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09840" y="355464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92440" y="3576600"/>
                <a:ext cx="17316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695920" y="361980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000480" y="3662640"/>
                <a:ext cx="65160" cy="21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457520" y="2882880"/>
                <a:ext cx="325440" cy="606600"/>
              </a:xfrm>
              <a:custGeom>
                <a:avLst/>
                <a:gdLst/>
                <a:ahLst/>
                <a:rect l="l" t="t" r="r" b="b"/>
                <a:pathLst>
                  <a:path w="205" h="382">
                    <a:moveTo>
                      <a:pt x="0" y="0"/>
                    </a:moveTo>
                    <a:lnTo>
                      <a:pt x="205" y="82"/>
                    </a:lnTo>
                    <a:lnTo>
                      <a:pt x="205" y="382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457520" y="2882880"/>
                <a:ext cx="347760" cy="628920"/>
              </a:xfrm>
              <a:custGeom>
                <a:avLst/>
                <a:gdLst/>
                <a:ahLst/>
                <a:rect l="l" t="t" r="r" b="b"/>
                <a:pathLst>
                  <a:path w="219" h="396">
                    <a:moveTo>
                      <a:pt x="0" y="0"/>
                    </a:moveTo>
                    <a:lnTo>
                      <a:pt x="205" y="82"/>
                    </a:lnTo>
                    <a:lnTo>
                      <a:pt x="219" y="82"/>
                    </a:lnTo>
                    <a:lnTo>
                      <a:pt x="219" y="82"/>
                    </a:lnTo>
                    <a:lnTo>
                      <a:pt x="219" y="382"/>
                    </a:lnTo>
                    <a:lnTo>
                      <a:pt x="219" y="396"/>
                    </a:lnTo>
                    <a:lnTo>
                      <a:pt x="205" y="396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205" y="382"/>
                    </a:lnTo>
                    <a:lnTo>
                      <a:pt x="205" y="396"/>
                    </a:lnTo>
                    <a:lnTo>
                      <a:pt x="205" y="382"/>
                    </a:lnTo>
                    <a:lnTo>
                      <a:pt x="205" y="82"/>
                    </a:lnTo>
                    <a:lnTo>
                      <a:pt x="219" y="82"/>
                    </a:lnTo>
                    <a:lnTo>
                      <a:pt x="205" y="9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457520" y="2882880"/>
                <a:ext cx="22320" cy="455760"/>
              </a:xfrm>
              <a:custGeom>
                <a:avLst/>
                <a:gdLst/>
                <a:ahLst/>
                <a:rect l="l" t="t" r="r" b="b"/>
                <a:pathLst>
                  <a:path w="14" h="287">
                    <a:moveTo>
                      <a:pt x="0" y="2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87"/>
                    </a:lnTo>
                    <a:lnTo>
                      <a:pt x="0" y="28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89160" y="3251160"/>
                <a:ext cx="8712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3306600" y="320832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3609720" y="3164040"/>
                <a:ext cx="1526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3914640" y="312120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4197240" y="3078000"/>
                <a:ext cx="1731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4502160" y="303516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4805280" y="299088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5087880" y="294804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5392440" y="2882520"/>
                <a:ext cx="150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675040" y="284004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78520" y="2818080"/>
                <a:ext cx="87120" cy="2196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66840" y="3251160"/>
                <a:ext cx="8748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3284280" y="3163680"/>
                <a:ext cx="1746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3589200" y="307800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892320" y="2990880"/>
                <a:ext cx="1746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197240" y="290484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4502160" y="2795400"/>
                <a:ext cx="172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4805280" y="2709720"/>
                <a:ext cx="1746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5109840" y="2622240"/>
                <a:ext cx="1731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413320" y="255744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805280" y="2818080"/>
                <a:ext cx="1282680" cy="217440"/>
              </a:xfrm>
              <a:custGeom>
                <a:avLst/>
                <a:gdLst/>
                <a:ahLst/>
                <a:rect l="l" t="t" r="r" b="b"/>
                <a:pathLst>
                  <a:path w="808" h="137">
                    <a:moveTo>
                      <a:pt x="0" y="123"/>
                    </a:moveTo>
                    <a:lnTo>
                      <a:pt x="0" y="137"/>
                    </a:lnTo>
                    <a:lnTo>
                      <a:pt x="808" y="14"/>
                    </a:lnTo>
                    <a:lnTo>
                      <a:pt x="808" y="0"/>
                    </a:lnTo>
                    <a:lnTo>
                      <a:pt x="0" y="123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435200" y="2557440"/>
                <a:ext cx="1043280" cy="325440"/>
              </a:xfrm>
              <a:custGeom>
                <a:avLst/>
                <a:gdLst/>
                <a:ahLst/>
                <a:rect l="l" t="t" r="r" b="b"/>
                <a:pathLst>
                  <a:path w="657" h="205">
                    <a:moveTo>
                      <a:pt x="0" y="191"/>
                    </a:moveTo>
                    <a:lnTo>
                      <a:pt x="0" y="205"/>
                    </a:lnTo>
                    <a:lnTo>
                      <a:pt x="657" y="14"/>
                    </a:lnTo>
                    <a:lnTo>
                      <a:pt x="657" y="0"/>
                    </a:lnTo>
                    <a:lnTo>
                      <a:pt x="0" y="191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805280" y="3511800"/>
                <a:ext cx="1282680" cy="172800"/>
              </a:xfrm>
              <a:custGeom>
                <a:avLst/>
                <a:gdLst/>
                <a:ahLst/>
                <a:rect l="l" t="t" r="r" b="b"/>
                <a:pathLst>
                  <a:path w="808" h="109">
                    <a:moveTo>
                      <a:pt x="0" y="0"/>
                    </a:moveTo>
                    <a:lnTo>
                      <a:pt x="0" y="14"/>
                    </a:lnTo>
                    <a:lnTo>
                      <a:pt x="808" y="109"/>
                    </a:lnTo>
                    <a:lnTo>
                      <a:pt x="808" y="95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066840" y="3251160"/>
                <a:ext cx="6516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4280" y="3273480"/>
                <a:ext cx="152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89200" y="329436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892320" y="3294360"/>
                <a:ext cx="1526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197240" y="331632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02160" y="333864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05280" y="33591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09840" y="33814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13320" y="3403800"/>
                <a:ext cx="87120" cy="2052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46320" y="322920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28"/>
                    </a:moveTo>
                    <a:lnTo>
                      <a:pt x="41" y="14"/>
                    </a:lnTo>
                    <a:lnTo>
                      <a:pt x="13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55"/>
                    </a:lnTo>
                    <a:lnTo>
                      <a:pt x="13" y="55"/>
                    </a:lnTo>
                    <a:lnTo>
                      <a:pt x="41" y="55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46320" y="3229200"/>
                <a:ext cx="8568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41" y="28"/>
                    </a:moveTo>
                    <a:lnTo>
                      <a:pt x="41" y="14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13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13" y="28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54" y="14"/>
                    </a:lnTo>
                    <a:lnTo>
                      <a:pt x="54" y="28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46320" y="32511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46320" y="3273480"/>
                <a:ext cx="20520" cy="2088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478400" y="234180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259880" y="344664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93320" y="2687760"/>
                <a:ext cx="37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91520" y="2882880"/>
                <a:ext cx="395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in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046320" y="3857760"/>
                <a:ext cx="20520" cy="49860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0200" y="3837240"/>
                <a:ext cx="20520" cy="5839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09800" y="3727440"/>
                <a:ext cx="22320" cy="30492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24000" y="381492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8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7" y="41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68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68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132000" y="383724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066840" y="3837240"/>
                <a:ext cx="87480" cy="10764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55" y="27"/>
                    </a:moveTo>
                    <a:lnTo>
                      <a:pt x="55" y="68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02160" y="3837240"/>
                <a:ext cx="107640" cy="15084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13" y="82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54" y="4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02160" y="3880080"/>
                <a:ext cx="20520" cy="6480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41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37240"/>
                <a:ext cx="85680" cy="10764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0" y="27"/>
                    </a:moveTo>
                    <a:lnTo>
                      <a:pt x="0" y="0"/>
                    </a:lnTo>
                    <a:lnTo>
                      <a:pt x="54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154320" y="3880080"/>
                <a:ext cx="1347840" cy="219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674520" y="359892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024000" y="409752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7" y="40"/>
                    </a:lnTo>
                    <a:lnTo>
                      <a:pt x="0" y="40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7" y="4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8" y="68"/>
                    </a:lnTo>
                    <a:lnTo>
                      <a:pt x="68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132000" y="411804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66840" y="411804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27"/>
                    </a:moveTo>
                    <a:lnTo>
                      <a:pt x="55" y="55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608440" y="4118040"/>
                <a:ext cx="131760" cy="10800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83" y="27"/>
                    </a:lnTo>
                    <a:lnTo>
                      <a:pt x="55" y="4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5" y="27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608440" y="416088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608440" y="411804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54320" y="4160880"/>
                <a:ext cx="2454120" cy="22320"/>
              </a:xfrm>
              <a:prstGeom prst="rect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261680" y="388008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912560" y="227664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000680" y="244980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327200" y="305604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14" y="41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68" y="55"/>
                    </a:lnTo>
                    <a:lnTo>
                      <a:pt x="82" y="55"/>
                    </a:lnTo>
                    <a:lnTo>
                      <a:pt x="55" y="6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14" y="27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41"/>
                    </a:lnTo>
                    <a:lnTo>
                      <a:pt x="14" y="41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327200" y="31212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327200" y="307836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14" y="27"/>
                    </a:moveTo>
                    <a:lnTo>
                      <a:pt x="14" y="0"/>
                    </a:lnTo>
                    <a:lnTo>
                      <a:pt x="55" y="41"/>
                    </a:lnTo>
                    <a:lnTo>
                      <a:pt x="0" y="5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40080" y="307836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197240" y="297036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27" y="6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68"/>
                    </a:lnTo>
                    <a:lnTo>
                      <a:pt x="27" y="6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132080" y="2710080"/>
                <a:ext cx="87480" cy="260280"/>
              </a:xfrm>
              <a:custGeom>
                <a:avLst/>
                <a:gdLst/>
                <a:ahLst/>
                <a:rect l="l" t="t" r="r" b="b"/>
                <a:pathLst>
                  <a:path w="55" h="164">
                    <a:moveTo>
                      <a:pt x="41" y="164"/>
                    </a:moveTo>
                    <a:lnTo>
                      <a:pt x="55" y="16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41" y="164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782960" y="31435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69" y="54"/>
                    </a:move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2" y="13"/>
                    </a:lnTo>
                    <a:lnTo>
                      <a:pt x="42" y="0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14" y="68"/>
                    </a:lnTo>
                    <a:lnTo>
                      <a:pt x="83" y="68"/>
                    </a:lnTo>
                    <a:lnTo>
                      <a:pt x="83" y="82"/>
                    </a:lnTo>
                    <a:lnTo>
                      <a:pt x="69" y="82"/>
                    </a:lnTo>
                    <a:lnTo>
                      <a:pt x="55" y="54"/>
                    </a:lnTo>
                    <a:lnTo>
                      <a:pt x="69" y="54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849560" y="3186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0"/>
                    </a:moveTo>
                    <a:lnTo>
                      <a:pt x="2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805280" y="3186360"/>
                <a:ext cx="109440" cy="8712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55" y="27"/>
                    </a:moveTo>
                    <a:lnTo>
                      <a:pt x="69" y="55"/>
                    </a:lnTo>
                    <a:lnTo>
                      <a:pt x="0" y="55"/>
                    </a:lnTo>
                    <a:lnTo>
                      <a:pt x="41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045040" y="2622600"/>
                <a:ext cx="64800" cy="390600"/>
              </a:xfrm>
              <a:custGeom>
                <a:avLst/>
                <a:gdLst/>
                <a:ahLst/>
                <a:rect l="l" t="t" r="r" b="b"/>
                <a:pathLst>
                  <a:path w="41" h="246">
                    <a:moveTo>
                      <a:pt x="41" y="0"/>
                    </a:moveTo>
                    <a:lnTo>
                      <a:pt x="13" y="246"/>
                    </a:lnTo>
                    <a:lnTo>
                      <a:pt x="13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27" y="0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979880" y="3013200"/>
                <a:ext cx="85680" cy="15084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54" y="0"/>
                    </a:moveTo>
                    <a:lnTo>
                      <a:pt x="13" y="82"/>
                    </a:lnTo>
                    <a:lnTo>
                      <a:pt x="13" y="95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1" y="0"/>
                    </a:lnTo>
                    <a:lnTo>
                      <a:pt x="54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92400" y="3229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892400" y="314352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13"/>
                    </a:moveTo>
                    <a:lnTo>
                      <a:pt x="55" y="0"/>
                    </a:lnTo>
                    <a:lnTo>
                      <a:pt x="0" y="54"/>
                    </a:lnTo>
                    <a:lnTo>
                      <a:pt x="14" y="68"/>
                    </a:lnTo>
                    <a:lnTo>
                      <a:pt x="68" y="13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478480" y="2557440"/>
                <a:ext cx="21960" cy="8748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478480" y="2775240"/>
                <a:ext cx="1440" cy="15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78480" y="3035520"/>
                <a:ext cx="1440" cy="1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478480" y="3316320"/>
                <a:ext cx="21960" cy="10800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5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478480" y="340380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0"/>
                    </a:moveTo>
                    <a:lnTo>
                      <a:pt x="0" y="13"/>
                    </a:lnTo>
                    <a:lnTo>
                      <a:pt x="55" y="27"/>
                    </a:lnTo>
                    <a:lnTo>
                      <a:pt x="55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717880" y="3489480"/>
                <a:ext cx="15264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22800" y="364176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0"/>
                    </a:moveTo>
                    <a:lnTo>
                      <a:pt x="0" y="13"/>
                    </a:lnTo>
                    <a:lnTo>
                      <a:pt x="54" y="27"/>
                    </a:lnTo>
                    <a:lnTo>
                      <a:pt x="54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478480" y="2557440"/>
                <a:ext cx="630000" cy="282600"/>
              </a:xfrm>
              <a:custGeom>
                <a:avLst/>
                <a:gdLst/>
                <a:ahLst/>
                <a:rect l="l" t="t" r="r" b="b"/>
                <a:pathLst>
                  <a:path w="397" h="178">
                    <a:moveTo>
                      <a:pt x="0" y="0"/>
                    </a:moveTo>
                    <a:lnTo>
                      <a:pt x="0" y="14"/>
                    </a:lnTo>
                    <a:lnTo>
                      <a:pt x="384" y="178"/>
                    </a:lnTo>
                    <a:lnTo>
                      <a:pt x="397" y="164"/>
                    </a:lnTo>
                    <a:lnTo>
                      <a:pt x="397" y="164"/>
                    </a:lnTo>
                    <a:lnTo>
                      <a:pt x="384" y="16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87960" y="2818080"/>
                <a:ext cx="20520" cy="84456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587840" y="284004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41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41" y="54"/>
                    </a:lnTo>
                    <a:lnTo>
                      <a:pt x="41" y="82"/>
                    </a:lnTo>
                    <a:lnTo>
                      <a:pt x="2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41" y="1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09800" y="284004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09800" y="28400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27" y="0"/>
                    </a:moveTo>
                    <a:lnTo>
                      <a:pt x="55" y="0"/>
                    </a:lnTo>
                    <a:lnTo>
                      <a:pt x="27" y="54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52640" y="2644920"/>
                <a:ext cx="22320" cy="173160"/>
              </a:xfrm>
              <a:prstGeom prst="rect">
                <a:avLst/>
              </a:pr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435200" y="3403800"/>
                <a:ext cx="152640" cy="1080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28" y="41"/>
                    </a:moveTo>
                    <a:lnTo>
                      <a:pt x="14" y="13"/>
                    </a:lnTo>
                    <a:lnTo>
                      <a:pt x="0" y="13"/>
                    </a:lnTo>
                    <a:lnTo>
                      <a:pt x="28" y="0"/>
                    </a:lnTo>
                    <a:lnTo>
                      <a:pt x="83" y="0"/>
                    </a:lnTo>
                    <a:lnTo>
                      <a:pt x="96" y="0"/>
                    </a:lnTo>
                    <a:lnTo>
                      <a:pt x="83" y="27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69" y="13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2" y="27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479840" y="3446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7" y="1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457520" y="342432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4" y="28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28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49520" y="3533760"/>
                <a:ext cx="1800" cy="20880"/>
              </a:xfrm>
              <a:prstGeom prst="rect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479840" y="3468960"/>
                <a:ext cx="1440" cy="20520"/>
              </a:xfrm>
              <a:prstGeom prst="rect">
                <a:avLst/>
              </a:pr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9520" y="3468960"/>
                <a:ext cx="130320" cy="8568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0" y="41"/>
                    </a:moveTo>
                    <a:lnTo>
                      <a:pt x="0" y="54"/>
                    </a:lnTo>
                    <a:lnTo>
                      <a:pt x="82" y="13"/>
                    </a:lnTo>
                    <a:lnTo>
                      <a:pt x="82" y="0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2" name=""/>
          <p:cNvSpPr/>
          <p:nvPr/>
        </p:nvSpPr>
        <p:spPr>
          <a:xfrm flipV="1">
            <a:off x="3083040" y="237924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2196720" y="327492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83040" y="3274920"/>
            <a:ext cx="1620720" cy="112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716720" y="412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82960" y="192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814040" y="2935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130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138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295E7F7-FBFA-4313-A80A-6619B63B8E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28560" y="581040"/>
            <a:ext cx="7429680" cy="542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8396280" y="5761080"/>
            <a:ext cx="747360" cy="838080"/>
            <a:chOff x="8396280" y="5761080"/>
            <a:chExt cx="747360" cy="838080"/>
          </a:xfrm>
        </p:grpSpPr>
        <p:sp>
          <p:nvSpPr>
            <p:cNvPr id="1145" name="">
              <a:hlinkClick r:id="rId1"/>
            </p:cNvPr>
            <p:cNvSpPr/>
            <p:nvPr/>
          </p:nvSpPr>
          <p:spPr>
            <a:xfrm>
              <a:off x="8396280" y="6218280"/>
              <a:ext cx="747360" cy="380880"/>
            </a:xfrm>
            <a:custGeom>
              <a:avLst/>
              <a:gdLst>
                <a:gd name="textAreaLeft" fmla="*/ 24480 w 747360"/>
                <a:gd name="textAreaRight" fmla="*/ 722880 w 74736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42364" h="21600">
                  <a:moveTo>
                    <a:pt x="0" y="0"/>
                  </a:moveTo>
                  <a:lnTo>
                    <a:pt x="42364" y="0"/>
                  </a:lnTo>
                  <a:lnTo>
                    <a:pt x="42364" y="21600"/>
                  </a:lnTo>
                  <a:lnTo>
                    <a:pt x="0" y="21600"/>
                  </a:lnTo>
                  <a:close/>
                </a:path>
                <a:path fill="lightenLess" w="42364" h="21600">
                  <a:moveTo>
                    <a:pt x="0" y="0"/>
                  </a:moveTo>
                  <a:lnTo>
                    <a:pt x="42364" y="0"/>
                  </a:lnTo>
                  <a:lnTo>
                    <a:pt x="40964" y="1400"/>
                  </a:lnTo>
                  <a:lnTo>
                    <a:pt x="1400" y="1400"/>
                  </a:lnTo>
                  <a:close/>
                </a:path>
                <a:path fill="darken" w="42364" h="21600">
                  <a:moveTo>
                    <a:pt x="42364" y="0"/>
                  </a:moveTo>
                  <a:lnTo>
                    <a:pt x="42364" y="21600"/>
                  </a:lnTo>
                  <a:lnTo>
                    <a:pt x="40964" y="20200"/>
                  </a:lnTo>
                  <a:lnTo>
                    <a:pt x="40964" y="1400"/>
                  </a:lnTo>
                  <a:close/>
                </a:path>
                <a:path fill="darkenLess" w="42364" h="21600">
                  <a:moveTo>
                    <a:pt x="423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964" y="20200"/>
                  </a:lnTo>
                  <a:close/>
                </a:path>
                <a:path fill="lighten" w="423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2364" h="21600">
                  <a:moveTo>
                    <a:pt x="14175" y="3794"/>
                  </a:moveTo>
                  <a:lnTo>
                    <a:pt x="28188" y="10800"/>
                  </a:lnTo>
                  <a:lnTo>
                    <a:pt x="14175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20840" y="5761080"/>
              <a:ext cx="62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A08379B-FA93-4DD8-B80D-C99C597BBEBD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1134720" y="711360"/>
            <a:ext cx="6852600" cy="593640"/>
            <a:chOff x="1134720" y="711360"/>
            <a:chExt cx="6852600" cy="593640"/>
          </a:xfrm>
        </p:grpSpPr>
        <p:sp>
          <p:nvSpPr>
            <p:cNvPr id="1149" name=""/>
            <p:cNvSpPr/>
            <p:nvPr/>
          </p:nvSpPr>
          <p:spPr>
            <a:xfrm>
              <a:off x="1134720" y="711360"/>
              <a:ext cx="6852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id glOrtho(GLdouble left, GLdouble right, GLdouble botto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double top, GLdouble near, GLdouble far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44440" y="939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1144440" y="4168800"/>
            <a:ext cx="771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j is parallel to the z-axis, &amp; the viewpoin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ces the negative z-ax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144440" y="4905360"/>
            <a:ext cx="722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o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ar and near are used a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gative z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they planes are in front of the viewpoi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5486400" cy="269892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7162920" y="1447920"/>
            <a:ext cx="1143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34320" y="2057400"/>
            <a:ext cx="2209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strok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Arrow: move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Arrow: move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Arrow: move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rrow: move to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up: move up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down: move down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10720" y="21096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OpenGL Orthographic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716120" y="1881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942840" y="250200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35200" y="2532240"/>
            <a:ext cx="593640" cy="11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303640" y="361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60600" y="141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36120" y="2228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604440" y="304920"/>
            <a:ext cx="415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penGL Perspectiv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1120" y="990720"/>
            <a:ext cx="657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id glFrustum(GLdouble left, GLdouble right, GLdouble botto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double top, GLdouble near, GLdouble far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3929040"/>
          </a:xfrm>
          <a:prstGeom prst="rect">
            <a:avLst/>
          </a:prstGeom>
          <a:ln w="0">
            <a:noFill/>
          </a:ln>
        </p:spPr>
      </p:pic>
      <p:grpSp>
        <p:nvGrpSpPr>
          <p:cNvPr id="1166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167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34B6F0-782C-4856-9115-AA667EAE0B0C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1501920" y="249372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615600" y="338940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501920" y="3389400"/>
            <a:ext cx="17809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76720" y="39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401840" y="203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2920" y="304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178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18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60D45C6-F2C3-4E18-BA80-784537E16A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929520" y="460440"/>
            <a:ext cx="401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Orthographic Projection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5626080" y="1392120"/>
            <a:ext cx="2799720" cy="1994040"/>
            <a:chOff x="5626080" y="1392120"/>
            <a:chExt cx="2799720" cy="1994040"/>
          </a:xfrm>
        </p:grpSpPr>
        <p:sp>
          <p:nvSpPr>
            <p:cNvPr id="1193" name=""/>
            <p:cNvSpPr/>
            <p:nvPr/>
          </p:nvSpPr>
          <p:spPr>
            <a:xfrm>
              <a:off x="8043840" y="2057400"/>
              <a:ext cx="1440" cy="2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70600" y="2252520"/>
              <a:ext cx="1440" cy="22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00520" y="2100240"/>
              <a:ext cx="1800" cy="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870600" y="2751120"/>
              <a:ext cx="144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78640" y="2643120"/>
              <a:ext cx="1440" cy="20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65760" y="2643120"/>
              <a:ext cx="1800" cy="20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805520" y="3076560"/>
              <a:ext cx="20520" cy="1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75120" y="2966760"/>
              <a:ext cx="2232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75120" y="3271680"/>
              <a:ext cx="22320" cy="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567480" y="3119400"/>
              <a:ext cx="1440" cy="21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92520" y="2360520"/>
              <a:ext cx="1800" cy="22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97400" y="1949400"/>
              <a:ext cx="22320" cy="1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543800" y="2555640"/>
              <a:ext cx="21960" cy="1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30920" y="2663640"/>
              <a:ext cx="1440" cy="22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7960" y="1884240"/>
              <a:ext cx="22320" cy="1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717960" y="2057400"/>
              <a:ext cx="22320" cy="14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626080" y="1392120"/>
              <a:ext cx="2799720" cy="1994040"/>
              <a:chOff x="5626080" y="1392120"/>
              <a:chExt cx="2799720" cy="1994040"/>
            </a:xfrm>
          </p:grpSpPr>
          <p:sp>
            <p:nvSpPr>
              <p:cNvPr id="1210" name=""/>
              <p:cNvSpPr/>
              <p:nvPr/>
            </p:nvSpPr>
            <p:spPr>
              <a:xfrm>
                <a:off x="6647040" y="2779560"/>
                <a:ext cx="1440" cy="22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47040" y="2779560"/>
                <a:ext cx="1152360" cy="22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299280" y="1977840"/>
                <a:ext cx="369720" cy="844560"/>
              </a:xfrm>
              <a:custGeom>
                <a:avLst/>
                <a:gdLst/>
                <a:ahLst/>
                <a:rect l="l" t="t" r="r" b="b"/>
                <a:pathLst>
                  <a:path w="233" h="532">
                    <a:moveTo>
                      <a:pt x="0" y="0"/>
                    </a:moveTo>
                    <a:lnTo>
                      <a:pt x="219" y="96"/>
                    </a:lnTo>
                    <a:lnTo>
                      <a:pt x="233" y="96"/>
                    </a:lnTo>
                    <a:lnTo>
                      <a:pt x="233" y="96"/>
                    </a:lnTo>
                    <a:lnTo>
                      <a:pt x="233" y="505"/>
                    </a:lnTo>
                    <a:lnTo>
                      <a:pt x="233" y="532"/>
                    </a:lnTo>
                    <a:lnTo>
                      <a:pt x="219" y="519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69"/>
                    </a:lnTo>
                    <a:lnTo>
                      <a:pt x="14" y="369"/>
                    </a:lnTo>
                    <a:lnTo>
                      <a:pt x="233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96"/>
                    </a:lnTo>
                    <a:lnTo>
                      <a:pt x="233" y="96"/>
                    </a:lnTo>
                    <a:lnTo>
                      <a:pt x="219" y="109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99280" y="1977840"/>
                <a:ext cx="22320" cy="586080"/>
              </a:xfrm>
              <a:custGeom>
                <a:avLst/>
                <a:gdLst/>
                <a:ahLst/>
                <a:rect l="l" t="t" r="r" b="b"/>
                <a:pathLst>
                  <a:path w="14" h="369">
                    <a:moveTo>
                      <a:pt x="0" y="3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69"/>
                    </a:lnTo>
                    <a:lnTo>
                      <a:pt x="0" y="369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451640" y="1955880"/>
                <a:ext cx="20880" cy="871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55"/>
                    </a:move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451640" y="195588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0"/>
                    </a:moveTo>
                    <a:lnTo>
                      <a:pt x="0" y="14"/>
                    </a:lnTo>
                    <a:lnTo>
                      <a:pt x="54" y="41"/>
                    </a:lnTo>
                    <a:lnTo>
                      <a:pt x="54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712280" y="208584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0" y="0"/>
                    </a:moveTo>
                    <a:lnTo>
                      <a:pt x="0" y="14"/>
                    </a:lnTo>
                    <a:lnTo>
                      <a:pt x="55" y="41"/>
                    </a:lnTo>
                    <a:lnTo>
                      <a:pt x="68" y="28"/>
                    </a:lnTo>
                    <a:lnTo>
                      <a:pt x="68" y="41"/>
                    </a:lnTo>
                    <a:lnTo>
                      <a:pt x="55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799400" y="2130480"/>
                <a:ext cx="20520" cy="856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99400" y="2368440"/>
                <a:ext cx="1440" cy="19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799400" y="2693880"/>
                <a:ext cx="20520" cy="12852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13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0" y="68"/>
                    </a:lnTo>
                    <a:lnTo>
                      <a:pt x="13" y="81"/>
                    </a:lnTo>
                    <a:lnTo>
                      <a:pt x="13" y="54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712280" y="273672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51640" y="258444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41" y="41"/>
                    </a:moveTo>
                    <a:lnTo>
                      <a:pt x="54" y="2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1" y="41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51640" y="2498760"/>
                <a:ext cx="20880" cy="856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7451640" y="2173320"/>
                <a:ext cx="1800" cy="19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299280" y="1955880"/>
                <a:ext cx="1440" cy="21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99280" y="1955880"/>
                <a:ext cx="1152360" cy="2196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47040" y="2151000"/>
                <a:ext cx="1440" cy="22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647040" y="2151000"/>
                <a:ext cx="1152360" cy="2232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882560" y="262872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15360" y="141444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774840" y="139212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626080" y="1955880"/>
                <a:ext cx="347760" cy="801720"/>
              </a:xfrm>
              <a:custGeom>
                <a:avLst/>
                <a:gdLst/>
                <a:ahLst/>
                <a:rect l="l" t="t" r="r" b="b"/>
                <a:pathLst>
                  <a:path w="219" h="505">
                    <a:moveTo>
                      <a:pt x="0" y="0"/>
                    </a:moveTo>
                    <a:lnTo>
                      <a:pt x="219" y="110"/>
                    </a:lnTo>
                    <a:lnTo>
                      <a:pt x="219" y="505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626080" y="1955880"/>
                <a:ext cx="370080" cy="846000"/>
              </a:xfrm>
              <a:custGeom>
                <a:avLst/>
                <a:gdLst/>
                <a:ahLst/>
                <a:rect l="l" t="t" r="r" b="b"/>
                <a:pathLst>
                  <a:path w="233" h="533">
                    <a:moveTo>
                      <a:pt x="0" y="0"/>
                    </a:moveTo>
                    <a:lnTo>
                      <a:pt x="219" y="110"/>
                    </a:lnTo>
                    <a:lnTo>
                      <a:pt x="233" y="123"/>
                    </a:lnTo>
                    <a:lnTo>
                      <a:pt x="233" y="110"/>
                    </a:lnTo>
                    <a:lnTo>
                      <a:pt x="233" y="505"/>
                    </a:lnTo>
                    <a:lnTo>
                      <a:pt x="233" y="533"/>
                    </a:lnTo>
                    <a:lnTo>
                      <a:pt x="219" y="519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219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110"/>
                    </a:lnTo>
                    <a:lnTo>
                      <a:pt x="233" y="110"/>
                    </a:lnTo>
                    <a:lnTo>
                      <a:pt x="219" y="1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626080" y="1955880"/>
                <a:ext cx="22320" cy="608040"/>
              </a:xfrm>
              <a:custGeom>
                <a:avLst/>
                <a:gdLst/>
                <a:ahLst/>
                <a:rect l="l" t="t" r="r" b="b"/>
                <a:pathLst>
                  <a:path w="14" h="383">
                    <a:moveTo>
                      <a:pt x="0" y="38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83"/>
                    </a:lnTo>
                    <a:lnTo>
                      <a:pt x="0" y="383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973840" y="2779560"/>
                <a:ext cx="87120" cy="223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213600" y="277956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494400" y="27795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99320" y="27795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104240" y="2779560"/>
                <a:ext cx="172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07360" y="277956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712280" y="2779560"/>
                <a:ext cx="87120" cy="2232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34080" y="2563920"/>
                <a:ext cx="1440" cy="2052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648400" y="2563920"/>
                <a:ext cx="85680" cy="205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65840" y="256392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168960" y="256392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473880" y="256392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777000" y="258444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081920" y="258444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86840" y="2584440"/>
                <a:ext cx="64800" cy="2232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73840" y="2130480"/>
                <a:ext cx="87120" cy="205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191280" y="21304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494400" y="213048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9320" y="21510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104240" y="215100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407360" y="21510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712280" y="2151000"/>
                <a:ext cx="6480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626080" y="1955880"/>
                <a:ext cx="87480" cy="2196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65840" y="195588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148440" y="19558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51560" y="195588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756480" y="19558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059600" y="197784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64520" y="1977840"/>
                <a:ext cx="87120" cy="223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799400" y="2151000"/>
                <a:ext cx="20520" cy="628560"/>
              </a:xfrm>
              <a:custGeom>
                <a:avLst/>
                <a:gdLst/>
                <a:ahLst/>
                <a:rect l="l" t="t" r="r" b="b"/>
                <a:pathLst>
                  <a:path w="13" h="396">
                    <a:moveTo>
                      <a:pt x="0" y="396"/>
                    </a:moveTo>
                    <a:lnTo>
                      <a:pt x="13" y="396"/>
                    </a:lnTo>
                    <a:lnTo>
                      <a:pt x="13" y="0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96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51640" y="1955880"/>
                <a:ext cx="347760" cy="217440"/>
              </a:xfrm>
              <a:custGeom>
                <a:avLst/>
                <a:gdLst/>
                <a:ahLst/>
                <a:rect l="l" t="t" r="r" b="b"/>
                <a:pathLst>
                  <a:path w="219" h="137">
                    <a:moveTo>
                      <a:pt x="219" y="137"/>
                    </a:moveTo>
                    <a:lnTo>
                      <a:pt x="219" y="12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9" y="13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973840" y="2867040"/>
                <a:ext cx="22320" cy="5191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777080" y="2867040"/>
                <a:ext cx="22320" cy="5191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647040" y="2867040"/>
                <a:ext cx="21960" cy="3031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51520" y="295272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9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8" y="28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82" y="69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60960" y="297504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96160" y="297504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27"/>
                    </a:moveTo>
                    <a:lnTo>
                      <a:pt x="54" y="68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516720" y="297504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14" y="82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16720" y="301788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16720" y="297504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081840" y="3017880"/>
                <a:ext cx="1440" cy="2196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16720" y="3017880"/>
                <a:ext cx="1440" cy="219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081840" y="3017880"/>
                <a:ext cx="434880" cy="2196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168600" y="273672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51520" y="319248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28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8" y="40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9" y="68"/>
                    </a:lnTo>
                    <a:lnTo>
                      <a:pt x="69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060960" y="3213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96160" y="3213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7"/>
                    </a:moveTo>
                    <a:lnTo>
                      <a:pt x="54" y="55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89960" y="3192480"/>
                <a:ext cx="129960" cy="150840"/>
              </a:xfrm>
              <a:custGeom>
                <a:avLst/>
                <a:gdLst/>
                <a:ahLst/>
                <a:rect l="l" t="t" r="r" b="b"/>
                <a:pathLst>
                  <a:path w="82" h="95">
                    <a:moveTo>
                      <a:pt x="0" y="40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55" y="40"/>
                    </a:lnTo>
                    <a:lnTo>
                      <a:pt x="82" y="40"/>
                    </a:lnTo>
                    <a:lnTo>
                      <a:pt x="55" y="54"/>
                    </a:lnTo>
                    <a:lnTo>
                      <a:pt x="14" y="81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1" y="40"/>
                    </a:lnTo>
                    <a:lnTo>
                      <a:pt x="55" y="54"/>
                    </a:lnTo>
                    <a:lnTo>
                      <a:pt x="41" y="54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4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89960" y="325584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89960" y="321300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27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081840" y="3255840"/>
                <a:ext cx="1440" cy="2232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081840" y="3255840"/>
                <a:ext cx="1585800" cy="2232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820920" y="299700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168960" y="2173320"/>
                <a:ext cx="152640" cy="172800"/>
              </a:xfrm>
              <a:custGeom>
                <a:avLst/>
                <a:gdLst/>
                <a:ahLst/>
                <a:rect l="l" t="t" r="r" b="b"/>
                <a:pathLst>
                  <a:path w="96" h="109">
                    <a:moveTo>
                      <a:pt x="28" y="41"/>
                    </a:moveTo>
                    <a:lnTo>
                      <a:pt x="55" y="13"/>
                    </a:lnTo>
                    <a:lnTo>
                      <a:pt x="55" y="0"/>
                    </a:lnTo>
                    <a:lnTo>
                      <a:pt x="69" y="27"/>
                    </a:lnTo>
                    <a:lnTo>
                      <a:pt x="82" y="95"/>
                    </a:lnTo>
                    <a:lnTo>
                      <a:pt x="96" y="109"/>
                    </a:lnTo>
                    <a:lnTo>
                      <a:pt x="55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69" y="82"/>
                    </a:lnTo>
                    <a:lnTo>
                      <a:pt x="55" y="95"/>
                    </a:lnTo>
                    <a:lnTo>
                      <a:pt x="55" y="95"/>
                    </a:lnTo>
                    <a:lnTo>
                      <a:pt x="4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41" y="54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191280" y="223848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14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191280" y="2193840"/>
                <a:ext cx="87480" cy="10944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14" y="28"/>
                    </a:moveTo>
                    <a:lnTo>
                      <a:pt x="41" y="0"/>
                    </a:lnTo>
                    <a:lnTo>
                      <a:pt x="55" y="69"/>
                    </a:lnTo>
                    <a:lnTo>
                      <a:pt x="0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148440" y="2043000"/>
                <a:ext cx="85680" cy="19548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41" y="123"/>
                    </a:moveTo>
                    <a:lnTo>
                      <a:pt x="54" y="12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23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148440" y="1760400"/>
                <a:ext cx="20520" cy="28260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647040" y="23241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55" y="28"/>
                    </a:moveTo>
                    <a:lnTo>
                      <a:pt x="69" y="55"/>
                    </a:lnTo>
                    <a:lnTo>
                      <a:pt x="69" y="55"/>
                    </a:lnTo>
                    <a:lnTo>
                      <a:pt x="69" y="55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55"/>
                    </a:lnTo>
                    <a:lnTo>
                      <a:pt x="55" y="41"/>
                    </a:lnTo>
                    <a:lnTo>
                      <a:pt x="69" y="55"/>
                    </a:lnTo>
                    <a:lnTo>
                      <a:pt x="55" y="69"/>
                    </a:lnTo>
                    <a:lnTo>
                      <a:pt x="41" y="41"/>
                    </a:lnTo>
                    <a:lnTo>
                      <a:pt x="55" y="28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69000" y="234612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4" y="0"/>
                    </a:move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669000" y="23461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1" y="14"/>
                    </a:moveTo>
                    <a:lnTo>
                      <a:pt x="55" y="41"/>
                    </a:lnTo>
                    <a:lnTo>
                      <a:pt x="0" y="55"/>
                    </a:lnTo>
                    <a:lnTo>
                      <a:pt x="14" y="0"/>
                    </a:lnTo>
                    <a:lnTo>
                      <a:pt x="41" y="14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821640" y="1805040"/>
                <a:ext cx="42840" cy="345960"/>
              </a:xfrm>
              <a:custGeom>
                <a:avLst/>
                <a:gdLst/>
                <a:ahLst/>
                <a:rect l="l" t="t" r="r" b="b"/>
                <a:pathLst>
                  <a:path w="27" h="218">
                    <a:moveTo>
                      <a:pt x="27" y="0"/>
                    </a:moveTo>
                    <a:lnTo>
                      <a:pt x="13" y="0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13" y="218"/>
                    </a:lnTo>
                    <a:lnTo>
                      <a:pt x="13" y="218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734160" y="2151000"/>
                <a:ext cx="108000" cy="217440"/>
              </a:xfrm>
              <a:custGeom>
                <a:avLst/>
                <a:gdLst/>
                <a:ahLst/>
                <a:rect l="l" t="t" r="r" b="b"/>
                <a:pathLst>
                  <a:path w="68" h="137">
                    <a:moveTo>
                      <a:pt x="68" y="0"/>
                    </a:moveTo>
                    <a:lnTo>
                      <a:pt x="55" y="0"/>
                    </a:lnTo>
                    <a:lnTo>
                      <a:pt x="0" y="137"/>
                    </a:lnTo>
                    <a:lnTo>
                      <a:pt x="14" y="137"/>
                    </a:lnTo>
                    <a:lnTo>
                      <a:pt x="68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015240" y="143676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516800" y="2563920"/>
                <a:ext cx="150840" cy="12996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5" y="41"/>
                    </a:moveTo>
                    <a:lnTo>
                      <a:pt x="82" y="68"/>
                    </a:lnTo>
                    <a:lnTo>
                      <a:pt x="82" y="82"/>
                    </a:lnTo>
                    <a:lnTo>
                      <a:pt x="68" y="68"/>
                    </a:lnTo>
                    <a:lnTo>
                      <a:pt x="27" y="27"/>
                    </a:lnTo>
                    <a:lnTo>
                      <a:pt x="0" y="27"/>
                    </a:lnTo>
                    <a:lnTo>
                      <a:pt x="41" y="13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82" y="54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82" y="41"/>
                    </a:lnTo>
                    <a:lnTo>
                      <a:pt x="95" y="41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47120" y="2584440"/>
                <a:ext cx="20520" cy="442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0"/>
                    </a:move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581960" y="258444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8"/>
                    </a:moveTo>
                    <a:lnTo>
                      <a:pt x="41" y="55"/>
                    </a:lnTo>
                    <a:lnTo>
                      <a:pt x="0" y="14"/>
                    </a:lnTo>
                    <a:lnTo>
                      <a:pt x="54" y="0"/>
                    </a:lnTo>
                    <a:lnTo>
                      <a:pt x="54" y="28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67640" y="2628720"/>
                <a:ext cx="500040" cy="65160"/>
              </a:xfrm>
              <a:custGeom>
                <a:avLst/>
                <a:gdLst/>
                <a:ahLst/>
                <a:rect l="l" t="t" r="r" b="b"/>
                <a:pathLst>
                  <a:path w="315" h="41">
                    <a:moveTo>
                      <a:pt x="315" y="41"/>
                    </a:moveTo>
                    <a:lnTo>
                      <a:pt x="31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15" y="41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559640" y="195588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41" y="0"/>
                    </a:move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1" y="55"/>
                    </a:lnTo>
                    <a:lnTo>
                      <a:pt x="41" y="82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55" y="0"/>
                    </a:lnTo>
                    <a:lnTo>
                      <a:pt x="68" y="0"/>
                    </a:lnTo>
                    <a:lnTo>
                      <a:pt x="68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581960" y="195588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81960" y="195588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0"/>
                    </a:moveTo>
                    <a:lnTo>
                      <a:pt x="54" y="0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24800" y="1739880"/>
                <a:ext cx="22320" cy="21600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6" name=""/>
          <p:cNvSpPr/>
          <p:nvPr/>
        </p:nvSpPr>
        <p:spPr>
          <a:xfrm flipH="1">
            <a:off x="4487760" y="211284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742000" y="155736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732640" y="2103480"/>
            <a:ext cx="220644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971120" y="33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632560" y="100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161960" y="1812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4957920" y="4656240"/>
            <a:ext cx="27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5805360" y="4160520"/>
            <a:ext cx="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630400" y="3535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603320" y="438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648480" y="44308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763680" y="42433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429240" y="4260960"/>
            <a:ext cx="1659240" cy="99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6428880" y="446868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81720" y="44308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97440" y="503388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008040" y="4659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0920" y="3859200"/>
            <a:ext cx="65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t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546560" y="4237200"/>
            <a:ext cx="17308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th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 y, -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998640" y="1536840"/>
            <a:ext cx="30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parallel to z axis and perpendicular to projection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328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33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873D67F-FD0F-475C-8B5E-E7EC0391A0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94880" y="641520"/>
            <a:ext cx="356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Perspective Projection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845480" y="2801880"/>
            <a:ext cx="1440" cy="2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497720" y="1978200"/>
            <a:ext cx="1800" cy="2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45480" y="2173320"/>
            <a:ext cx="144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19920" y="2801880"/>
            <a:ext cx="1440" cy="22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07040" y="2801880"/>
            <a:ext cx="180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758000" y="2801880"/>
            <a:ext cx="1800" cy="22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845480" y="2801880"/>
            <a:ext cx="144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694480" y="2585880"/>
            <a:ext cx="1440" cy="2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32560" y="2606760"/>
            <a:ext cx="1800" cy="22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497720" y="2606760"/>
            <a:ext cx="1800" cy="22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019920" y="2152800"/>
            <a:ext cx="1440" cy="20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107040" y="2152800"/>
            <a:ext cx="1800" cy="20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758000" y="2173320"/>
            <a:ext cx="1800" cy="223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823160" y="2173320"/>
            <a:ext cx="1800" cy="223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672160" y="1978200"/>
            <a:ext cx="1440" cy="219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759280" y="1978200"/>
            <a:ext cx="1800" cy="219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410600" y="2000160"/>
            <a:ext cx="1440" cy="223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497720" y="2000160"/>
            <a:ext cx="1800" cy="223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845480" y="2801880"/>
            <a:ext cx="20520" cy="18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497720" y="1978200"/>
            <a:ext cx="1800" cy="219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19920" y="2889360"/>
            <a:ext cx="2196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823160" y="2889360"/>
            <a:ext cx="2232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692760" y="2889360"/>
            <a:ext cx="22320" cy="1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259680" y="2260440"/>
            <a:ext cx="2052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194520" y="1782720"/>
            <a:ext cx="2052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88240" y="1827360"/>
            <a:ext cx="2232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0240" y="2390760"/>
            <a:ext cx="22320" cy="14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213760" y="2693880"/>
            <a:ext cx="1440" cy="223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713720" y="2651040"/>
            <a:ext cx="1440" cy="2088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670880" y="1762200"/>
            <a:ext cx="22320" cy="14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70880" y="1978200"/>
            <a:ext cx="22320" cy="14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5603040" y="1190520"/>
            <a:ext cx="3216960" cy="2144520"/>
            <a:chOff x="5603040" y="1190520"/>
            <a:chExt cx="3216960" cy="2144520"/>
          </a:xfrm>
        </p:grpSpPr>
        <p:sp>
          <p:nvSpPr>
            <p:cNvPr id="1374" name=""/>
            <p:cNvSpPr/>
            <p:nvPr/>
          </p:nvSpPr>
          <p:spPr>
            <a:xfrm>
              <a:off x="5823000" y="2187360"/>
              <a:ext cx="6480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0"/>
                  </a:moveTo>
                  <a:lnTo>
                    <a:pt x="0" y="13"/>
                  </a:lnTo>
                  <a:lnTo>
                    <a:pt x="41" y="27"/>
                  </a:lnTo>
                  <a:lnTo>
                    <a:pt x="41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40440" y="2230200"/>
              <a:ext cx="1508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21240" y="2273040"/>
              <a:ext cx="17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6160" y="229536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931080" y="2338200"/>
              <a:ext cx="1508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13680" y="2382840"/>
              <a:ext cx="172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516800" y="2425680"/>
              <a:ext cx="15228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21360" y="2468520"/>
              <a:ext cx="15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103960" y="2490480"/>
              <a:ext cx="17316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407440" y="2533680"/>
              <a:ext cx="15228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712000" y="2576520"/>
              <a:ext cx="65160" cy="219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169040" y="1796760"/>
              <a:ext cx="325440" cy="606600"/>
            </a:xfrm>
            <a:custGeom>
              <a:avLst/>
              <a:gdLst/>
              <a:ahLst/>
              <a:rect l="l" t="t" r="r" b="b"/>
              <a:pathLst>
                <a:path w="205" h="382">
                  <a:moveTo>
                    <a:pt x="0" y="0"/>
                  </a:moveTo>
                  <a:lnTo>
                    <a:pt x="205" y="82"/>
                  </a:lnTo>
                  <a:lnTo>
                    <a:pt x="205" y="382"/>
                  </a:lnTo>
                  <a:lnTo>
                    <a:pt x="0" y="28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169040" y="1796760"/>
              <a:ext cx="347760" cy="628920"/>
            </a:xfrm>
            <a:custGeom>
              <a:avLst/>
              <a:gdLst/>
              <a:ahLst/>
              <a:rect l="l" t="t" r="r" b="b"/>
              <a:pathLst>
                <a:path w="219" h="396">
                  <a:moveTo>
                    <a:pt x="0" y="0"/>
                  </a:moveTo>
                  <a:lnTo>
                    <a:pt x="205" y="82"/>
                  </a:lnTo>
                  <a:lnTo>
                    <a:pt x="219" y="82"/>
                  </a:lnTo>
                  <a:lnTo>
                    <a:pt x="219" y="82"/>
                  </a:lnTo>
                  <a:lnTo>
                    <a:pt x="219" y="382"/>
                  </a:lnTo>
                  <a:lnTo>
                    <a:pt x="219" y="396"/>
                  </a:lnTo>
                  <a:lnTo>
                    <a:pt x="205" y="396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205" y="382"/>
                  </a:lnTo>
                  <a:lnTo>
                    <a:pt x="205" y="396"/>
                  </a:lnTo>
                  <a:lnTo>
                    <a:pt x="205" y="382"/>
                  </a:lnTo>
                  <a:lnTo>
                    <a:pt x="205" y="82"/>
                  </a:lnTo>
                  <a:lnTo>
                    <a:pt x="219" y="82"/>
                  </a:lnTo>
                  <a:lnTo>
                    <a:pt x="205" y="96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169040" y="1796760"/>
              <a:ext cx="22320" cy="455760"/>
            </a:xfrm>
            <a:custGeom>
              <a:avLst/>
              <a:gdLst/>
              <a:ahLst/>
              <a:rect l="l" t="t" r="r" b="b"/>
              <a:pathLst>
                <a:path w="14" h="287">
                  <a:moveTo>
                    <a:pt x="0" y="28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87"/>
                  </a:lnTo>
                  <a:lnTo>
                    <a:pt x="0" y="287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00680" y="2165040"/>
              <a:ext cx="87120" cy="432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4"/>
                  </a:moveTo>
                  <a:lnTo>
                    <a:pt x="0" y="27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6018120" y="2122200"/>
              <a:ext cx="17316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6321240" y="2077920"/>
              <a:ext cx="1526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6626160" y="203508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6908760" y="1991880"/>
              <a:ext cx="173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7213680" y="1949040"/>
              <a:ext cx="1504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7516800" y="190476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7799400" y="186192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8103960" y="1796400"/>
              <a:ext cx="1508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386560" y="1753920"/>
              <a:ext cx="17316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690040" y="1731960"/>
              <a:ext cx="87120" cy="219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78360" y="2165040"/>
              <a:ext cx="87480" cy="432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4"/>
                  </a:moveTo>
                  <a:lnTo>
                    <a:pt x="0" y="27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5995800" y="2077560"/>
              <a:ext cx="1746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6300720" y="1991880"/>
              <a:ext cx="1731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6603840" y="1904760"/>
              <a:ext cx="1746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6908760" y="1818720"/>
              <a:ext cx="1731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7213680" y="1709280"/>
              <a:ext cx="172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7516800" y="1623600"/>
              <a:ext cx="1746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7821360" y="1536120"/>
              <a:ext cx="1731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124840" y="147132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4"/>
                  </a:moveTo>
                  <a:lnTo>
                    <a:pt x="0" y="27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16800" y="1731960"/>
              <a:ext cx="1282680" cy="217440"/>
            </a:xfrm>
            <a:custGeom>
              <a:avLst/>
              <a:gdLst/>
              <a:ahLst/>
              <a:rect l="l" t="t" r="r" b="b"/>
              <a:pathLst>
                <a:path w="808" h="137">
                  <a:moveTo>
                    <a:pt x="0" y="123"/>
                  </a:moveTo>
                  <a:lnTo>
                    <a:pt x="0" y="137"/>
                  </a:lnTo>
                  <a:lnTo>
                    <a:pt x="808" y="14"/>
                  </a:lnTo>
                  <a:lnTo>
                    <a:pt x="808" y="0"/>
                  </a:lnTo>
                  <a:lnTo>
                    <a:pt x="0" y="123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146720" y="1471320"/>
              <a:ext cx="1043280" cy="325440"/>
            </a:xfrm>
            <a:custGeom>
              <a:avLst/>
              <a:gdLst/>
              <a:ahLst/>
              <a:rect l="l" t="t" r="r" b="b"/>
              <a:pathLst>
                <a:path w="657" h="205">
                  <a:moveTo>
                    <a:pt x="0" y="191"/>
                  </a:moveTo>
                  <a:lnTo>
                    <a:pt x="0" y="205"/>
                  </a:lnTo>
                  <a:lnTo>
                    <a:pt x="657" y="14"/>
                  </a:lnTo>
                  <a:lnTo>
                    <a:pt x="657" y="0"/>
                  </a:lnTo>
                  <a:lnTo>
                    <a:pt x="0" y="191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16800" y="2425680"/>
              <a:ext cx="1282680" cy="172800"/>
            </a:xfrm>
            <a:custGeom>
              <a:avLst/>
              <a:gdLst/>
              <a:ahLst/>
              <a:rect l="l" t="t" r="r" b="b"/>
              <a:pathLst>
                <a:path w="808" h="109">
                  <a:moveTo>
                    <a:pt x="0" y="0"/>
                  </a:moveTo>
                  <a:lnTo>
                    <a:pt x="0" y="14"/>
                  </a:lnTo>
                  <a:lnTo>
                    <a:pt x="808" y="109"/>
                  </a:lnTo>
                  <a:lnTo>
                    <a:pt x="808" y="9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78360" y="2165040"/>
              <a:ext cx="65160" cy="2232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995800" y="2187360"/>
              <a:ext cx="15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00720" y="220824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03840" y="2208240"/>
              <a:ext cx="1526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908760" y="223020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213680" y="2252520"/>
              <a:ext cx="1504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16800" y="2273040"/>
              <a:ext cx="17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21360" y="2295360"/>
              <a:ext cx="1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124840" y="2317680"/>
              <a:ext cx="87120" cy="2052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57840" y="2143080"/>
              <a:ext cx="65160" cy="8712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41" y="28"/>
                  </a:moveTo>
                  <a:lnTo>
                    <a:pt x="41" y="14"/>
                  </a:lnTo>
                  <a:lnTo>
                    <a:pt x="13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41" y="55"/>
                  </a:lnTo>
                  <a:lnTo>
                    <a:pt x="41" y="28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757840" y="2143080"/>
              <a:ext cx="85680" cy="4428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41" y="28"/>
                  </a:moveTo>
                  <a:lnTo>
                    <a:pt x="41" y="14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28"/>
                  </a:lnTo>
                  <a:lnTo>
                    <a:pt x="1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54" y="14"/>
                  </a:lnTo>
                  <a:lnTo>
                    <a:pt x="54" y="28"/>
                  </a:lnTo>
                  <a:lnTo>
                    <a:pt x="41" y="28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757840" y="21650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3" y="14"/>
                  </a:lnTo>
                  <a:lnTo>
                    <a:pt x="1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757840" y="2187360"/>
              <a:ext cx="20520" cy="2088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89920" y="12556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971400" y="236052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otto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04840" y="160164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03040" y="1796760"/>
              <a:ext cx="395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57840" y="2771640"/>
              <a:ext cx="20520" cy="4986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451720" y="2751120"/>
              <a:ext cx="20520" cy="58392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21320" y="2641320"/>
              <a:ext cx="22320" cy="30492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735520" y="2728800"/>
              <a:ext cx="130320" cy="152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82" y="41"/>
                  </a:moveTo>
                  <a:lnTo>
                    <a:pt x="82" y="82"/>
                  </a:lnTo>
                  <a:lnTo>
                    <a:pt x="82" y="96"/>
                  </a:lnTo>
                  <a:lnTo>
                    <a:pt x="68" y="82"/>
                  </a:lnTo>
                  <a:lnTo>
                    <a:pt x="14" y="41"/>
                  </a:lnTo>
                  <a:lnTo>
                    <a:pt x="0" y="41"/>
                  </a:lnTo>
                  <a:lnTo>
                    <a:pt x="27" y="27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27" y="41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82" y="68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41"/>
                  </a:lnTo>
                  <a:lnTo>
                    <a:pt x="82" y="41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43520" y="275112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778360" y="2751120"/>
              <a:ext cx="87480" cy="1076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5" y="27"/>
                  </a:moveTo>
                  <a:lnTo>
                    <a:pt x="55" y="68"/>
                  </a:lnTo>
                  <a:lnTo>
                    <a:pt x="0" y="27"/>
                  </a:lnTo>
                  <a:lnTo>
                    <a:pt x="55" y="0"/>
                  </a:lnTo>
                  <a:lnTo>
                    <a:pt x="55" y="27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213680" y="2751120"/>
              <a:ext cx="107640" cy="15084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27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13" y="82"/>
                  </a:lnTo>
                  <a:lnTo>
                    <a:pt x="0" y="9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54" y="27"/>
                  </a:lnTo>
                  <a:lnTo>
                    <a:pt x="68" y="41"/>
                  </a:lnTo>
                  <a:lnTo>
                    <a:pt x="54" y="4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13680" y="2793960"/>
              <a:ext cx="20520" cy="6480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4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41"/>
                  </a:lnTo>
                  <a:lnTo>
                    <a:pt x="0" y="41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213680" y="2751120"/>
              <a:ext cx="85680" cy="10764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0" y="27"/>
                  </a:moveTo>
                  <a:lnTo>
                    <a:pt x="0" y="0"/>
                  </a:lnTo>
                  <a:lnTo>
                    <a:pt x="54" y="27"/>
                  </a:lnTo>
                  <a:lnTo>
                    <a:pt x="0" y="68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65840" y="2793960"/>
              <a:ext cx="1347840" cy="219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86760" y="2512800"/>
              <a:ext cx="61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ear=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35520" y="3011400"/>
              <a:ext cx="130320" cy="108000"/>
            </a:xfrm>
            <a:custGeom>
              <a:avLst/>
              <a:gdLst/>
              <a:ahLst/>
              <a:rect l="l" t="t" r="r" b="b"/>
              <a:pathLst>
                <a:path w="82" h="68">
                  <a:moveTo>
                    <a:pt x="82" y="40"/>
                  </a:moveTo>
                  <a:lnTo>
                    <a:pt x="82" y="6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27" y="27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27" y="40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82" y="54"/>
                  </a:lnTo>
                  <a:lnTo>
                    <a:pt x="82" y="68"/>
                  </a:lnTo>
                  <a:lnTo>
                    <a:pt x="68" y="68"/>
                  </a:lnTo>
                  <a:lnTo>
                    <a:pt x="68" y="40"/>
                  </a:lnTo>
                  <a:lnTo>
                    <a:pt x="82" y="40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43520" y="303192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78360" y="3031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5" y="55"/>
                  </a:lnTo>
                  <a:lnTo>
                    <a:pt x="0" y="27"/>
                  </a:lnTo>
                  <a:lnTo>
                    <a:pt x="55" y="0"/>
                  </a:lnTo>
                  <a:lnTo>
                    <a:pt x="55" y="27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319960" y="3031920"/>
              <a:ext cx="131760" cy="108000"/>
            </a:xfrm>
            <a:custGeom>
              <a:avLst/>
              <a:gdLst/>
              <a:ahLst/>
              <a:rect l="l" t="t" r="r" b="b"/>
              <a:pathLst>
                <a:path w="83" h="68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5" y="27"/>
                  </a:lnTo>
                  <a:lnTo>
                    <a:pt x="83" y="27"/>
                  </a:lnTo>
                  <a:lnTo>
                    <a:pt x="55" y="41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5" y="27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7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319960" y="30747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8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319960" y="3031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27"/>
                  </a:moveTo>
                  <a:lnTo>
                    <a:pt x="0" y="0"/>
                  </a:lnTo>
                  <a:lnTo>
                    <a:pt x="55" y="27"/>
                  </a:lnTo>
                  <a:lnTo>
                    <a:pt x="0" y="55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65840" y="3074760"/>
              <a:ext cx="2454120" cy="2232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973200" y="2793960"/>
              <a:ext cx="2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624080" y="1190520"/>
              <a:ext cx="36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12200" y="136368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8720" y="19699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4" y="41"/>
                  </a:moveTo>
                  <a:lnTo>
                    <a:pt x="14" y="14"/>
                  </a:lnTo>
                  <a:lnTo>
                    <a:pt x="0" y="0"/>
                  </a:lnTo>
                  <a:lnTo>
                    <a:pt x="27" y="14"/>
                  </a:lnTo>
                  <a:lnTo>
                    <a:pt x="68" y="55"/>
                  </a:lnTo>
                  <a:lnTo>
                    <a:pt x="82" y="55"/>
                  </a:lnTo>
                  <a:lnTo>
                    <a:pt x="55" y="6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55" y="55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14" y="27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41"/>
                  </a:lnTo>
                  <a:lnTo>
                    <a:pt x="14" y="41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38720" y="203508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27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38720" y="199224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14" y="27"/>
                  </a:moveTo>
                  <a:lnTo>
                    <a:pt x="14" y="0"/>
                  </a:lnTo>
                  <a:lnTo>
                    <a:pt x="55" y="41"/>
                  </a:lnTo>
                  <a:lnTo>
                    <a:pt x="0" y="54"/>
                  </a:lnTo>
                  <a:lnTo>
                    <a:pt x="14" y="27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51600" y="1992240"/>
              <a:ext cx="87120" cy="65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41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55" y="27"/>
                  </a:lnTo>
                  <a:lnTo>
                    <a:pt x="55" y="41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908760" y="1884240"/>
              <a:ext cx="65160" cy="10800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27" y="6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1" y="68"/>
                  </a:lnTo>
                  <a:lnTo>
                    <a:pt x="27" y="68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843600" y="1623960"/>
              <a:ext cx="87480" cy="26028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1" y="164"/>
                  </a:moveTo>
                  <a:lnTo>
                    <a:pt x="55" y="16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1" y="164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94480" y="205740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69" y="54"/>
                  </a:moveTo>
                  <a:lnTo>
                    <a:pt x="83" y="82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14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2" y="13"/>
                  </a:lnTo>
                  <a:lnTo>
                    <a:pt x="42" y="0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14" y="82"/>
                  </a:lnTo>
                  <a:lnTo>
                    <a:pt x="0" y="68"/>
                  </a:lnTo>
                  <a:lnTo>
                    <a:pt x="14" y="68"/>
                  </a:lnTo>
                  <a:lnTo>
                    <a:pt x="83" y="68"/>
                  </a:lnTo>
                  <a:lnTo>
                    <a:pt x="83" y="82"/>
                  </a:lnTo>
                  <a:lnTo>
                    <a:pt x="69" y="82"/>
                  </a:lnTo>
                  <a:lnTo>
                    <a:pt x="55" y="54"/>
                  </a:lnTo>
                  <a:lnTo>
                    <a:pt x="69" y="54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561080" y="21002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516800" y="2100240"/>
              <a:ext cx="109440" cy="8712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55" y="27"/>
                  </a:moveTo>
                  <a:lnTo>
                    <a:pt x="69" y="55"/>
                  </a:lnTo>
                  <a:lnTo>
                    <a:pt x="0" y="55"/>
                  </a:lnTo>
                  <a:lnTo>
                    <a:pt x="41" y="0"/>
                  </a:lnTo>
                  <a:lnTo>
                    <a:pt x="55" y="27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756560" y="1536480"/>
              <a:ext cx="64800" cy="390600"/>
            </a:xfrm>
            <a:custGeom>
              <a:avLst/>
              <a:gdLst/>
              <a:ahLst/>
              <a:rect l="l" t="t" r="r" b="b"/>
              <a:pathLst>
                <a:path w="41" h="246">
                  <a:moveTo>
                    <a:pt x="41" y="0"/>
                  </a:moveTo>
                  <a:lnTo>
                    <a:pt x="13" y="246"/>
                  </a:lnTo>
                  <a:lnTo>
                    <a:pt x="13" y="246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27" y="0"/>
                  </a:lnTo>
                  <a:lnTo>
                    <a:pt x="41" y="0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691400" y="1927080"/>
              <a:ext cx="85680" cy="15084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54" y="0"/>
                  </a:moveTo>
                  <a:lnTo>
                    <a:pt x="13" y="82"/>
                  </a:lnTo>
                  <a:lnTo>
                    <a:pt x="13" y="9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1" y="0"/>
                  </a:lnTo>
                  <a:lnTo>
                    <a:pt x="54" y="0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603920" y="21430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lnTo>
                    <a:pt x="14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603920" y="205740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13"/>
                  </a:moveTo>
                  <a:lnTo>
                    <a:pt x="55" y="0"/>
                  </a:lnTo>
                  <a:lnTo>
                    <a:pt x="0" y="54"/>
                  </a:lnTo>
                  <a:lnTo>
                    <a:pt x="14" y="68"/>
                  </a:lnTo>
                  <a:lnTo>
                    <a:pt x="68" y="13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90000" y="1471320"/>
              <a:ext cx="21960" cy="8748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90000" y="1689120"/>
              <a:ext cx="1440" cy="15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190000" y="1949400"/>
              <a:ext cx="144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90000" y="2230200"/>
              <a:ext cx="21960" cy="10800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4" y="55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190000" y="231768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0"/>
                  </a:moveTo>
                  <a:lnTo>
                    <a:pt x="0" y="13"/>
                  </a:lnTo>
                  <a:lnTo>
                    <a:pt x="55" y="27"/>
                  </a:lnTo>
                  <a:lnTo>
                    <a:pt x="55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429400" y="2403360"/>
              <a:ext cx="1526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734320" y="2555640"/>
              <a:ext cx="856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0" y="0"/>
                  </a:moveTo>
                  <a:lnTo>
                    <a:pt x="0" y="13"/>
                  </a:lnTo>
                  <a:lnTo>
                    <a:pt x="54" y="27"/>
                  </a:lnTo>
                  <a:lnTo>
                    <a:pt x="54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90000" y="1471320"/>
              <a:ext cx="630000" cy="282600"/>
            </a:xfrm>
            <a:custGeom>
              <a:avLst/>
              <a:gdLst/>
              <a:ahLst/>
              <a:rect l="l" t="t" r="r" b="b"/>
              <a:pathLst>
                <a:path w="397" h="178">
                  <a:moveTo>
                    <a:pt x="0" y="0"/>
                  </a:moveTo>
                  <a:lnTo>
                    <a:pt x="0" y="14"/>
                  </a:lnTo>
                  <a:lnTo>
                    <a:pt x="384" y="178"/>
                  </a:lnTo>
                  <a:lnTo>
                    <a:pt x="397" y="164"/>
                  </a:lnTo>
                  <a:lnTo>
                    <a:pt x="397" y="164"/>
                  </a:lnTo>
                  <a:lnTo>
                    <a:pt x="384" y="16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799480" y="1731960"/>
              <a:ext cx="20520" cy="84456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299360" y="1753920"/>
              <a:ext cx="10944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41" y="0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41" y="54"/>
                  </a:lnTo>
                  <a:lnTo>
                    <a:pt x="41" y="82"/>
                  </a:lnTo>
                  <a:lnTo>
                    <a:pt x="28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1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69" y="13"/>
                  </a:lnTo>
                  <a:lnTo>
                    <a:pt x="41" y="13"/>
                  </a:lnTo>
                  <a:lnTo>
                    <a:pt x="41" y="0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321320" y="1753920"/>
              <a:ext cx="42840" cy="208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27" y="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321320" y="175392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0"/>
                  </a:lnTo>
                  <a:lnTo>
                    <a:pt x="27" y="54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364160" y="1558800"/>
              <a:ext cx="22320" cy="17316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146720" y="231768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28" y="41"/>
                  </a:moveTo>
                  <a:lnTo>
                    <a:pt x="14" y="13"/>
                  </a:lnTo>
                  <a:lnTo>
                    <a:pt x="0" y="13"/>
                  </a:lnTo>
                  <a:lnTo>
                    <a:pt x="28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27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69" y="13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2" y="27"/>
                  </a:lnTo>
                  <a:lnTo>
                    <a:pt x="28" y="41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191360" y="23605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27" y="14"/>
                  </a:lnTo>
                  <a:lnTo>
                    <a:pt x="14" y="27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69040" y="2338200"/>
              <a:ext cx="87480" cy="65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14" y="28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28" y="41"/>
                  </a:lnTo>
                  <a:lnTo>
                    <a:pt x="14" y="28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061040" y="2447640"/>
              <a:ext cx="1800" cy="2088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191360" y="2382840"/>
              <a:ext cx="1440" cy="2052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061040" y="238284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41"/>
                  </a:moveTo>
                  <a:lnTo>
                    <a:pt x="0" y="54"/>
                  </a:lnTo>
                  <a:lnTo>
                    <a:pt x="82" y="13"/>
                  </a:lnTo>
                  <a:lnTo>
                    <a:pt x="82" y="0"/>
                  </a:lnTo>
                  <a:lnTo>
                    <a:pt x="0" y="41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"/>
          <p:cNvSpPr/>
          <p:nvPr/>
        </p:nvSpPr>
        <p:spPr>
          <a:xfrm flipH="1">
            <a:off x="5068440" y="217980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049720" y="217980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752720" y="1886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812880" y="3798720"/>
            <a:ext cx="689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jection onto the near clipping pla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2063880" y="4260960"/>
                <a:ext cx="4611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 flipV="1">
            <a:off x="5799240" y="1284120"/>
            <a:ext cx="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799240" y="2179800"/>
            <a:ext cx="162072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432920" y="302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42280" y="83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1177560" y="208296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2025720" y="1587240"/>
            <a:ext cx="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23680" y="180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868480" y="1857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983680" y="16700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649600" y="1895400"/>
            <a:ext cx="2728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620800" y="189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017800" y="24606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10456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397960" y="12859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37640" y="3030480"/>
            <a:ext cx="334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 = -x/z;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-x/(z/n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814040" y="9698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649600" y="1206000"/>
            <a:ext cx="1376280" cy="58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658960" y="2338560"/>
            <a:ext cx="1357560" cy="56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4025880" y="1206360"/>
            <a:ext cx="0" cy="16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58960" y="180036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2017800" y="1771560"/>
            <a:ext cx="649080" cy="301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017800" y="2082960"/>
            <a:ext cx="649080" cy="255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027160" y="1941480"/>
            <a:ext cx="631800" cy="13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913120" y="1895400"/>
            <a:ext cx="0" cy="187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227160" y="35100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3800520" y="6534000"/>
            <a:ext cx="1523880" cy="231120"/>
            <a:chOff x="3800520" y="6534000"/>
            <a:chExt cx="1523880" cy="231120"/>
          </a:xfrm>
        </p:grpSpPr>
        <p:sp>
          <p:nvSpPr>
            <p:cNvPr id="1512" name=""/>
            <p:cNvSpPr/>
            <p:nvPr/>
          </p:nvSpPr>
          <p:spPr>
            <a:xfrm>
              <a:off x="3876840" y="653400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00520" y="660996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248440" y="66099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520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60434CC-B8B3-48F0-AE1A-EBF92E2658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>
            <a:hlinkClick r:id="" action="ppaction://hlinkshowjump?jump=nextslide"/>
          </p:cNvPr>
          <p:cNvSpPr/>
          <p:nvPr/>
        </p:nvSpPr>
        <p:spPr>
          <a:xfrm>
            <a:off x="8134200" y="5924520"/>
            <a:ext cx="743040" cy="552600"/>
          </a:xfrm>
          <a:custGeom>
            <a:avLst/>
            <a:gdLst>
              <a:gd name="textAreaLeft" fmla="*/ 35640 w 743040"/>
              <a:gd name="textAreaRight" fmla="*/ 707400 w 743040"/>
              <a:gd name="textAreaTop" fmla="*/ 35640 h 552600"/>
              <a:gd name="textAreaBottom" fmla="*/ 516960 h 552600"/>
            </a:gdLst>
            <a:ahLst/>
            <a:rect l="textAreaLeft" t="textAreaTop" r="textAreaRight" b="textAreaBottom"/>
            <a:pathLst>
              <a:path w="29039" h="21600">
                <a:moveTo>
                  <a:pt x="0" y="0"/>
                </a:moveTo>
                <a:lnTo>
                  <a:pt x="29039" y="0"/>
                </a:lnTo>
                <a:lnTo>
                  <a:pt x="29039" y="21600"/>
                </a:lnTo>
                <a:lnTo>
                  <a:pt x="0" y="21600"/>
                </a:lnTo>
                <a:close/>
              </a:path>
              <a:path fill="lightenLess" w="29039" h="21600">
                <a:moveTo>
                  <a:pt x="0" y="0"/>
                </a:moveTo>
                <a:lnTo>
                  <a:pt x="29039" y="0"/>
                </a:lnTo>
                <a:lnTo>
                  <a:pt x="27639" y="1400"/>
                </a:lnTo>
                <a:lnTo>
                  <a:pt x="1400" y="1400"/>
                </a:lnTo>
                <a:close/>
              </a:path>
              <a:path fill="darken" w="29039" h="21600">
                <a:moveTo>
                  <a:pt x="29039" y="0"/>
                </a:moveTo>
                <a:lnTo>
                  <a:pt x="29039" y="21600"/>
                </a:lnTo>
                <a:lnTo>
                  <a:pt x="27639" y="20200"/>
                </a:lnTo>
                <a:lnTo>
                  <a:pt x="27639" y="1400"/>
                </a:lnTo>
                <a:close/>
              </a:path>
              <a:path fill="darkenLess" w="29039" h="21600">
                <a:moveTo>
                  <a:pt x="29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39" y="20200"/>
                </a:lnTo>
                <a:close/>
              </a:path>
              <a:path fill="lighten" w="29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39" h="21600">
                <a:moveTo>
                  <a:pt x="7513" y="3794"/>
                </a:moveTo>
                <a:lnTo>
                  <a:pt x="21526" y="10800"/>
                </a:lnTo>
                <a:lnTo>
                  <a:pt x="75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468360" y="627120"/>
            <a:ext cx="6729120" cy="1758600"/>
            <a:chOff x="468360" y="627120"/>
            <a:chExt cx="6729120" cy="1758600"/>
          </a:xfrm>
        </p:grpSpPr>
        <p:sp>
          <p:nvSpPr>
            <p:cNvPr id="1526" name=""/>
            <p:cNvSpPr/>
            <p:nvPr/>
          </p:nvSpPr>
          <p:spPr>
            <a:xfrm>
              <a:off x="468360" y="1310760"/>
              <a:ext cx="335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matrix form, perspective projection matrix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7" name=""/>
                <p:cNvSpPr txBox="1"/>
                <p:nvPr/>
              </p:nvSpPr>
              <p:spPr>
                <a:xfrm>
                  <a:off x="3945960" y="627120"/>
                  <a:ext cx="3251520" cy="175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8" name=""/>
          <p:cNvSpPr/>
          <p:nvPr/>
        </p:nvSpPr>
        <p:spPr>
          <a:xfrm>
            <a:off x="539640" y="2360520"/>
            <a:ext cx="7139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orming in homogeneous coordinates yield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eneral homogeneous poi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06520" y="4768920"/>
            <a:ext cx="6897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3D coordinates can be calculated from the homogene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es (perspective division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635120" y="2935440"/>
                <a:ext cx="488016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23800" y="5256360"/>
                <a:ext cx="79106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⇐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2" name=""/>
          <p:cNvSpPr/>
          <p:nvPr/>
        </p:nvSpPr>
        <p:spPr>
          <a:xfrm>
            <a:off x="304920" y="404640"/>
            <a:ext cx="372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n homogeneous coordin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535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8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543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3C407AC-EA29-4155-8B1C-77A6C69ED1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1035000" y="716040"/>
            <a:ext cx="519120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Stencil"/>
              </a:rPr>
              <a:t>OpenGL Viewing Pipleline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Stencil"/>
              <a:ea typeface="Stencil"/>
            </a:endParaRPr>
          </a:p>
        </p:txBody>
      </p:sp>
      <p:sp>
        <p:nvSpPr>
          <p:cNvPr id="1549" name=""/>
          <p:cNvSpPr/>
          <p:nvPr/>
        </p:nvSpPr>
        <p:spPr>
          <a:xfrm>
            <a:off x="7246800" y="57312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840040" y="1766880"/>
            <a:ext cx="1469880" cy="2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287960" y="1766880"/>
            <a:ext cx="21960" cy="93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840040" y="2676600"/>
            <a:ext cx="144792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840040" y="1766880"/>
            <a:ext cx="22320" cy="90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539040" y="1722600"/>
            <a:ext cx="1025280" cy="21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542360" y="1722600"/>
            <a:ext cx="21960" cy="95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539040" y="2654280"/>
            <a:ext cx="100332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539040" y="1722600"/>
            <a:ext cx="21960" cy="931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756320" y="1744560"/>
            <a:ext cx="1336680" cy="22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070680" y="1744560"/>
            <a:ext cx="22320" cy="954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756320" y="2676600"/>
            <a:ext cx="1314360" cy="22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756320" y="1744560"/>
            <a:ext cx="21960" cy="932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018600" y="1789200"/>
            <a:ext cx="97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p agai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909160" y="2011320"/>
            <a:ext cx="121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orm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44880" y="1789200"/>
            <a:ext cx="85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ide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691960" y="1833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03120" y="2033640"/>
            <a:ext cx="121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persp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585480" y="174456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695280" y="198900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o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907360" y="2255760"/>
            <a:ext cx="131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ewing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88960" y="2166840"/>
            <a:ext cx="44280" cy="44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66640" y="216684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lnTo>
                  <a:pt x="14" y="28"/>
                </a:lnTo>
                <a:lnTo>
                  <a:pt x="28" y="14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11280" y="2077920"/>
            <a:ext cx="333360" cy="222480"/>
          </a:xfrm>
          <a:custGeom>
            <a:avLst/>
            <a:gdLst/>
            <a:ahLst/>
            <a:rect l="l" t="t" r="r" b="b"/>
            <a:pathLst>
              <a:path w="210" h="140">
                <a:moveTo>
                  <a:pt x="14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10" y="70"/>
                </a:lnTo>
                <a:lnTo>
                  <a:pt x="210" y="84"/>
                </a:lnTo>
                <a:lnTo>
                  <a:pt x="210" y="84"/>
                </a:lnTo>
                <a:lnTo>
                  <a:pt x="0" y="140"/>
                </a:lnTo>
                <a:lnTo>
                  <a:pt x="0" y="140"/>
                </a:lnTo>
                <a:lnTo>
                  <a:pt x="0" y="126"/>
                </a:lnTo>
                <a:lnTo>
                  <a:pt x="0" y="126"/>
                </a:lnTo>
                <a:lnTo>
                  <a:pt x="210" y="70"/>
                </a:lnTo>
                <a:lnTo>
                  <a:pt x="210" y="84"/>
                </a:lnTo>
                <a:lnTo>
                  <a:pt x="210" y="84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28" y="70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11280" y="2189160"/>
            <a:ext cx="44280" cy="88920"/>
          </a:xfrm>
          <a:custGeom>
            <a:avLst/>
            <a:gdLst/>
            <a:ahLst/>
            <a:rect l="l" t="t" r="r" b="b"/>
            <a:pathLst>
              <a:path w="28" h="56">
                <a:moveTo>
                  <a:pt x="0" y="56"/>
                </a:moveTo>
                <a:lnTo>
                  <a:pt x="14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14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2077920"/>
            <a:ext cx="333360" cy="200160"/>
          </a:xfrm>
          <a:custGeom>
            <a:avLst/>
            <a:gdLst/>
            <a:ahLst/>
            <a:rect l="l" t="t" r="r" b="b"/>
            <a:pathLst>
              <a:path w="210" h="126">
                <a:moveTo>
                  <a:pt x="14" y="70"/>
                </a:moveTo>
                <a:lnTo>
                  <a:pt x="0" y="0"/>
                </a:lnTo>
                <a:lnTo>
                  <a:pt x="210" y="70"/>
                </a:lnTo>
                <a:lnTo>
                  <a:pt x="0" y="126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88960" y="2166840"/>
            <a:ext cx="22320" cy="44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04480" y="1798560"/>
            <a:ext cx="11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505240" y="2189160"/>
            <a:ext cx="44280" cy="44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82920" y="218916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lnTo>
                  <a:pt x="14" y="28"/>
                </a:lnTo>
                <a:lnTo>
                  <a:pt x="28" y="14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527200" y="2122560"/>
            <a:ext cx="290520" cy="177840"/>
          </a:xfrm>
          <a:custGeom>
            <a:avLst/>
            <a:gdLst/>
            <a:ahLst/>
            <a:rect l="l" t="t" r="r" b="b"/>
            <a:pathLst>
              <a:path w="183" h="112">
                <a:moveTo>
                  <a:pt x="14" y="5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3" y="56"/>
                </a:lnTo>
                <a:lnTo>
                  <a:pt x="183" y="70"/>
                </a:lnTo>
                <a:lnTo>
                  <a:pt x="183" y="70"/>
                </a:lnTo>
                <a:lnTo>
                  <a:pt x="0" y="112"/>
                </a:lnTo>
                <a:lnTo>
                  <a:pt x="0" y="112"/>
                </a:lnTo>
                <a:lnTo>
                  <a:pt x="0" y="98"/>
                </a:lnTo>
                <a:lnTo>
                  <a:pt x="0" y="98"/>
                </a:lnTo>
                <a:lnTo>
                  <a:pt x="183" y="56"/>
                </a:lnTo>
                <a:lnTo>
                  <a:pt x="183" y="70"/>
                </a:lnTo>
                <a:lnTo>
                  <a:pt x="183" y="70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28" y="56"/>
                </a:lnTo>
                <a:lnTo>
                  <a:pt x="14" y="56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27200" y="2211480"/>
            <a:ext cx="44640" cy="66600"/>
          </a:xfrm>
          <a:custGeom>
            <a:avLst/>
            <a:gdLst/>
            <a:ahLst/>
            <a:rect l="l" t="t" r="r" b="b"/>
            <a:pathLst>
              <a:path w="28" h="42">
                <a:moveTo>
                  <a:pt x="0" y="42"/>
                </a:moveTo>
                <a:lnTo>
                  <a:pt x="14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14" y="42"/>
                </a:lnTo>
                <a:lnTo>
                  <a:pt x="0" y="42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527200" y="2122560"/>
            <a:ext cx="290520" cy="155520"/>
          </a:xfrm>
          <a:custGeom>
            <a:avLst/>
            <a:gdLst/>
            <a:ahLst/>
            <a:rect l="l" t="t" r="r" b="b"/>
            <a:pathLst>
              <a:path w="183" h="98">
                <a:moveTo>
                  <a:pt x="14" y="56"/>
                </a:moveTo>
                <a:lnTo>
                  <a:pt x="0" y="0"/>
                </a:lnTo>
                <a:lnTo>
                  <a:pt x="183" y="56"/>
                </a:lnTo>
                <a:lnTo>
                  <a:pt x="0" y="98"/>
                </a:lnTo>
                <a:lnTo>
                  <a:pt x="14" y="56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416320" y="2131920"/>
            <a:ext cx="21960" cy="44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5240" y="2189160"/>
            <a:ext cx="21960" cy="44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438280" y="2189160"/>
            <a:ext cx="66960" cy="44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398840" y="2189160"/>
            <a:ext cx="44640" cy="442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376880" y="218916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14" y="14"/>
                </a:lnTo>
                <a:lnTo>
                  <a:pt x="14" y="0"/>
                </a:lnTo>
                <a:lnTo>
                  <a:pt x="0" y="14"/>
                </a:lnTo>
                <a:lnTo>
                  <a:pt x="0" y="14"/>
                </a:lnTo>
                <a:lnTo>
                  <a:pt x="0" y="28"/>
                </a:lnTo>
                <a:lnTo>
                  <a:pt x="14" y="28"/>
                </a:lnTo>
                <a:lnTo>
                  <a:pt x="14" y="28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398840" y="2122560"/>
            <a:ext cx="401760" cy="222120"/>
          </a:xfrm>
          <a:custGeom>
            <a:avLst/>
            <a:gdLst/>
            <a:ahLst/>
            <a:rect l="l" t="t" r="r" b="b"/>
            <a:pathLst>
              <a:path w="253" h="140">
                <a:moveTo>
                  <a:pt x="28" y="5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11" y="56"/>
                </a:lnTo>
                <a:lnTo>
                  <a:pt x="253" y="56"/>
                </a:lnTo>
                <a:lnTo>
                  <a:pt x="211" y="70"/>
                </a:lnTo>
                <a:lnTo>
                  <a:pt x="0" y="140"/>
                </a:lnTo>
                <a:lnTo>
                  <a:pt x="0" y="140"/>
                </a:lnTo>
                <a:lnTo>
                  <a:pt x="0" y="126"/>
                </a:lnTo>
                <a:lnTo>
                  <a:pt x="0" y="126"/>
                </a:lnTo>
                <a:lnTo>
                  <a:pt x="211" y="56"/>
                </a:lnTo>
                <a:lnTo>
                  <a:pt x="211" y="70"/>
                </a:lnTo>
                <a:lnTo>
                  <a:pt x="211" y="70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42" y="56"/>
                </a:lnTo>
                <a:lnTo>
                  <a:pt x="28" y="56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398840" y="2211480"/>
            <a:ext cx="66960" cy="110880"/>
          </a:xfrm>
          <a:custGeom>
            <a:avLst/>
            <a:gdLst/>
            <a:ahLst/>
            <a:rect l="l" t="t" r="r" b="b"/>
            <a:pathLst>
              <a:path w="42" h="70">
                <a:moveTo>
                  <a:pt x="0" y="70"/>
                </a:moveTo>
                <a:lnTo>
                  <a:pt x="28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14" y="70"/>
                </a:lnTo>
                <a:lnTo>
                  <a:pt x="0" y="70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398840" y="2122560"/>
            <a:ext cx="335160" cy="199800"/>
          </a:xfrm>
          <a:custGeom>
            <a:avLst/>
            <a:gdLst/>
            <a:ahLst/>
            <a:rect l="l" t="t" r="r" b="b"/>
            <a:pathLst>
              <a:path w="211" h="126">
                <a:moveTo>
                  <a:pt x="28" y="56"/>
                </a:moveTo>
                <a:lnTo>
                  <a:pt x="0" y="0"/>
                </a:lnTo>
                <a:lnTo>
                  <a:pt x="211" y="56"/>
                </a:lnTo>
                <a:lnTo>
                  <a:pt x="0" y="126"/>
                </a:lnTo>
                <a:lnTo>
                  <a:pt x="28" y="56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287960" y="2189160"/>
            <a:ext cx="21960" cy="44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398840" y="2189160"/>
            <a:ext cx="22320" cy="4428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309920" y="2189160"/>
            <a:ext cx="88920" cy="442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181560" y="2189160"/>
            <a:ext cx="44640" cy="4428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159600" y="218916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14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28"/>
                </a:lnTo>
                <a:lnTo>
                  <a:pt x="14" y="28"/>
                </a:lnTo>
                <a:lnTo>
                  <a:pt x="14" y="28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159600" y="2122560"/>
            <a:ext cx="357120" cy="199800"/>
          </a:xfrm>
          <a:custGeom>
            <a:avLst/>
            <a:gdLst/>
            <a:ahLst/>
            <a:rect l="l" t="t" r="r" b="b"/>
            <a:pathLst>
              <a:path w="225" h="126">
                <a:moveTo>
                  <a:pt x="42" y="56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25" y="56"/>
                </a:lnTo>
                <a:lnTo>
                  <a:pt x="225" y="70"/>
                </a:lnTo>
                <a:lnTo>
                  <a:pt x="225" y="70"/>
                </a:lnTo>
                <a:lnTo>
                  <a:pt x="14" y="126"/>
                </a:lnTo>
                <a:lnTo>
                  <a:pt x="0" y="126"/>
                </a:lnTo>
                <a:lnTo>
                  <a:pt x="14" y="112"/>
                </a:lnTo>
                <a:lnTo>
                  <a:pt x="14" y="112"/>
                </a:lnTo>
                <a:lnTo>
                  <a:pt x="225" y="56"/>
                </a:lnTo>
                <a:lnTo>
                  <a:pt x="225" y="56"/>
                </a:lnTo>
                <a:lnTo>
                  <a:pt x="225" y="70"/>
                </a:lnTo>
                <a:lnTo>
                  <a:pt x="14" y="14"/>
                </a:lnTo>
                <a:lnTo>
                  <a:pt x="14" y="0"/>
                </a:lnTo>
                <a:lnTo>
                  <a:pt x="28" y="0"/>
                </a:lnTo>
                <a:lnTo>
                  <a:pt x="56" y="56"/>
                </a:lnTo>
                <a:lnTo>
                  <a:pt x="42" y="56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181560" y="2211480"/>
            <a:ext cx="6696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0" y="56"/>
                </a:moveTo>
                <a:lnTo>
                  <a:pt x="28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14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181560" y="2122560"/>
            <a:ext cx="335160" cy="177840"/>
          </a:xfrm>
          <a:custGeom>
            <a:avLst/>
            <a:gdLst/>
            <a:ahLst/>
            <a:rect l="l" t="t" r="r" b="b"/>
            <a:pathLst>
              <a:path w="211" h="112">
                <a:moveTo>
                  <a:pt x="28" y="56"/>
                </a:moveTo>
                <a:lnTo>
                  <a:pt x="0" y="0"/>
                </a:lnTo>
                <a:lnTo>
                  <a:pt x="211" y="56"/>
                </a:lnTo>
                <a:lnTo>
                  <a:pt x="0" y="112"/>
                </a:lnTo>
                <a:lnTo>
                  <a:pt x="28" y="5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070680" y="2189160"/>
            <a:ext cx="22320" cy="442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181560" y="2189160"/>
            <a:ext cx="22320" cy="442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093000" y="2189160"/>
            <a:ext cx="88560" cy="442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694920" y="221148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ew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942320" y="2189160"/>
            <a:ext cx="44280" cy="442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920000" y="2189160"/>
            <a:ext cx="4464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lnTo>
                  <a:pt x="14" y="28"/>
                </a:lnTo>
                <a:lnTo>
                  <a:pt x="28" y="14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964640" y="2100240"/>
            <a:ext cx="334800" cy="222120"/>
          </a:xfrm>
          <a:custGeom>
            <a:avLst/>
            <a:gdLst/>
            <a:ahLst/>
            <a:rect l="l" t="t" r="r" b="b"/>
            <a:pathLst>
              <a:path w="211" h="140">
                <a:moveTo>
                  <a:pt x="14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11" y="70"/>
                </a:lnTo>
                <a:lnTo>
                  <a:pt x="211" y="84"/>
                </a:lnTo>
                <a:lnTo>
                  <a:pt x="211" y="84"/>
                </a:lnTo>
                <a:lnTo>
                  <a:pt x="0" y="140"/>
                </a:lnTo>
                <a:lnTo>
                  <a:pt x="0" y="140"/>
                </a:lnTo>
                <a:lnTo>
                  <a:pt x="0" y="126"/>
                </a:lnTo>
                <a:lnTo>
                  <a:pt x="0" y="126"/>
                </a:lnTo>
                <a:lnTo>
                  <a:pt x="211" y="70"/>
                </a:lnTo>
                <a:lnTo>
                  <a:pt x="211" y="84"/>
                </a:lnTo>
                <a:lnTo>
                  <a:pt x="211" y="84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29" y="70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64640" y="2211480"/>
            <a:ext cx="45720" cy="88920"/>
          </a:xfrm>
          <a:custGeom>
            <a:avLst/>
            <a:gdLst/>
            <a:ahLst/>
            <a:rect l="l" t="t" r="r" b="b"/>
            <a:pathLst>
              <a:path w="29" h="56">
                <a:moveTo>
                  <a:pt x="0" y="56"/>
                </a:moveTo>
                <a:lnTo>
                  <a:pt x="14" y="0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lnTo>
                  <a:pt x="14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964640" y="2100240"/>
            <a:ext cx="334800" cy="200160"/>
          </a:xfrm>
          <a:custGeom>
            <a:avLst/>
            <a:gdLst/>
            <a:ahLst/>
            <a:rect l="l" t="t" r="r" b="b"/>
            <a:pathLst>
              <a:path w="211" h="126">
                <a:moveTo>
                  <a:pt x="14" y="70"/>
                </a:moveTo>
                <a:lnTo>
                  <a:pt x="0" y="0"/>
                </a:lnTo>
                <a:lnTo>
                  <a:pt x="211" y="70"/>
                </a:lnTo>
                <a:lnTo>
                  <a:pt x="0" y="126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520040" y="2189160"/>
            <a:ext cx="22320" cy="4428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942320" y="2189160"/>
            <a:ext cx="22320" cy="442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542360" y="2189160"/>
            <a:ext cx="399960" cy="442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013400" y="2021040"/>
            <a:ext cx="1375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ewing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y not b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966960" y="1744560"/>
            <a:ext cx="147132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416320" y="1744560"/>
            <a:ext cx="21960" cy="9320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66960" y="2654280"/>
            <a:ext cx="1449360" cy="223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966960" y="1744560"/>
            <a:ext cx="21960" cy="9097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912560" y="225576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21280" y="119052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22000" y="143496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652520" y="1212840"/>
            <a:ext cx="77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sp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651800" y="145728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652880" y="17002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985680" y="2685960"/>
            <a:ext cx="136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rth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Frust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521400" y="276084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View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879480" y="3521160"/>
            <a:ext cx="6904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D transformation in homogeneous coordina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ing a viewing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rojec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pective div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port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can-con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26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634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EF07F6E-A927-4129-BDB7-694650849B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114560" y="5493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012680" y="10317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664280" y="103176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glOrt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602440" y="1031760"/>
            <a:ext cx="438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Ldouble left, GLdouble righ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99440" y="1262160"/>
            <a:ext cx="631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bottom, GLdouble top, GLdouble ne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109880" y="1490760"/>
            <a:ext cx="19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f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63920" y="498600"/>
            <a:ext cx="45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 (Viewing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907920" y="2381400"/>
                <a:ext cx="35118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7" name=""/>
          <p:cNvSpPr/>
          <p:nvPr/>
        </p:nvSpPr>
        <p:spPr>
          <a:xfrm>
            <a:off x="7543800" y="163188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973760" y="2401920"/>
            <a:ext cx="358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ransform an arbitrary viewing volume into a normalized viewing volu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,-1,-1) to (1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91320" y="5346720"/>
            <a:ext cx="58392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451560" y="55371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5638680" y="562608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6159600" y="5003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98400" y="48070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(-2/(r-l), -2/(t-b), -2/(f-n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(-(r+l)/2, -(t+b)/2, (f+n)/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56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664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7CB31DA-A4FE-4FA0-AF56-0E4AEF29F3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871560" y="2930400"/>
                <a:ext cx="369252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70880" y="53496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4680" y="10605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295280" y="106056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glFrus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597760" y="1060560"/>
            <a:ext cx="438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Ldouble left, GLdouble righ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13880" y="1327320"/>
            <a:ext cx="631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bottom, GLdouble top, GLdouble ne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972480" y="1347840"/>
            <a:ext cx="19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f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138680" y="1827360"/>
            <a:ext cx="654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eft, bottom, -near) and (right, top, -near) specify  the (x,y,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138680" y="2055960"/>
            <a:ext cx="63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 of the lower left and upper right  corners of the n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140120" y="228456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ping pla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01080" y="541440"/>
            <a:ext cx="123804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886280" y="2563920"/>
            <a:ext cx="38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ransform an arbitrary viewing volume into a normalized viewing volu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-1,-1,-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1,1,1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ly, clipping is done in homogeneous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-w,-w,-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w, w, 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ld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611760" y="592776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272360" y="611820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459480" y="620712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6980400" y="558468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44480" y="1836720"/>
            <a:ext cx="8089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pecify a rectangular area in the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modeling 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orld coordinates) and a viewport in the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device 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disp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defines what to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port defines where to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pping of the window (modeling coordinates) to viewport (device coordinates) is a 2D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viewing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69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7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E49BD9B-1CDB-4797-AF6D-08B749E2F0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143000" y="1330200"/>
            <a:ext cx="2972160" cy="1382760"/>
            <a:chOff x="1143000" y="1330200"/>
            <a:chExt cx="2972160" cy="1382760"/>
          </a:xfrm>
        </p:grpSpPr>
        <p:sp>
          <p:nvSpPr>
            <p:cNvPr id="83" name=""/>
            <p:cNvSpPr/>
            <p:nvPr/>
          </p:nvSpPr>
          <p:spPr>
            <a:xfrm>
              <a:off x="1143000" y="13302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15588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1789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3000" y="2119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23479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14800" y="23479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143000" y="4317840"/>
            <a:ext cx="360" cy="1051200"/>
            <a:chOff x="1143000" y="4317840"/>
            <a:chExt cx="360" cy="1051200"/>
          </a:xfrm>
        </p:grpSpPr>
        <p:sp>
          <p:nvSpPr>
            <p:cNvPr id="90" name=""/>
            <p:cNvSpPr/>
            <p:nvPr/>
          </p:nvSpPr>
          <p:spPr>
            <a:xfrm>
              <a:off x="1143000" y="47750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143000" y="4317840"/>
              <a:ext cx="360" cy="1051200"/>
              <a:chOff x="1143000" y="4317840"/>
              <a:chExt cx="360" cy="1051200"/>
            </a:xfrm>
          </p:grpSpPr>
          <p:sp>
            <p:nvSpPr>
              <p:cNvPr id="92" name=""/>
              <p:cNvSpPr/>
              <p:nvPr/>
            </p:nvSpPr>
            <p:spPr>
              <a:xfrm>
                <a:off x="1143000" y="43178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43000" y="45464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43000" y="5003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 txBox="1"/>
          <p:nvPr/>
        </p:nvSpPr>
        <p:spPr>
          <a:xfrm>
            <a:off x="2062080" y="858960"/>
            <a:ext cx="48769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IEWING IN 2D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87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695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174C049-F6F9-44D6-BBF5-CFCBF93268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70520" y="534960"/>
            <a:ext cx="195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446960" y="328932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107200" y="347976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7294320" y="356868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5256000" y="153504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6103800" y="1039320"/>
            <a:ext cx="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901760" y="1262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946920" y="1309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062120" y="11224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6727320" y="1347840"/>
            <a:ext cx="27324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699240" y="134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095880" y="191304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182640" y="1585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476400" y="73836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830200" y="507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6727680" y="658800"/>
            <a:ext cx="137664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737400" y="1790640"/>
            <a:ext cx="13572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8104320" y="658800"/>
            <a:ext cx="0" cy="16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737400" y="125244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6095880" y="1224000"/>
            <a:ext cx="649440" cy="301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095880" y="1535040"/>
            <a:ext cx="649440" cy="255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6105600" y="1393920"/>
            <a:ext cx="631800" cy="13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991200" y="1347840"/>
            <a:ext cx="0" cy="18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490680" y="1217520"/>
                <a:ext cx="33908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3" name=""/>
          <p:cNvSpPr/>
          <p:nvPr/>
        </p:nvSpPr>
        <p:spPr>
          <a:xfrm>
            <a:off x="2844720" y="471600"/>
            <a:ext cx="743040" cy="552240"/>
          </a:xfrm>
          <a:custGeom>
            <a:avLst/>
            <a:gdLst>
              <a:gd name="textAreaLeft" fmla="*/ 35640 w 743040"/>
              <a:gd name="textAreaRight" fmla="*/ 707400 w 74304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58" h="21600">
                <a:moveTo>
                  <a:pt x="0" y="0"/>
                </a:moveTo>
                <a:lnTo>
                  <a:pt x="29058" y="0"/>
                </a:lnTo>
                <a:lnTo>
                  <a:pt x="29058" y="21600"/>
                </a:lnTo>
                <a:lnTo>
                  <a:pt x="0" y="21600"/>
                </a:lnTo>
                <a:close/>
              </a:path>
              <a:path fill="lightenLess" w="29058" h="21600">
                <a:moveTo>
                  <a:pt x="0" y="0"/>
                </a:moveTo>
                <a:lnTo>
                  <a:pt x="29058" y="0"/>
                </a:lnTo>
                <a:lnTo>
                  <a:pt x="27658" y="1400"/>
                </a:lnTo>
                <a:lnTo>
                  <a:pt x="1400" y="1400"/>
                </a:lnTo>
                <a:close/>
              </a:path>
              <a:path fill="darken" w="29058" h="21600">
                <a:moveTo>
                  <a:pt x="29058" y="0"/>
                </a:moveTo>
                <a:lnTo>
                  <a:pt x="29058" y="21600"/>
                </a:lnTo>
                <a:lnTo>
                  <a:pt x="27658" y="20200"/>
                </a:lnTo>
                <a:lnTo>
                  <a:pt x="27658" y="1400"/>
                </a:lnTo>
                <a:close/>
              </a:path>
              <a:path fill="darkenLess" w="29058" h="21600">
                <a:moveTo>
                  <a:pt x="29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8" y="20200"/>
                </a:lnTo>
                <a:close/>
              </a:path>
              <a:path fill="lighten" w="29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8" h="21600">
                <a:moveTo>
                  <a:pt x="7523" y="3794"/>
                </a:moveTo>
                <a:lnTo>
                  <a:pt x="21535" y="10800"/>
                </a:lnTo>
                <a:lnTo>
                  <a:pt x="75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19120" y="2801880"/>
            <a:ext cx="63532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-nx/z = nx/w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ny/w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+1/z = (-z-1)/w; 1-1/n&lt;1+1/z&lt;1-1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311040" y="4773600"/>
                <a:ext cx="84330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6" name=""/>
          <p:cNvSpPr/>
          <p:nvPr/>
        </p:nvSpPr>
        <p:spPr>
          <a:xfrm flipV="1">
            <a:off x="7827840" y="293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981600" y="18129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-z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730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38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CA9D303-401F-4131-9EA5-FF569EFAD1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70520" y="534960"/>
            <a:ext cx="195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905040" y="888840"/>
                <a:ext cx="738792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4" name=""/>
          <p:cNvSpPr/>
          <p:nvPr/>
        </p:nvSpPr>
        <p:spPr>
          <a:xfrm>
            <a:off x="2567160" y="461880"/>
            <a:ext cx="682560" cy="387360"/>
          </a:xfrm>
          <a:custGeom>
            <a:avLst/>
            <a:gdLst>
              <a:gd name="textAreaLeft" fmla="*/ 24840 w 682560"/>
              <a:gd name="textAreaRight" fmla="*/ 657720 w 68256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8046" h="21600">
                <a:moveTo>
                  <a:pt x="0" y="0"/>
                </a:moveTo>
                <a:lnTo>
                  <a:pt x="38046" y="0"/>
                </a:lnTo>
                <a:lnTo>
                  <a:pt x="38046" y="21600"/>
                </a:lnTo>
                <a:lnTo>
                  <a:pt x="0" y="21600"/>
                </a:lnTo>
                <a:close/>
              </a:path>
              <a:path fill="lightenLess" w="38046" h="21600">
                <a:moveTo>
                  <a:pt x="0" y="0"/>
                </a:moveTo>
                <a:lnTo>
                  <a:pt x="38046" y="0"/>
                </a:lnTo>
                <a:lnTo>
                  <a:pt x="36646" y="1400"/>
                </a:lnTo>
                <a:lnTo>
                  <a:pt x="1400" y="1400"/>
                </a:lnTo>
                <a:close/>
              </a:path>
              <a:path fill="darken" w="38046" h="21600">
                <a:moveTo>
                  <a:pt x="38046" y="0"/>
                </a:moveTo>
                <a:lnTo>
                  <a:pt x="38046" y="21600"/>
                </a:lnTo>
                <a:lnTo>
                  <a:pt x="36646" y="20200"/>
                </a:lnTo>
                <a:lnTo>
                  <a:pt x="36646" y="1400"/>
                </a:lnTo>
                <a:close/>
              </a:path>
              <a:path fill="darkenLess" w="38046" h="21600">
                <a:moveTo>
                  <a:pt x="38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46" y="20200"/>
                </a:lnTo>
                <a:close/>
              </a:path>
              <a:path fill="lighten" w="38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46" h="21600">
                <a:moveTo>
                  <a:pt x="12016" y="3794"/>
                </a:moveTo>
                <a:lnTo>
                  <a:pt x="26029" y="10800"/>
                </a:lnTo>
                <a:lnTo>
                  <a:pt x="1201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898560" y="3259080"/>
                <a:ext cx="537696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8074080" y="5853240"/>
            <a:ext cx="743040" cy="552240"/>
          </a:xfrm>
          <a:custGeom>
            <a:avLst/>
            <a:gdLst>
              <a:gd name="textAreaLeft" fmla="*/ 35640 w 743040"/>
              <a:gd name="textAreaRight" fmla="*/ 707400 w 74304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58" h="21600">
                <a:moveTo>
                  <a:pt x="0" y="0"/>
                </a:moveTo>
                <a:lnTo>
                  <a:pt x="29058" y="0"/>
                </a:lnTo>
                <a:lnTo>
                  <a:pt x="29058" y="21600"/>
                </a:lnTo>
                <a:lnTo>
                  <a:pt x="0" y="21600"/>
                </a:lnTo>
                <a:close/>
              </a:path>
              <a:path fill="lightenLess" w="29058" h="21600">
                <a:moveTo>
                  <a:pt x="0" y="0"/>
                </a:moveTo>
                <a:lnTo>
                  <a:pt x="29058" y="0"/>
                </a:lnTo>
                <a:lnTo>
                  <a:pt x="27658" y="1400"/>
                </a:lnTo>
                <a:lnTo>
                  <a:pt x="1400" y="1400"/>
                </a:lnTo>
                <a:close/>
              </a:path>
              <a:path fill="darken" w="29058" h="21600">
                <a:moveTo>
                  <a:pt x="29058" y="0"/>
                </a:moveTo>
                <a:lnTo>
                  <a:pt x="29058" y="21600"/>
                </a:lnTo>
                <a:lnTo>
                  <a:pt x="27658" y="20200"/>
                </a:lnTo>
                <a:lnTo>
                  <a:pt x="27658" y="1400"/>
                </a:lnTo>
                <a:close/>
              </a:path>
              <a:path fill="darkenLess" w="29058" h="21600">
                <a:moveTo>
                  <a:pt x="29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8" y="20200"/>
                </a:lnTo>
                <a:close/>
              </a:path>
              <a:path fill="lighten" w="29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8" h="21600">
                <a:moveTo>
                  <a:pt x="7523" y="3794"/>
                </a:moveTo>
                <a:lnTo>
                  <a:pt x="21535" y="10800"/>
                </a:lnTo>
                <a:lnTo>
                  <a:pt x="75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69840" y="57895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 w = -z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389720" y="437508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050320" y="4565520"/>
            <a:ext cx="571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7237080" y="465444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7770960" y="401616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754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7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62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682F543-A53D-4569-8253-99B4AD9FC7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75640" y="498600"/>
            <a:ext cx="451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LIPPING AGAINST THE CU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52320" y="928800"/>
            <a:ext cx="535788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int (x, y, z) is represented by 6 b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6 =1 if x&lt;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5 =1 if x&gt;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4 =1 if y&lt;botto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3 =1 if y&gt;t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2=1 if z&lt;n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1=1 if z&gt;f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ne (2 points) logic OR=0, trivially accepted; logic AND !=0, trivially reject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intersection is calculated and a line is cut into two; the process continue until all segments are trivially accepted/rejec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ax1 + (1-a)x2; y=ay1 + (1-a)y2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az1 + (1-a)z2; plus the plane equ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47640" y="56894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 polygon clipping algorithm can be easily extended to 3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932520" y="180828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93120" y="199872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6779880" y="208764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7300800" y="146520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776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9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84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6E23C1E-5362-4BC4-88FB-7A854B80CB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81200" y="1730520"/>
            <a:ext cx="757224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Ce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with/2, height/2, 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ev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DepthRange( GLclamp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z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clamp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zf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// 0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iewport transformation calculates each vertex’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orresponding to the pixels, and invokes scan-conversion algorithms to draw the model into the viewpo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ng into 2D is nothing more than ignoring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when scan-converting the model’s pixels into the frame buffer. It is not necessary but we may consider that the projection plane is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=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22720" y="873000"/>
            <a:ext cx="804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glViewport (x, y, width, heigh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>
            <a:hlinkClick r:id="rId1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8534520" y="5791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EBCD-6B63-43D2-AB1F-C6D0191EB116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1057320" y="1281240"/>
            <a:ext cx="6705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ewing &amp; Transformation in OpenG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4" name=""/>
          <p:cNvSpPr/>
          <p:nvPr/>
        </p:nvSpPr>
        <p:spPr>
          <a:xfrm>
            <a:off x="1530360" y="3075120"/>
            <a:ext cx="627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>
            <a:off x="1069200" y="1197000"/>
            <a:ext cx="514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the following code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371600" y="1538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643400" y="1779480"/>
            <a:ext cx="384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atrixMode(GL_MODELVIE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46640" y="2009880"/>
            <a:ext cx="24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LoadIdentit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636920" y="22384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ultMatrixf(N);   /* apply transformation 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636920" y="24670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ultMatrixf(M);   /* apply transformation 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36920" y="26956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ultMatrixf(L);   /* apply transformation 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45920" y="2924280"/>
            <a:ext cx="274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Begin(GL_POIN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36560" y="3152880"/>
            <a:ext cx="68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);/* draw transformed vertex v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649520" y="338148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144440" y="3822840"/>
            <a:ext cx="6315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ertex transformation i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(M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(Lv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(As we know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e matrices are multiplied together fir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3840" y="638280"/>
            <a:ext cx="4537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Modeling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97680" y="4919760"/>
            <a:ext cx="54154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Scale{fd}(TYPE x, TYPE y, TYPE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96600" y="5291280"/>
            <a:ext cx="68526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Rotate{fd}(TYPE angle,TYPE x,TYPE y,TYPE z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97680" y="5649840"/>
            <a:ext cx="5834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Translate{fd}(TYPEx, TYPE y, TYPEz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1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ED0DFFD-FC2A-4C04-97C7-D7A77EBB1D53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103400" y="4570560"/>
            <a:ext cx="420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matrix multipl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589800" y="812880"/>
            <a:ext cx="110340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7735680" y="1190520"/>
            <a:ext cx="87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721640" y="1015920"/>
            <a:ext cx="958680" cy="378000"/>
          </a:xfrm>
          <a:prstGeom prst="leftArrow">
            <a:avLst>
              <a:gd name="adj1" fmla="val 50000"/>
              <a:gd name="adj2" fmla="val 6340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887400" y="1193760"/>
            <a:ext cx="36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Viewing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142280" y="2289240"/>
            <a:ext cx="636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ogous to positioning and aiming a cam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142280" y="2720880"/>
            <a:ext cx="6262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mera is originally situated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points dow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gative z-ax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095480" y="4422600"/>
            <a:ext cx="689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call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de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ke effec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23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447640B-191A-48F8-842A-EC8D68CF363D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5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6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27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5CD151F-32A6-410A-A17E-3AF88849BCBF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079640" y="2008080"/>
            <a:ext cx="69656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way of looking at the MODELVIEW matrix is that the matrix transforms the viewing method instead of the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ng a model along the nega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xis is like moving the viewing volume along the posi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ng a model along an axis by a positive angle is like rotating the viewing volume along the axis by a negative an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84080" y="990720"/>
            <a:ext cx="41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MODELVIEW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155600" y="596880"/>
            <a:ext cx="637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iewing &amp; Modeling (are the s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38098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 we analyze a model’s transformations, logically speaking, the order of transformation steps are bottom-up from the closest transformation above the drawing command to where we specify the viewing volu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419720" y="15109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analyze a model’s transformation by thinking about transforming its viewing, the order of transformation steps are top-down from where we specify the viewing volume to where we specify the drawing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s of the transformation are logically ne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04.4.plane.rotation.gif"/>
          <p:cNvPicPr/>
          <p:nvPr/>
        </p:nvPicPr>
        <p:blipFill>
          <a:blip r:embed="rId1"/>
          <a:stretch/>
        </p:blipFill>
        <p:spPr>
          <a:xfrm>
            <a:off x="1620720" y="1319040"/>
            <a:ext cx="5554800" cy="372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19600" y="6524640"/>
            <a:ext cx="1523880" cy="231120"/>
            <a:chOff x="3819600" y="6524640"/>
            <a:chExt cx="1523880" cy="231120"/>
          </a:xfrm>
        </p:grpSpPr>
        <p:sp>
          <p:nvSpPr>
            <p:cNvPr id="98" name=""/>
            <p:cNvSpPr/>
            <p:nvPr/>
          </p:nvSpPr>
          <p:spPr>
            <a:xfrm>
              <a:off x="3895920" y="652464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9600" y="660060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67520" y="660060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0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2D84F75-A2BC-430A-832A-92106FD263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267760" y="5991120"/>
            <a:ext cx="552240" cy="390600"/>
          </a:xfrm>
          <a:custGeom>
            <a:avLst/>
            <a:gdLst>
              <a:gd name="textAreaLeft" fmla="*/ 25200 w 552240"/>
              <a:gd name="textAreaRight" fmla="*/ 527040 w 55224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0530" h="21600">
                <a:moveTo>
                  <a:pt x="0" y="0"/>
                </a:moveTo>
                <a:lnTo>
                  <a:pt x="30530" y="0"/>
                </a:lnTo>
                <a:lnTo>
                  <a:pt x="30530" y="21600"/>
                </a:lnTo>
                <a:lnTo>
                  <a:pt x="0" y="21600"/>
                </a:lnTo>
                <a:close/>
              </a:path>
              <a:path fill="lightenLess" w="30530" h="21600">
                <a:moveTo>
                  <a:pt x="0" y="0"/>
                </a:moveTo>
                <a:lnTo>
                  <a:pt x="30530" y="0"/>
                </a:lnTo>
                <a:lnTo>
                  <a:pt x="29130" y="1400"/>
                </a:lnTo>
                <a:lnTo>
                  <a:pt x="1400" y="1400"/>
                </a:lnTo>
                <a:close/>
              </a:path>
              <a:path fill="darken" w="30530" h="21600">
                <a:moveTo>
                  <a:pt x="30530" y="0"/>
                </a:moveTo>
                <a:lnTo>
                  <a:pt x="30530" y="21600"/>
                </a:lnTo>
                <a:lnTo>
                  <a:pt x="29130" y="20200"/>
                </a:lnTo>
                <a:lnTo>
                  <a:pt x="29130" y="1400"/>
                </a:lnTo>
                <a:close/>
              </a:path>
              <a:path fill="darkenLess" w="30530" h="21600">
                <a:moveTo>
                  <a:pt x="30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30" y="20200"/>
                </a:lnTo>
                <a:close/>
              </a:path>
              <a:path fill="lighten" w="30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30" h="21600">
                <a:moveTo>
                  <a:pt x="8259" y="3794"/>
                </a:moveTo>
                <a:lnTo>
                  <a:pt x="22272" y="10800"/>
                </a:lnTo>
                <a:lnTo>
                  <a:pt x="825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16880" y="2943360"/>
            <a:ext cx="23760" cy="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6880" y="2368440"/>
            <a:ext cx="2376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0200" y="2776680"/>
            <a:ext cx="1440" cy="2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64560" y="2776680"/>
            <a:ext cx="1440" cy="2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8800" y="2824200"/>
            <a:ext cx="1440" cy="23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5400" y="2824200"/>
            <a:ext cx="1440" cy="23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990880"/>
            <a:ext cx="2376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27600" y="2703600"/>
            <a:ext cx="1440" cy="23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05560" y="3006720"/>
            <a:ext cx="2139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 the square and the models to the device coordinates in the display view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71760" y="2944800"/>
            <a:ext cx="2320920" cy="23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68920" y="2944800"/>
            <a:ext cx="23760" cy="124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71760" y="4162320"/>
            <a:ext cx="2297160" cy="23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71760" y="2944800"/>
            <a:ext cx="25560" cy="1217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7240" y="3206880"/>
            <a:ext cx="1411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 the model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7240" y="3422520"/>
            <a:ext cx="111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ordinate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5080" y="2944800"/>
            <a:ext cx="156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pecify a wind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440" y="2951280"/>
            <a:ext cx="204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the window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58160" y="3165480"/>
            <a:ext cx="1905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the models to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2960" y="3660840"/>
            <a:ext cx="1724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ea to be display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65320" y="3494160"/>
            <a:ext cx="47880" cy="47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4156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5" y="30"/>
                </a:lnTo>
                <a:lnTo>
                  <a:pt x="30" y="30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41560" y="3422520"/>
            <a:ext cx="411120" cy="214560"/>
          </a:xfrm>
          <a:custGeom>
            <a:avLst/>
            <a:gdLst/>
            <a:ahLst/>
            <a:rect l="l" t="t" r="r" b="b"/>
            <a:pathLst>
              <a:path w="241" h="135">
                <a:moveTo>
                  <a:pt x="45" y="6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41" y="60"/>
                </a:lnTo>
                <a:lnTo>
                  <a:pt x="241" y="75"/>
                </a:lnTo>
                <a:lnTo>
                  <a:pt x="241" y="75"/>
                </a:lnTo>
                <a:lnTo>
                  <a:pt x="15" y="135"/>
                </a:lnTo>
                <a:lnTo>
                  <a:pt x="0" y="135"/>
                </a:lnTo>
                <a:lnTo>
                  <a:pt x="15" y="120"/>
                </a:lnTo>
                <a:lnTo>
                  <a:pt x="15" y="120"/>
                </a:lnTo>
                <a:lnTo>
                  <a:pt x="241" y="60"/>
                </a:lnTo>
                <a:lnTo>
                  <a:pt x="241" y="60"/>
                </a:lnTo>
                <a:lnTo>
                  <a:pt x="241" y="75"/>
                </a:lnTo>
                <a:lnTo>
                  <a:pt x="15" y="15"/>
                </a:lnTo>
                <a:lnTo>
                  <a:pt x="15" y="0"/>
                </a:lnTo>
                <a:lnTo>
                  <a:pt x="30" y="0"/>
                </a:lnTo>
                <a:lnTo>
                  <a:pt x="61" y="60"/>
                </a:lnTo>
                <a:lnTo>
                  <a:pt x="45" y="6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65320" y="3517920"/>
            <a:ext cx="73080" cy="95400"/>
          </a:xfrm>
          <a:custGeom>
            <a:avLst/>
            <a:gdLst/>
            <a:ahLst/>
            <a:rect l="l" t="t" r="r" b="b"/>
            <a:pathLst>
              <a:path w="46" h="60">
                <a:moveTo>
                  <a:pt x="0" y="60"/>
                </a:moveTo>
                <a:lnTo>
                  <a:pt x="3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5320" y="3422520"/>
            <a:ext cx="406440" cy="190800"/>
          </a:xfrm>
          <a:custGeom>
            <a:avLst/>
            <a:gdLst/>
            <a:ahLst/>
            <a:rect l="l" t="t" r="r" b="b"/>
            <a:pathLst>
              <a:path w="226" h="120">
                <a:moveTo>
                  <a:pt x="30" y="60"/>
                </a:moveTo>
                <a:lnTo>
                  <a:pt x="0" y="0"/>
                </a:lnTo>
                <a:lnTo>
                  <a:pt x="226" y="60"/>
                </a:lnTo>
                <a:lnTo>
                  <a:pt x="0" y="120"/>
                </a:lnTo>
                <a:lnTo>
                  <a:pt x="30" y="6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4280" y="3494160"/>
            <a:ext cx="25560" cy="47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65320" y="3494160"/>
            <a:ext cx="24120" cy="47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79840" y="3494160"/>
            <a:ext cx="285480" cy="47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" y="2897280"/>
            <a:ext cx="2345040" cy="237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4280" y="2897280"/>
            <a:ext cx="25560" cy="1241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" y="4114800"/>
            <a:ext cx="2319480" cy="23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" y="2897280"/>
            <a:ext cx="24120" cy="12175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58160" y="3379680"/>
            <a:ext cx="213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rmalized coordinat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3040" y="3684600"/>
            <a:ext cx="197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p against the squa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6400" y="2921040"/>
            <a:ext cx="2343240" cy="237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05880" y="2921040"/>
            <a:ext cx="23760" cy="1241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86400" y="4138560"/>
            <a:ext cx="2319480" cy="237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86400" y="2921040"/>
            <a:ext cx="23760" cy="1217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79960" y="3494160"/>
            <a:ext cx="47880" cy="475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5620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15"/>
                </a:lnTo>
                <a:lnTo>
                  <a:pt x="15" y="30"/>
                </a:lnTo>
                <a:lnTo>
                  <a:pt x="30" y="15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04080" y="3398760"/>
            <a:ext cx="382320" cy="238320"/>
          </a:xfrm>
          <a:custGeom>
            <a:avLst/>
            <a:gdLst/>
            <a:ahLst/>
            <a:rect l="l" t="t" r="r" b="b"/>
            <a:pathLst>
              <a:path w="271" h="150">
                <a:moveTo>
                  <a:pt x="15" y="7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26" y="60"/>
                </a:lnTo>
                <a:lnTo>
                  <a:pt x="271" y="60"/>
                </a:lnTo>
                <a:lnTo>
                  <a:pt x="226" y="75"/>
                </a:lnTo>
                <a:lnTo>
                  <a:pt x="0" y="150"/>
                </a:lnTo>
                <a:lnTo>
                  <a:pt x="0" y="150"/>
                </a:lnTo>
                <a:lnTo>
                  <a:pt x="0" y="135"/>
                </a:lnTo>
                <a:lnTo>
                  <a:pt x="0" y="135"/>
                </a:lnTo>
                <a:lnTo>
                  <a:pt x="226" y="60"/>
                </a:lnTo>
                <a:lnTo>
                  <a:pt x="226" y="75"/>
                </a:lnTo>
                <a:lnTo>
                  <a:pt x="226" y="75"/>
                </a:lnTo>
                <a:lnTo>
                  <a:pt x="0" y="15"/>
                </a:lnTo>
                <a:lnTo>
                  <a:pt x="0" y="0"/>
                </a:lnTo>
                <a:lnTo>
                  <a:pt x="15" y="0"/>
                </a:lnTo>
                <a:lnTo>
                  <a:pt x="30" y="7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3517920"/>
            <a:ext cx="47520" cy="95400"/>
          </a:xfrm>
          <a:custGeom>
            <a:avLst/>
            <a:gdLst/>
            <a:ahLst/>
            <a:rect l="l" t="t" r="r" b="b"/>
            <a:pathLst>
              <a:path w="30" h="60">
                <a:moveTo>
                  <a:pt x="0" y="60"/>
                </a:moveTo>
                <a:lnTo>
                  <a:pt x="15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4080" y="3398760"/>
            <a:ext cx="387360" cy="214560"/>
          </a:xfrm>
          <a:custGeom>
            <a:avLst/>
            <a:gdLst/>
            <a:ahLst/>
            <a:rect l="l" t="t" r="r" b="b"/>
            <a:pathLst>
              <a:path w="226" h="135">
                <a:moveTo>
                  <a:pt x="15" y="75"/>
                </a:moveTo>
                <a:lnTo>
                  <a:pt x="0" y="0"/>
                </a:lnTo>
                <a:lnTo>
                  <a:pt x="226" y="60"/>
                </a:lnTo>
                <a:lnTo>
                  <a:pt x="0" y="13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68920" y="3494160"/>
            <a:ext cx="23760" cy="475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79960" y="3494160"/>
            <a:ext cx="24120" cy="47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2680" y="3494160"/>
            <a:ext cx="287280" cy="47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22440" y="1012680"/>
            <a:ext cx="7916760" cy="1719360"/>
            <a:chOff x="622440" y="1012680"/>
            <a:chExt cx="7916760" cy="1719360"/>
          </a:xfrm>
        </p:grpSpPr>
        <p:sp>
          <p:nvSpPr>
            <p:cNvPr id="157" name=""/>
            <p:cNvSpPr/>
            <p:nvPr/>
          </p:nvSpPr>
          <p:spPr>
            <a:xfrm>
              <a:off x="3373560" y="1776240"/>
              <a:ext cx="741240" cy="71748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3560" y="1776240"/>
              <a:ext cx="765000" cy="237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1776240"/>
              <a:ext cx="23760" cy="74124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73560" y="2493720"/>
              <a:ext cx="741240" cy="2376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73560" y="1776240"/>
              <a:ext cx="23760" cy="71748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17960" y="1226880"/>
              <a:ext cx="311040" cy="430200"/>
            </a:xfrm>
            <a:custGeom>
              <a:avLst/>
              <a:gdLst/>
              <a:ahLst/>
              <a:rect l="l" t="t" r="r" b="b"/>
              <a:pathLst>
                <a:path w="196" h="271">
                  <a:moveTo>
                    <a:pt x="136" y="91"/>
                  </a:moveTo>
                  <a:lnTo>
                    <a:pt x="61" y="15"/>
                  </a:lnTo>
                  <a:lnTo>
                    <a:pt x="0" y="0"/>
                  </a:lnTo>
                  <a:lnTo>
                    <a:pt x="15" y="61"/>
                  </a:lnTo>
                  <a:lnTo>
                    <a:pt x="76" y="166"/>
                  </a:lnTo>
                  <a:lnTo>
                    <a:pt x="151" y="256"/>
                  </a:lnTo>
                  <a:lnTo>
                    <a:pt x="196" y="271"/>
                  </a:lnTo>
                  <a:lnTo>
                    <a:pt x="196" y="196"/>
                  </a:lnTo>
                  <a:lnTo>
                    <a:pt x="136" y="91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17960" y="1226880"/>
              <a:ext cx="335160" cy="45396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36" y="106"/>
                  </a:move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91" y="166"/>
                  </a:lnTo>
                  <a:lnTo>
                    <a:pt x="91" y="166"/>
                  </a:lnTo>
                  <a:lnTo>
                    <a:pt x="91" y="166"/>
                  </a:lnTo>
                  <a:lnTo>
                    <a:pt x="166" y="256"/>
                  </a:lnTo>
                  <a:lnTo>
                    <a:pt x="151" y="256"/>
                  </a:lnTo>
                  <a:lnTo>
                    <a:pt x="151" y="256"/>
                  </a:lnTo>
                  <a:lnTo>
                    <a:pt x="196" y="271"/>
                  </a:lnTo>
                  <a:lnTo>
                    <a:pt x="196" y="271"/>
                  </a:lnTo>
                  <a:lnTo>
                    <a:pt x="196" y="271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36" y="91"/>
                  </a:lnTo>
                  <a:lnTo>
                    <a:pt x="136" y="91"/>
                  </a:lnTo>
                  <a:lnTo>
                    <a:pt x="151" y="91"/>
                  </a:lnTo>
                  <a:lnTo>
                    <a:pt x="151" y="91"/>
                  </a:lnTo>
                  <a:lnTo>
                    <a:pt x="211" y="196"/>
                  </a:lnTo>
                  <a:lnTo>
                    <a:pt x="211" y="196"/>
                  </a:lnTo>
                  <a:lnTo>
                    <a:pt x="211" y="196"/>
                  </a:lnTo>
                  <a:lnTo>
                    <a:pt x="211" y="271"/>
                  </a:lnTo>
                  <a:lnTo>
                    <a:pt x="211" y="271"/>
                  </a:lnTo>
                  <a:lnTo>
                    <a:pt x="196" y="286"/>
                  </a:lnTo>
                  <a:lnTo>
                    <a:pt x="151" y="271"/>
                  </a:lnTo>
                  <a:lnTo>
                    <a:pt x="151" y="271"/>
                  </a:lnTo>
                  <a:lnTo>
                    <a:pt x="151" y="271"/>
                  </a:lnTo>
                  <a:lnTo>
                    <a:pt x="76" y="181"/>
                  </a:lnTo>
                  <a:lnTo>
                    <a:pt x="76" y="181"/>
                  </a:lnTo>
                  <a:lnTo>
                    <a:pt x="76" y="16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76" y="15"/>
                  </a:lnTo>
                  <a:lnTo>
                    <a:pt x="151" y="91"/>
                  </a:lnTo>
                  <a:lnTo>
                    <a:pt x="136" y="10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3960" y="137124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360" y="1203120"/>
              <a:ext cx="860760" cy="1170000"/>
            </a:xfrm>
            <a:custGeom>
              <a:avLst/>
              <a:gdLst/>
              <a:ahLst/>
              <a:rect l="l" t="t" r="r" b="b"/>
              <a:pathLst>
                <a:path w="542" h="737">
                  <a:moveTo>
                    <a:pt x="0" y="737"/>
                  </a:moveTo>
                  <a:lnTo>
                    <a:pt x="331" y="15"/>
                  </a:lnTo>
                  <a:lnTo>
                    <a:pt x="331" y="0"/>
                  </a:lnTo>
                  <a:lnTo>
                    <a:pt x="346" y="15"/>
                  </a:lnTo>
                  <a:lnTo>
                    <a:pt x="542" y="286"/>
                  </a:lnTo>
                  <a:lnTo>
                    <a:pt x="542" y="301"/>
                  </a:lnTo>
                  <a:lnTo>
                    <a:pt x="542" y="301"/>
                  </a:lnTo>
                  <a:lnTo>
                    <a:pt x="527" y="301"/>
                  </a:lnTo>
                  <a:lnTo>
                    <a:pt x="331" y="30"/>
                  </a:lnTo>
                  <a:lnTo>
                    <a:pt x="346" y="15"/>
                  </a:lnTo>
                  <a:lnTo>
                    <a:pt x="346" y="15"/>
                  </a:lnTo>
                  <a:lnTo>
                    <a:pt x="15" y="737"/>
                  </a:lnTo>
                  <a:lnTo>
                    <a:pt x="0" y="737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360" y="1657080"/>
              <a:ext cx="860760" cy="741600"/>
            </a:xfrm>
            <a:custGeom>
              <a:avLst/>
              <a:gdLst/>
              <a:ahLst/>
              <a:rect l="l" t="t" r="r" b="b"/>
              <a:pathLst>
                <a:path w="542" h="467">
                  <a:moveTo>
                    <a:pt x="542" y="15"/>
                  </a:moveTo>
                  <a:lnTo>
                    <a:pt x="15" y="467"/>
                  </a:lnTo>
                  <a:lnTo>
                    <a:pt x="0" y="451"/>
                  </a:lnTo>
                  <a:lnTo>
                    <a:pt x="15" y="451"/>
                  </a:lnTo>
                  <a:lnTo>
                    <a:pt x="0" y="451"/>
                  </a:lnTo>
                  <a:lnTo>
                    <a:pt x="527" y="0"/>
                  </a:lnTo>
                  <a:lnTo>
                    <a:pt x="542" y="15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17960" y="1226880"/>
              <a:ext cx="335160" cy="430200"/>
            </a:xfrm>
            <a:custGeom>
              <a:avLst/>
              <a:gdLst/>
              <a:ahLst/>
              <a:rect l="l" t="t" r="r" b="b"/>
              <a:pathLst>
                <a:path w="211" h="271">
                  <a:moveTo>
                    <a:pt x="0" y="15"/>
                  </a:moveTo>
                  <a:lnTo>
                    <a:pt x="15" y="0"/>
                  </a:lnTo>
                  <a:lnTo>
                    <a:pt x="211" y="256"/>
                  </a:lnTo>
                  <a:lnTo>
                    <a:pt x="181" y="271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7960" y="1203120"/>
              <a:ext cx="382680" cy="477720"/>
            </a:xfrm>
            <a:custGeom>
              <a:avLst/>
              <a:gdLst/>
              <a:ahLst/>
              <a:rect l="l" t="t" r="r" b="b"/>
              <a:pathLst>
                <a:path w="241" h="301">
                  <a:moveTo>
                    <a:pt x="0" y="30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31" y="15"/>
                  </a:lnTo>
                  <a:lnTo>
                    <a:pt x="226" y="271"/>
                  </a:lnTo>
                  <a:lnTo>
                    <a:pt x="241" y="271"/>
                  </a:lnTo>
                  <a:lnTo>
                    <a:pt x="211" y="286"/>
                  </a:lnTo>
                  <a:lnTo>
                    <a:pt x="181" y="301"/>
                  </a:lnTo>
                  <a:lnTo>
                    <a:pt x="181" y="301"/>
                  </a:lnTo>
                  <a:lnTo>
                    <a:pt x="181" y="301"/>
                  </a:lnTo>
                  <a:lnTo>
                    <a:pt x="181" y="286"/>
                  </a:lnTo>
                  <a:lnTo>
                    <a:pt x="211" y="271"/>
                  </a:lnTo>
                  <a:lnTo>
                    <a:pt x="211" y="286"/>
                  </a:lnTo>
                  <a:lnTo>
                    <a:pt x="211" y="286"/>
                  </a:lnTo>
                  <a:lnTo>
                    <a:pt x="15" y="30"/>
                  </a:lnTo>
                  <a:lnTo>
                    <a:pt x="31" y="15"/>
                  </a:lnTo>
                  <a:lnTo>
                    <a:pt x="31" y="30"/>
                  </a:lnTo>
                  <a:lnTo>
                    <a:pt x="15" y="45"/>
                  </a:lnTo>
                  <a:lnTo>
                    <a:pt x="0" y="3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17960" y="1250640"/>
              <a:ext cx="311040" cy="430200"/>
            </a:xfrm>
            <a:custGeom>
              <a:avLst/>
              <a:gdLst/>
              <a:ahLst/>
              <a:rect l="l" t="t" r="r" b="b"/>
              <a:pathLst>
                <a:path w="196" h="271">
                  <a:moveTo>
                    <a:pt x="181" y="271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96" y="256"/>
                  </a:lnTo>
                  <a:lnTo>
                    <a:pt x="181" y="271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9800" y="1179360"/>
              <a:ext cx="979200" cy="57312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9800" y="1179360"/>
              <a:ext cx="1003320" cy="2376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29000" y="1179360"/>
              <a:ext cx="24120" cy="59688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9800" y="1752480"/>
              <a:ext cx="979200" cy="2376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49800" y="1179360"/>
              <a:ext cx="23760" cy="57312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38560" y="1514160"/>
              <a:ext cx="979560" cy="5256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38560" y="1514160"/>
              <a:ext cx="1005120" cy="2376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18120" y="1514160"/>
              <a:ext cx="25560" cy="54936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38560" y="2039760"/>
              <a:ext cx="979560" cy="2376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38560" y="1514160"/>
              <a:ext cx="23760" cy="5256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69080" y="1800000"/>
              <a:ext cx="741240" cy="4302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9080" y="1800000"/>
              <a:ext cx="765360" cy="2376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0320" y="1800000"/>
              <a:ext cx="24120" cy="45396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69080" y="2230200"/>
              <a:ext cx="741240" cy="2376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69080" y="1800000"/>
              <a:ext cx="23760" cy="43020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15280" y="1466640"/>
              <a:ext cx="311040" cy="262080"/>
            </a:xfrm>
            <a:custGeom>
              <a:avLst/>
              <a:gdLst/>
              <a:ahLst/>
              <a:rect l="l" t="t" r="r" b="b"/>
              <a:pathLst>
                <a:path w="196" h="165">
                  <a:moveTo>
                    <a:pt x="135" y="60"/>
                  </a:moveTo>
                  <a:lnTo>
                    <a:pt x="45" y="15"/>
                  </a:lnTo>
                  <a:lnTo>
                    <a:pt x="0" y="0"/>
                  </a:lnTo>
                  <a:lnTo>
                    <a:pt x="15" y="45"/>
                  </a:lnTo>
                  <a:lnTo>
                    <a:pt x="75" y="105"/>
                  </a:lnTo>
                  <a:lnTo>
                    <a:pt x="151" y="150"/>
                  </a:lnTo>
                  <a:lnTo>
                    <a:pt x="196" y="165"/>
                  </a:lnTo>
                  <a:lnTo>
                    <a:pt x="196" y="120"/>
                  </a:lnTo>
                  <a:lnTo>
                    <a:pt x="135" y="60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15280" y="1466640"/>
              <a:ext cx="334800" cy="28584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135" y="75"/>
                  </a:moveTo>
                  <a:lnTo>
                    <a:pt x="45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166" y="150"/>
                  </a:lnTo>
                  <a:lnTo>
                    <a:pt x="151" y="150"/>
                  </a:lnTo>
                  <a:lnTo>
                    <a:pt x="151" y="150"/>
                  </a:lnTo>
                  <a:lnTo>
                    <a:pt x="196" y="165"/>
                  </a:lnTo>
                  <a:lnTo>
                    <a:pt x="196" y="165"/>
                  </a:lnTo>
                  <a:lnTo>
                    <a:pt x="196" y="165"/>
                  </a:lnTo>
                  <a:lnTo>
                    <a:pt x="196" y="120"/>
                  </a:lnTo>
                  <a:lnTo>
                    <a:pt x="196" y="135"/>
                  </a:lnTo>
                  <a:lnTo>
                    <a:pt x="196" y="135"/>
                  </a:lnTo>
                  <a:lnTo>
                    <a:pt x="135" y="75"/>
                  </a:lnTo>
                  <a:lnTo>
                    <a:pt x="135" y="75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211" y="120"/>
                  </a:lnTo>
                  <a:lnTo>
                    <a:pt x="211" y="120"/>
                  </a:lnTo>
                  <a:lnTo>
                    <a:pt x="211" y="120"/>
                  </a:lnTo>
                  <a:lnTo>
                    <a:pt x="211" y="165"/>
                  </a:lnTo>
                  <a:lnTo>
                    <a:pt x="211" y="165"/>
                  </a:lnTo>
                  <a:lnTo>
                    <a:pt x="196" y="180"/>
                  </a:lnTo>
                  <a:lnTo>
                    <a:pt x="151" y="165"/>
                  </a:lnTo>
                  <a:lnTo>
                    <a:pt x="151" y="165"/>
                  </a:lnTo>
                  <a:lnTo>
                    <a:pt x="151" y="165"/>
                  </a:lnTo>
                  <a:lnTo>
                    <a:pt x="75" y="120"/>
                  </a:lnTo>
                  <a:lnTo>
                    <a:pt x="75" y="120"/>
                  </a:lnTo>
                  <a:lnTo>
                    <a:pt x="75" y="12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4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135" y="60"/>
                  </a:lnTo>
                  <a:lnTo>
                    <a:pt x="135" y="75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9480" y="1562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8240" y="1442880"/>
              <a:ext cx="885600" cy="716040"/>
            </a:xfrm>
            <a:custGeom>
              <a:avLst/>
              <a:gdLst/>
              <a:ahLst/>
              <a:rect l="l" t="t" r="r" b="b"/>
              <a:pathLst>
                <a:path w="558" h="451">
                  <a:moveTo>
                    <a:pt x="0" y="436"/>
                  </a:moveTo>
                  <a:lnTo>
                    <a:pt x="332" y="15"/>
                  </a:lnTo>
                  <a:lnTo>
                    <a:pt x="332" y="0"/>
                  </a:lnTo>
                  <a:lnTo>
                    <a:pt x="347" y="15"/>
                  </a:lnTo>
                  <a:lnTo>
                    <a:pt x="543" y="180"/>
                  </a:lnTo>
                  <a:lnTo>
                    <a:pt x="558" y="180"/>
                  </a:lnTo>
                  <a:lnTo>
                    <a:pt x="528" y="195"/>
                  </a:lnTo>
                  <a:lnTo>
                    <a:pt x="528" y="195"/>
                  </a:lnTo>
                  <a:lnTo>
                    <a:pt x="332" y="30"/>
                  </a:lnTo>
                  <a:lnTo>
                    <a:pt x="347" y="15"/>
                  </a:lnTo>
                  <a:lnTo>
                    <a:pt x="347" y="30"/>
                  </a:lnTo>
                  <a:lnTo>
                    <a:pt x="15" y="451"/>
                  </a:lnTo>
                  <a:lnTo>
                    <a:pt x="0" y="436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88240" y="1728720"/>
              <a:ext cx="838080" cy="430200"/>
            </a:xfrm>
            <a:custGeom>
              <a:avLst/>
              <a:gdLst/>
              <a:ahLst/>
              <a:rect l="l" t="t" r="r" b="b"/>
              <a:pathLst>
                <a:path w="528" h="271">
                  <a:moveTo>
                    <a:pt x="528" y="15"/>
                  </a:moveTo>
                  <a:lnTo>
                    <a:pt x="0" y="271"/>
                  </a:lnTo>
                  <a:lnTo>
                    <a:pt x="0" y="256"/>
                  </a:lnTo>
                  <a:lnTo>
                    <a:pt x="15" y="271"/>
                  </a:lnTo>
                  <a:lnTo>
                    <a:pt x="0" y="256"/>
                  </a:lnTo>
                  <a:lnTo>
                    <a:pt x="528" y="0"/>
                  </a:lnTo>
                  <a:lnTo>
                    <a:pt x="528" y="15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15280" y="1466640"/>
              <a:ext cx="334800" cy="262080"/>
            </a:xfrm>
            <a:custGeom>
              <a:avLst/>
              <a:gdLst/>
              <a:ahLst/>
              <a:rect l="l" t="t" r="r" b="b"/>
              <a:pathLst>
                <a:path w="211" h="165">
                  <a:moveTo>
                    <a:pt x="0" y="15"/>
                  </a:moveTo>
                  <a:lnTo>
                    <a:pt x="15" y="0"/>
                  </a:lnTo>
                  <a:lnTo>
                    <a:pt x="211" y="150"/>
                  </a:lnTo>
                  <a:lnTo>
                    <a:pt x="181" y="165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15280" y="1466640"/>
              <a:ext cx="382680" cy="285840"/>
            </a:xfrm>
            <a:custGeom>
              <a:avLst/>
              <a:gdLst/>
              <a:ahLst/>
              <a:rect l="l" t="t" r="r" b="b"/>
              <a:pathLst>
                <a:path w="241" h="180">
                  <a:moveTo>
                    <a:pt x="0" y="15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6" y="150"/>
                  </a:lnTo>
                  <a:lnTo>
                    <a:pt x="241" y="150"/>
                  </a:lnTo>
                  <a:lnTo>
                    <a:pt x="211" y="165"/>
                  </a:lnTo>
                  <a:lnTo>
                    <a:pt x="181" y="180"/>
                  </a:lnTo>
                  <a:lnTo>
                    <a:pt x="181" y="180"/>
                  </a:lnTo>
                  <a:lnTo>
                    <a:pt x="181" y="180"/>
                  </a:lnTo>
                  <a:lnTo>
                    <a:pt x="181" y="165"/>
                  </a:lnTo>
                  <a:lnTo>
                    <a:pt x="211" y="150"/>
                  </a:lnTo>
                  <a:lnTo>
                    <a:pt x="211" y="165"/>
                  </a:lnTo>
                  <a:lnTo>
                    <a:pt x="211" y="165"/>
                  </a:lnTo>
                  <a:lnTo>
                    <a:pt x="15" y="15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520" y="1490400"/>
              <a:ext cx="334800" cy="262080"/>
            </a:xfrm>
            <a:custGeom>
              <a:avLst/>
              <a:gdLst/>
              <a:ahLst/>
              <a:rect l="l" t="t" r="r" b="b"/>
              <a:pathLst>
                <a:path w="211" h="165">
                  <a:moveTo>
                    <a:pt x="196" y="165"/>
                  </a:moveTo>
                  <a:lnTo>
                    <a:pt x="15" y="15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11" y="150"/>
                  </a:lnTo>
                  <a:lnTo>
                    <a:pt x="196" y="165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2000" y="1466640"/>
              <a:ext cx="957240" cy="30960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12000" y="1466640"/>
              <a:ext cx="981000" cy="2376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69240" y="1466640"/>
              <a:ext cx="23760" cy="33336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12000" y="1776240"/>
              <a:ext cx="957240" cy="2376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12000" y="1466640"/>
              <a:ext cx="25560" cy="30960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34440" y="1657080"/>
              <a:ext cx="981000" cy="31104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4440" y="1657080"/>
              <a:ext cx="1004760" cy="2376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15440" y="1657080"/>
              <a:ext cx="23760" cy="33516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4440" y="1968120"/>
              <a:ext cx="981000" cy="2412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4440" y="1657080"/>
              <a:ext cx="23760" cy="31104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9960" y="1920600"/>
              <a:ext cx="1028520" cy="73980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9960" y="1920600"/>
              <a:ext cx="1052640" cy="2376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98480" y="1920600"/>
              <a:ext cx="24120" cy="76356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9960" y="2660400"/>
              <a:ext cx="1028520" cy="2376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9960" y="1920600"/>
              <a:ext cx="23760" cy="73980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10520" y="1776240"/>
              <a:ext cx="23760" cy="4752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15120" y="1514160"/>
              <a:ext cx="190440" cy="285840"/>
            </a:xfrm>
            <a:custGeom>
              <a:avLst/>
              <a:gdLst/>
              <a:ahLst/>
              <a:rect l="l" t="t" r="r" b="b"/>
              <a:pathLst>
                <a:path w="120" h="180">
                  <a:moveTo>
                    <a:pt x="60" y="165"/>
                  </a:moveTo>
                  <a:lnTo>
                    <a:pt x="0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6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05" y="180"/>
                  </a:lnTo>
                  <a:lnTo>
                    <a:pt x="105" y="180"/>
                  </a:lnTo>
                  <a:lnTo>
                    <a:pt x="6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15" y="180"/>
                  </a:lnTo>
                  <a:lnTo>
                    <a:pt x="0" y="180"/>
                  </a:lnTo>
                  <a:lnTo>
                    <a:pt x="0" y="165"/>
                  </a:lnTo>
                  <a:lnTo>
                    <a:pt x="60" y="150"/>
                  </a:lnTo>
                  <a:lnTo>
                    <a:pt x="60" y="165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10520" y="1752480"/>
              <a:ext cx="7128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3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15"/>
                  </a:lnTo>
                  <a:lnTo>
                    <a:pt x="45" y="30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15120" y="1514160"/>
              <a:ext cx="166680" cy="285840"/>
            </a:xfrm>
            <a:custGeom>
              <a:avLst/>
              <a:gdLst/>
              <a:ahLst/>
              <a:rect l="l" t="t" r="r" b="b"/>
              <a:pathLst>
                <a:path w="105" h="180">
                  <a:moveTo>
                    <a:pt x="60" y="165"/>
                  </a:moveTo>
                  <a:lnTo>
                    <a:pt x="0" y="180"/>
                  </a:lnTo>
                  <a:lnTo>
                    <a:pt x="60" y="0"/>
                  </a:lnTo>
                  <a:lnTo>
                    <a:pt x="105" y="180"/>
                  </a:lnTo>
                  <a:lnTo>
                    <a:pt x="60" y="165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0520" y="1823760"/>
              <a:ext cx="23760" cy="86040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58200" y="2517480"/>
              <a:ext cx="47520" cy="2376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81960" y="2446200"/>
              <a:ext cx="358920" cy="190440"/>
            </a:xfrm>
            <a:custGeom>
              <a:avLst/>
              <a:gdLst/>
              <a:ahLst/>
              <a:rect l="l" t="t" r="r" b="b"/>
              <a:pathLst>
                <a:path w="226" h="120">
                  <a:moveTo>
                    <a:pt x="15" y="4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1" y="45"/>
                  </a:lnTo>
                  <a:lnTo>
                    <a:pt x="226" y="45"/>
                  </a:lnTo>
                  <a:lnTo>
                    <a:pt x="181" y="6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1" y="45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45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81960" y="251748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0" y="60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60"/>
                  </a:lnTo>
                  <a:lnTo>
                    <a:pt x="0" y="60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81960" y="2446200"/>
              <a:ext cx="28728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15" y="45"/>
                  </a:moveTo>
                  <a:lnTo>
                    <a:pt x="0" y="0"/>
                  </a:lnTo>
                  <a:lnTo>
                    <a:pt x="181" y="45"/>
                  </a:lnTo>
                  <a:lnTo>
                    <a:pt x="0" y="105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3840" y="2517480"/>
              <a:ext cx="1314360" cy="2376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0520" y="1609560"/>
              <a:ext cx="1339560" cy="931680"/>
            </a:xfrm>
            <a:custGeom>
              <a:avLst/>
              <a:gdLst/>
              <a:ahLst/>
              <a:rect l="l" t="t" r="r" b="b"/>
              <a:pathLst>
                <a:path w="844" h="587">
                  <a:moveTo>
                    <a:pt x="271" y="15"/>
                  </a:moveTo>
                  <a:lnTo>
                    <a:pt x="166" y="30"/>
                  </a:lnTo>
                  <a:lnTo>
                    <a:pt x="181" y="30"/>
                  </a:lnTo>
                  <a:lnTo>
                    <a:pt x="181" y="3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30" y="181"/>
                  </a:lnTo>
                  <a:lnTo>
                    <a:pt x="30" y="166"/>
                  </a:lnTo>
                  <a:lnTo>
                    <a:pt x="30" y="166"/>
                  </a:lnTo>
                  <a:lnTo>
                    <a:pt x="15" y="271"/>
                  </a:lnTo>
                  <a:lnTo>
                    <a:pt x="15" y="271"/>
                  </a:lnTo>
                  <a:lnTo>
                    <a:pt x="15" y="271"/>
                  </a:lnTo>
                  <a:lnTo>
                    <a:pt x="15" y="286"/>
                  </a:lnTo>
                  <a:lnTo>
                    <a:pt x="15" y="286"/>
                  </a:lnTo>
                  <a:lnTo>
                    <a:pt x="15" y="286"/>
                  </a:lnTo>
                  <a:lnTo>
                    <a:pt x="15" y="301"/>
                  </a:lnTo>
                  <a:lnTo>
                    <a:pt x="15" y="301"/>
                  </a:lnTo>
                  <a:lnTo>
                    <a:pt x="15" y="301"/>
                  </a:lnTo>
                  <a:lnTo>
                    <a:pt x="30" y="406"/>
                  </a:lnTo>
                  <a:lnTo>
                    <a:pt x="30" y="406"/>
                  </a:lnTo>
                  <a:lnTo>
                    <a:pt x="30" y="406"/>
                  </a:lnTo>
                  <a:lnTo>
                    <a:pt x="90" y="497"/>
                  </a:lnTo>
                  <a:lnTo>
                    <a:pt x="90" y="497"/>
                  </a:lnTo>
                  <a:lnTo>
                    <a:pt x="90" y="497"/>
                  </a:lnTo>
                  <a:lnTo>
                    <a:pt x="181" y="557"/>
                  </a:lnTo>
                  <a:lnTo>
                    <a:pt x="166" y="557"/>
                  </a:lnTo>
                  <a:lnTo>
                    <a:pt x="166" y="557"/>
                  </a:lnTo>
                  <a:lnTo>
                    <a:pt x="271" y="572"/>
                  </a:lnTo>
                  <a:lnTo>
                    <a:pt x="271" y="572"/>
                  </a:lnTo>
                  <a:lnTo>
                    <a:pt x="271" y="572"/>
                  </a:lnTo>
                  <a:lnTo>
                    <a:pt x="407" y="572"/>
                  </a:lnTo>
                  <a:lnTo>
                    <a:pt x="407" y="572"/>
                  </a:lnTo>
                  <a:lnTo>
                    <a:pt x="407" y="572"/>
                  </a:lnTo>
                  <a:lnTo>
                    <a:pt x="558" y="572"/>
                  </a:lnTo>
                  <a:lnTo>
                    <a:pt x="558" y="572"/>
                  </a:lnTo>
                  <a:lnTo>
                    <a:pt x="558" y="572"/>
                  </a:lnTo>
                  <a:lnTo>
                    <a:pt x="663" y="557"/>
                  </a:lnTo>
                  <a:lnTo>
                    <a:pt x="663" y="557"/>
                  </a:lnTo>
                  <a:lnTo>
                    <a:pt x="663" y="557"/>
                  </a:lnTo>
                  <a:lnTo>
                    <a:pt x="738" y="497"/>
                  </a:lnTo>
                  <a:lnTo>
                    <a:pt x="738" y="497"/>
                  </a:lnTo>
                  <a:lnTo>
                    <a:pt x="738" y="497"/>
                  </a:lnTo>
                  <a:lnTo>
                    <a:pt x="799" y="406"/>
                  </a:lnTo>
                  <a:lnTo>
                    <a:pt x="799" y="406"/>
                  </a:lnTo>
                  <a:lnTo>
                    <a:pt x="799" y="406"/>
                  </a:lnTo>
                  <a:lnTo>
                    <a:pt x="829" y="301"/>
                  </a:lnTo>
                  <a:lnTo>
                    <a:pt x="829" y="301"/>
                  </a:lnTo>
                  <a:lnTo>
                    <a:pt x="829" y="301"/>
                  </a:lnTo>
                  <a:lnTo>
                    <a:pt x="829" y="286"/>
                  </a:lnTo>
                  <a:lnTo>
                    <a:pt x="829" y="286"/>
                  </a:lnTo>
                  <a:lnTo>
                    <a:pt x="829" y="286"/>
                  </a:lnTo>
                  <a:lnTo>
                    <a:pt x="829" y="271"/>
                  </a:lnTo>
                  <a:lnTo>
                    <a:pt x="829" y="271"/>
                  </a:lnTo>
                  <a:lnTo>
                    <a:pt x="829" y="271"/>
                  </a:lnTo>
                  <a:lnTo>
                    <a:pt x="799" y="166"/>
                  </a:lnTo>
                  <a:lnTo>
                    <a:pt x="799" y="181"/>
                  </a:lnTo>
                  <a:lnTo>
                    <a:pt x="799" y="181"/>
                  </a:lnTo>
                  <a:lnTo>
                    <a:pt x="738" y="90"/>
                  </a:lnTo>
                  <a:lnTo>
                    <a:pt x="738" y="90"/>
                  </a:lnTo>
                  <a:lnTo>
                    <a:pt x="738" y="90"/>
                  </a:lnTo>
                  <a:lnTo>
                    <a:pt x="663" y="30"/>
                  </a:lnTo>
                  <a:lnTo>
                    <a:pt x="663" y="30"/>
                  </a:lnTo>
                  <a:lnTo>
                    <a:pt x="663" y="30"/>
                  </a:lnTo>
                  <a:lnTo>
                    <a:pt x="558" y="15"/>
                  </a:lnTo>
                  <a:lnTo>
                    <a:pt x="558" y="15"/>
                  </a:lnTo>
                  <a:lnTo>
                    <a:pt x="558" y="15"/>
                  </a:lnTo>
                  <a:lnTo>
                    <a:pt x="407" y="15"/>
                  </a:lnTo>
                  <a:lnTo>
                    <a:pt x="407" y="15"/>
                  </a:lnTo>
                  <a:lnTo>
                    <a:pt x="407" y="15"/>
                  </a:lnTo>
                  <a:lnTo>
                    <a:pt x="271" y="15"/>
                  </a:lnTo>
                  <a:lnTo>
                    <a:pt x="271" y="15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407" y="0"/>
                  </a:lnTo>
                  <a:lnTo>
                    <a:pt x="407" y="0"/>
                  </a:lnTo>
                  <a:lnTo>
                    <a:pt x="407" y="0"/>
                  </a:lnTo>
                  <a:lnTo>
                    <a:pt x="558" y="0"/>
                  </a:lnTo>
                  <a:lnTo>
                    <a:pt x="558" y="0"/>
                  </a:lnTo>
                  <a:lnTo>
                    <a:pt x="558" y="0"/>
                  </a:lnTo>
                  <a:lnTo>
                    <a:pt x="663" y="15"/>
                  </a:lnTo>
                  <a:lnTo>
                    <a:pt x="663" y="15"/>
                  </a:lnTo>
                  <a:lnTo>
                    <a:pt x="678" y="15"/>
                  </a:lnTo>
                  <a:lnTo>
                    <a:pt x="753" y="75"/>
                  </a:lnTo>
                  <a:lnTo>
                    <a:pt x="753" y="75"/>
                  </a:lnTo>
                  <a:lnTo>
                    <a:pt x="753" y="75"/>
                  </a:lnTo>
                  <a:lnTo>
                    <a:pt x="814" y="166"/>
                  </a:lnTo>
                  <a:lnTo>
                    <a:pt x="814" y="166"/>
                  </a:lnTo>
                  <a:lnTo>
                    <a:pt x="814" y="166"/>
                  </a:lnTo>
                  <a:lnTo>
                    <a:pt x="844" y="271"/>
                  </a:lnTo>
                  <a:lnTo>
                    <a:pt x="844" y="271"/>
                  </a:lnTo>
                  <a:lnTo>
                    <a:pt x="844" y="271"/>
                  </a:lnTo>
                  <a:lnTo>
                    <a:pt x="844" y="286"/>
                  </a:lnTo>
                  <a:lnTo>
                    <a:pt x="844" y="286"/>
                  </a:lnTo>
                  <a:lnTo>
                    <a:pt x="844" y="286"/>
                  </a:lnTo>
                  <a:lnTo>
                    <a:pt x="844" y="301"/>
                  </a:lnTo>
                  <a:lnTo>
                    <a:pt x="844" y="301"/>
                  </a:lnTo>
                  <a:lnTo>
                    <a:pt x="844" y="301"/>
                  </a:lnTo>
                  <a:lnTo>
                    <a:pt x="814" y="406"/>
                  </a:lnTo>
                  <a:lnTo>
                    <a:pt x="814" y="406"/>
                  </a:lnTo>
                  <a:lnTo>
                    <a:pt x="814" y="421"/>
                  </a:lnTo>
                  <a:lnTo>
                    <a:pt x="753" y="512"/>
                  </a:lnTo>
                  <a:lnTo>
                    <a:pt x="753" y="512"/>
                  </a:lnTo>
                  <a:lnTo>
                    <a:pt x="753" y="512"/>
                  </a:lnTo>
                  <a:lnTo>
                    <a:pt x="678" y="572"/>
                  </a:lnTo>
                  <a:lnTo>
                    <a:pt x="678" y="572"/>
                  </a:lnTo>
                  <a:lnTo>
                    <a:pt x="663" y="572"/>
                  </a:lnTo>
                  <a:lnTo>
                    <a:pt x="558" y="587"/>
                  </a:lnTo>
                  <a:lnTo>
                    <a:pt x="558" y="587"/>
                  </a:lnTo>
                  <a:lnTo>
                    <a:pt x="558" y="587"/>
                  </a:lnTo>
                  <a:lnTo>
                    <a:pt x="407" y="587"/>
                  </a:lnTo>
                  <a:lnTo>
                    <a:pt x="407" y="587"/>
                  </a:lnTo>
                  <a:lnTo>
                    <a:pt x="407" y="587"/>
                  </a:lnTo>
                  <a:lnTo>
                    <a:pt x="271" y="587"/>
                  </a:lnTo>
                  <a:lnTo>
                    <a:pt x="271" y="587"/>
                  </a:lnTo>
                  <a:lnTo>
                    <a:pt x="271" y="587"/>
                  </a:lnTo>
                  <a:lnTo>
                    <a:pt x="166" y="572"/>
                  </a:lnTo>
                  <a:lnTo>
                    <a:pt x="166" y="572"/>
                  </a:lnTo>
                  <a:lnTo>
                    <a:pt x="166" y="572"/>
                  </a:lnTo>
                  <a:lnTo>
                    <a:pt x="75" y="512"/>
                  </a:lnTo>
                  <a:lnTo>
                    <a:pt x="75" y="512"/>
                  </a:lnTo>
                  <a:lnTo>
                    <a:pt x="75" y="512"/>
                  </a:lnTo>
                  <a:lnTo>
                    <a:pt x="15" y="421"/>
                  </a:lnTo>
                  <a:lnTo>
                    <a:pt x="15" y="421"/>
                  </a:lnTo>
                  <a:lnTo>
                    <a:pt x="15" y="406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15" y="166"/>
                  </a:lnTo>
                  <a:lnTo>
                    <a:pt x="15" y="166"/>
                  </a:lnTo>
                  <a:lnTo>
                    <a:pt x="15" y="16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271" y="0"/>
                  </a:lnTo>
                  <a:lnTo>
                    <a:pt x="271" y="15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0720" y="1609560"/>
              <a:ext cx="1440" cy="2376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2880" y="1514160"/>
              <a:ext cx="25200" cy="4788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1240" y="1179360"/>
              <a:ext cx="192240" cy="358560"/>
            </a:xfrm>
            <a:custGeom>
              <a:avLst/>
              <a:gdLst/>
              <a:ahLst/>
              <a:rect l="l" t="t" r="r" b="b"/>
              <a:pathLst>
                <a:path w="121" h="226">
                  <a:moveTo>
                    <a:pt x="45" y="211"/>
                  </a:move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45" y="45"/>
                  </a:lnTo>
                  <a:lnTo>
                    <a:pt x="45" y="0"/>
                  </a:lnTo>
                  <a:lnTo>
                    <a:pt x="61" y="45"/>
                  </a:lnTo>
                  <a:lnTo>
                    <a:pt x="121" y="226"/>
                  </a:lnTo>
                  <a:lnTo>
                    <a:pt x="121" y="226"/>
                  </a:lnTo>
                  <a:lnTo>
                    <a:pt x="106" y="226"/>
                  </a:lnTo>
                  <a:lnTo>
                    <a:pt x="106" y="226"/>
                  </a:lnTo>
                  <a:lnTo>
                    <a:pt x="45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15" y="226"/>
                  </a:lnTo>
                  <a:lnTo>
                    <a:pt x="0" y="226"/>
                  </a:lnTo>
                  <a:lnTo>
                    <a:pt x="0" y="211"/>
                  </a:lnTo>
                  <a:lnTo>
                    <a:pt x="45" y="196"/>
                  </a:lnTo>
                  <a:lnTo>
                    <a:pt x="45" y="211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2880" y="149040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3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1" y="15"/>
                  </a:lnTo>
                  <a:lnTo>
                    <a:pt x="61" y="30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1240" y="1250640"/>
              <a:ext cx="168480" cy="28728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45" y="166"/>
                  </a:moveTo>
                  <a:lnTo>
                    <a:pt x="0" y="181"/>
                  </a:lnTo>
                  <a:lnTo>
                    <a:pt x="45" y="0"/>
                  </a:lnTo>
                  <a:lnTo>
                    <a:pt x="106" y="181"/>
                  </a:lnTo>
                  <a:lnTo>
                    <a:pt x="45" y="166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2880" y="2707920"/>
              <a:ext cx="25200" cy="180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2880" y="1562040"/>
              <a:ext cx="25200" cy="144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2880" y="1562040"/>
              <a:ext cx="25200" cy="114588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9040" y="2565360"/>
              <a:ext cx="23760" cy="2376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9040" y="2469960"/>
              <a:ext cx="287280" cy="19044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5" y="6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1" y="60"/>
                  </a:lnTo>
                  <a:lnTo>
                    <a:pt x="181" y="75"/>
                  </a:lnTo>
                  <a:lnTo>
                    <a:pt x="181" y="75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1" y="60"/>
                  </a:lnTo>
                  <a:lnTo>
                    <a:pt x="181" y="75"/>
                  </a:lnTo>
                  <a:lnTo>
                    <a:pt x="181" y="7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60"/>
                  </a:lnTo>
                  <a:lnTo>
                    <a:pt x="15" y="60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29040" y="2565360"/>
              <a:ext cx="47520" cy="7128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45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45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29040" y="2469960"/>
              <a:ext cx="28728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15" y="60"/>
                  </a:moveTo>
                  <a:lnTo>
                    <a:pt x="0" y="0"/>
                  </a:lnTo>
                  <a:lnTo>
                    <a:pt x="181" y="60"/>
                  </a:lnTo>
                  <a:lnTo>
                    <a:pt x="0" y="105"/>
                  </a:lnTo>
                  <a:lnTo>
                    <a:pt x="15" y="60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2440" y="2565360"/>
              <a:ext cx="1506600" cy="2376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2120" y="1514160"/>
              <a:ext cx="23760" cy="4788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5280" y="125064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66"/>
                  </a:moveTo>
                  <a:lnTo>
                    <a:pt x="0" y="181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121" y="181"/>
                  </a:lnTo>
                  <a:lnTo>
                    <a:pt x="121" y="181"/>
                  </a:lnTo>
                  <a:lnTo>
                    <a:pt x="106" y="181"/>
                  </a:lnTo>
                  <a:lnTo>
                    <a:pt x="106" y="181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15" y="181"/>
                  </a:lnTo>
                  <a:lnTo>
                    <a:pt x="0" y="181"/>
                  </a:lnTo>
                  <a:lnTo>
                    <a:pt x="0" y="166"/>
                  </a:lnTo>
                  <a:lnTo>
                    <a:pt x="61" y="151"/>
                  </a:lnTo>
                  <a:lnTo>
                    <a:pt x="61" y="166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32120" y="1490400"/>
              <a:ext cx="7164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3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15"/>
                  </a:lnTo>
                  <a:lnTo>
                    <a:pt x="45" y="30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5280" y="1250640"/>
              <a:ext cx="168480" cy="28728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61" y="166"/>
                  </a:moveTo>
                  <a:lnTo>
                    <a:pt x="0" y="181"/>
                  </a:lnTo>
                  <a:lnTo>
                    <a:pt x="61" y="0"/>
                  </a:lnTo>
                  <a:lnTo>
                    <a:pt x="106" y="181"/>
                  </a:lnTo>
                  <a:lnTo>
                    <a:pt x="61" y="166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2120" y="1562040"/>
              <a:ext cx="23760" cy="144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32120" y="1562040"/>
              <a:ext cx="23760" cy="117000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1240" y="2158920"/>
              <a:ext cx="47520" cy="23760"/>
            </a:xfrm>
            <a:prstGeom prst="rect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45000" y="2087280"/>
              <a:ext cx="28728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15" y="4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1" y="45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81" y="45"/>
                  </a:lnTo>
                  <a:lnTo>
                    <a:pt x="181" y="45"/>
                  </a:lnTo>
                  <a:lnTo>
                    <a:pt x="181" y="6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45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5000" y="2158920"/>
              <a:ext cx="47520" cy="7128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45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45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45000" y="2087280"/>
              <a:ext cx="28728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15" y="45"/>
                  </a:moveTo>
                  <a:lnTo>
                    <a:pt x="0" y="0"/>
                  </a:lnTo>
                  <a:lnTo>
                    <a:pt x="181" y="45"/>
                  </a:lnTo>
                  <a:lnTo>
                    <a:pt x="0" y="90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8400" y="2158920"/>
              <a:ext cx="1800" cy="2376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8400" y="2158920"/>
              <a:ext cx="1482840" cy="2376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34760" y="2398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56440" y="25174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7360" y="1012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57600" y="115560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98600" y="20635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18120" y="2182680"/>
              <a:ext cx="74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normaliz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79280" y="1083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2920" y="1203120"/>
              <a:ext cx="74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normaliz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6400" y="2398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61120" y="251748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devi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90640" y="10364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33920" y="117936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devi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1298520"/>
              <a:ext cx="1219320" cy="1242720"/>
            </a:xfrm>
            <a:custGeom>
              <a:avLst/>
              <a:gdLst/>
              <a:ahLst/>
              <a:rect l="l" t="t" r="r" b="b"/>
              <a:pathLst>
                <a:path w="768" h="783">
                  <a:moveTo>
                    <a:pt x="0" y="768"/>
                  </a:moveTo>
                  <a:lnTo>
                    <a:pt x="482" y="16"/>
                  </a:lnTo>
                  <a:lnTo>
                    <a:pt x="482" y="0"/>
                  </a:lnTo>
                  <a:lnTo>
                    <a:pt x="497" y="16"/>
                  </a:lnTo>
                  <a:lnTo>
                    <a:pt x="768" y="286"/>
                  </a:lnTo>
                  <a:lnTo>
                    <a:pt x="768" y="301"/>
                  </a:lnTo>
                  <a:lnTo>
                    <a:pt x="768" y="301"/>
                  </a:lnTo>
                  <a:lnTo>
                    <a:pt x="753" y="301"/>
                  </a:lnTo>
                  <a:lnTo>
                    <a:pt x="482" y="31"/>
                  </a:lnTo>
                  <a:lnTo>
                    <a:pt x="497" y="16"/>
                  </a:lnTo>
                  <a:lnTo>
                    <a:pt x="497" y="31"/>
                  </a:lnTo>
                  <a:lnTo>
                    <a:pt x="15" y="783"/>
                  </a:lnTo>
                  <a:lnTo>
                    <a:pt x="0" y="768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1752480"/>
              <a:ext cx="1219320" cy="788760"/>
            </a:xfrm>
            <a:custGeom>
              <a:avLst/>
              <a:gdLst/>
              <a:ahLst/>
              <a:rect l="l" t="t" r="r" b="b"/>
              <a:pathLst>
                <a:path w="768" h="497">
                  <a:moveTo>
                    <a:pt x="768" y="15"/>
                  </a:moveTo>
                  <a:lnTo>
                    <a:pt x="15" y="497"/>
                  </a:lnTo>
                  <a:lnTo>
                    <a:pt x="0" y="482"/>
                  </a:lnTo>
                  <a:lnTo>
                    <a:pt x="15" y="497"/>
                  </a:lnTo>
                  <a:lnTo>
                    <a:pt x="0" y="482"/>
                  </a:lnTo>
                  <a:lnTo>
                    <a:pt x="753" y="0"/>
                  </a:lnTo>
                  <a:lnTo>
                    <a:pt x="768" y="15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3440" y="1347480"/>
              <a:ext cx="382680" cy="381240"/>
            </a:xfrm>
            <a:custGeom>
              <a:avLst/>
              <a:gdLst/>
              <a:ahLst/>
              <a:rect l="l" t="t" r="r" b="b"/>
              <a:pathLst>
                <a:path w="241" h="240">
                  <a:moveTo>
                    <a:pt x="0" y="0"/>
                  </a:moveTo>
                  <a:lnTo>
                    <a:pt x="0" y="0"/>
                  </a:lnTo>
                  <a:lnTo>
                    <a:pt x="241" y="240"/>
                  </a:lnTo>
                  <a:lnTo>
                    <a:pt x="241" y="24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3440" y="1323720"/>
              <a:ext cx="406440" cy="405000"/>
            </a:xfrm>
            <a:custGeom>
              <a:avLst/>
              <a:gdLst/>
              <a:ahLst/>
              <a:rect l="l" t="t" r="r" b="b"/>
              <a:pathLst>
                <a:path w="256" h="255">
                  <a:moveTo>
                    <a:pt x="15" y="0"/>
                  </a:moveTo>
                  <a:lnTo>
                    <a:pt x="256" y="240"/>
                  </a:lnTo>
                  <a:lnTo>
                    <a:pt x="241" y="255"/>
                  </a:lnTo>
                  <a:lnTo>
                    <a:pt x="241" y="255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6" y="240"/>
                  </a:lnTo>
                  <a:lnTo>
                    <a:pt x="256" y="240"/>
                  </a:lnTo>
                  <a:lnTo>
                    <a:pt x="241" y="255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89280" y="146664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1840" y="438120"/>
            <a:ext cx="33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The 2D Viewing Pipe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19160" y="4449600"/>
            <a:ext cx="328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2/width, 2/heigh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-ce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rmaliz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60960" y="4486320"/>
            <a:ext cx="193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pp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lipp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54760" y="4414680"/>
            <a:ext cx="326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Ce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With/2, Height/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ev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482760" y="787320"/>
            <a:ext cx="769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 of moving all the objects or moving the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371600"/>
            <a:ext cx="741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light simulator to display the world from the point of view of the pilot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104840" y="1650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80920" y="180504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pilotView{GLdouble planex, GLdouble plane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881280" y="2033640"/>
            <a:ext cx="65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planez, GLdouble roll, GLdouble pitc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890640" y="226224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headin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884520" y="2490840"/>
            <a:ext cx="52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roll, 0.0, 1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884160" y="271944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pitch, 1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83440" y="2949480"/>
            <a:ext cx="56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heading, 0.0, 0.0, 1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80920" y="31780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ranslated(-planex, -planey, -planez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6640" y="3960720"/>
            <a:ext cx="67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biting the camera around an object that’s centered at the origi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04840" y="3900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837720" y="4368960"/>
            <a:ext cx="68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polarView{GLdoub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i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GLdouble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twi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41320" y="459756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lev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GLdouble </a:t>
            </a:r>
            <a:r>
              <a:rPr b="1" lang="en-US" sz="1800" spc="-1" strike="noStrike">
                <a:solidFill>
                  <a:srgbClr val="996633"/>
                </a:solidFill>
                <a:latin typeface="Courier New"/>
              </a:rPr>
              <a:t>azimu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40600" y="4826160"/>
            <a:ext cx="56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ranslated(0.0, 0.0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di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40960" y="5056200"/>
            <a:ext cx="548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-twi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0.0, 0.0, 1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840240" y="5284800"/>
            <a:ext cx="589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lev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40240" y="5513400"/>
            <a:ext cx="589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</a:t>
            </a:r>
            <a:r>
              <a:rPr b="1" lang="en-US" sz="1800" spc="-1" strike="noStrike">
                <a:solidFill>
                  <a:srgbClr val="996633"/>
                </a:solidFill>
                <a:latin typeface="Courier New"/>
              </a:rPr>
              <a:t>azimu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0.0, 0.0, 1.0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55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34D5463-4667-4DDA-B601-BBF106C8CF29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572240" y="27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7648560" y="214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7343280" y="268128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959600" y="1962000"/>
            <a:ext cx="381240" cy="30492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7959240" y="219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8188200" y="180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715160" y="5114880"/>
            <a:ext cx="15264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715160" y="526716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7791480" y="451476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7410240" y="5276880"/>
            <a:ext cx="371160" cy="3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57960" y="5495760"/>
            <a:ext cx="304920" cy="2286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rot="19404000">
            <a:off x="7181640" y="496260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334280" y="5038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rot="19818000">
            <a:off x="7257960" y="54954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562880" y="5143680"/>
            <a:ext cx="0" cy="3520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059600" y="5057640"/>
            <a:ext cx="654120" cy="1114560"/>
          </a:xfrm>
          <a:prstGeom prst="ellipse">
            <a:avLst/>
          </a:prstGeom>
          <a:noFill/>
          <a:ln w="9360">
            <a:solidFill>
              <a:srgbClr val="c261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7029000" y="5610240"/>
            <a:ext cx="3906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301240" y="4803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796520" y="428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924240" y="578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880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888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99AD3BC-B85C-4CC7-BC7F-06F7589DCB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49440" y="587520"/>
            <a:ext cx="355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nother projec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34760" y="13460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276560" y="1346040"/>
            <a:ext cx="19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glu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558960" y="137160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Ldouble fovy, GLdou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729160" y="161928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, GLdouble znear, GLdouble zf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293840" y="2181240"/>
            <a:ext cx="640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vy -- angle of the field of view in x-z plane (0-180 degre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39160" y="2481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296000" y="2481120"/>
            <a:ext cx="15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ct -- w/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294560" y="2779560"/>
            <a:ext cx="59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near, zfar -- the distances between the viewpoin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291320" y="3079800"/>
            <a:ext cx="625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lipping planes along the negative z-axis. The shou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296000" y="3379680"/>
            <a:ext cx="213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always positiv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970680" y="67644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996840" y="3664080"/>
            <a:ext cx="7010640" cy="26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/>
          </p:nvPr>
        </p:nvSpPr>
        <p:spPr>
          <a:xfrm>
            <a:off x="676440" y="747360"/>
            <a:ext cx="7772400" cy="56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myPerspective(double fovy, double asp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near, double far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left, right, bottom, 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vy = fovy*Math.PI/180; // convert degree to 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= near*Math.tan(fovy/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 = -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= aspect*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= -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glMatrixMode(GL.GL_PROJEC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glLoadIdenti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glFrustum(left, right, bottom, top, near, f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909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917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C861BE5-372D-48FA-9B53-799A8FBB39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607320" y="3645000"/>
            <a:ext cx="7220520" cy="1825560"/>
            <a:chOff x="607320" y="3645000"/>
            <a:chExt cx="7220520" cy="1825560"/>
          </a:xfrm>
        </p:grpSpPr>
        <p:sp>
          <p:nvSpPr>
            <p:cNvPr id="1923" name=""/>
            <p:cNvSpPr/>
            <p:nvPr/>
          </p:nvSpPr>
          <p:spPr>
            <a:xfrm>
              <a:off x="1323720" y="36450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023560" y="36450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Courier New"/>
                </a:rPr>
                <a:t>gluLook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63680" y="3664080"/>
              <a:ext cx="466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GLdouble eyex, GLdouble eye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07320" y="3873600"/>
              <a:ext cx="699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ouble eyez, GLdouble centerx, GLdouble center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40520" y="4102200"/>
              <a:ext cx="631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ouble centerz, GLdouble upx, GLdouble up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46320" y="43308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ouble upz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884240" y="473868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ye -- viewpoint (PRP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885320" y="4967280"/>
              <a:ext cx="344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er -- reference point (VRP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882800" y="5195880"/>
              <a:ext cx="31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 -- view up direction (VU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/>
          <p:nvPr/>
        </p:nvSpPr>
        <p:spPr>
          <a:xfrm>
            <a:off x="7188120" y="243540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160640" y="1828800"/>
            <a:ext cx="59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 viewing is always from the center of the coordinates looking down the negative z axis, with the view-up in the y axis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812880" y="1073160"/>
            <a:ext cx="63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Viewing from an arbitrary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/>
          </p:nvPr>
        </p:nvSpPr>
        <p:spPr>
          <a:xfrm>
            <a:off x="689040" y="285840"/>
            <a:ext cx="7772400" cy="59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myLookAt(double eX, double eY, double eZ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cX, double cY, double cZ, double upX, double upY, double upZ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eye and center are points, but up is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1. change center into a ve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glTranslated(-eX, -eY, -e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 = cX-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 = cY-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Z = cZ-e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2198520" y="444456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198520" y="536904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1644120" y="5359320"/>
            <a:ext cx="554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2752560" y="4598640"/>
            <a:ext cx="9669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2771640" y="4176720"/>
            <a:ext cx="37008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560320" y="4629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71124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135600" y="373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227400" y="507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07828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347480" y="572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5529240" y="4549320"/>
            <a:ext cx="25704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66604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6288120" y="157752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326280" y="24382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5732280" y="2449440"/>
            <a:ext cx="554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6286680" y="2265120"/>
            <a:ext cx="96660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305400" y="18428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156000" y="233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245000" y="197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669360" y="139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26360" y="236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1153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373360" y="273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773680" y="4572000"/>
            <a:ext cx="0" cy="514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V="1">
            <a:off x="5764320" y="4776840"/>
            <a:ext cx="101520" cy="155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5864400" y="4766760"/>
            <a:ext cx="1440" cy="266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/>
          </p:nvPr>
        </p:nvSpPr>
        <p:spPr>
          <a:xfrm>
            <a:off x="689040" y="285840"/>
            <a:ext cx="7772400" cy="59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2. The angle of center on xz plane and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.e. angle to rot so center in the neg. yz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a = Math.atan(cZ/c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X&gt;=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a+Math.PI/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a-Math.PI/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5529240" y="47336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759640" y="42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6288120" y="157752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326280" y="24382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5732280" y="1535040"/>
            <a:ext cx="1479240" cy="14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6286680" y="1598400"/>
            <a:ext cx="30780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H="1" flipV="1">
            <a:off x="6130440" y="1719360"/>
            <a:ext cx="1429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156000" y="233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473520" y="1155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786640" y="133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326360" y="236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1153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73360" y="273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1951200" y="446364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989000" y="532440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1395000" y="5335560"/>
            <a:ext cx="554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1949400" y="5151240"/>
            <a:ext cx="9669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1968480" y="472896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818720" y="522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908080" y="48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332080" y="428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989440" y="525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778040" y="4029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36080" y="5622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897280" y="5146560"/>
            <a:ext cx="0" cy="70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952640" y="5332320"/>
            <a:ext cx="944640" cy="523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2189160" y="5332320"/>
            <a:ext cx="101520" cy="112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363400" y="5272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6573600" y="1614600"/>
            <a:ext cx="29880" cy="552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6585120" y="1879200"/>
            <a:ext cx="82440" cy="133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678720" y="1879560"/>
            <a:ext cx="0" cy="17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/>
          </p:nvPr>
        </p:nvSpPr>
        <p:spPr>
          <a:xfrm>
            <a:off x="689040" y="16200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3. The angle between the center and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.e. angle to rot so center in the negative z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b = Math.acos(cY/Math.sqrt(cX*cX+cY*cY+cZ*cZ)); b = b-Math.PI/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4. up rotate around y axis (a) ra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upx = upX*Math.cos(a)+upZ*Math.sin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upz = -upX*Math.sin(a)+upZ*Math.cos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X = upx;    upZ = up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5. up rotate around x axis (b) ra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upy = upY*Math.cos(b)-upZ*Math.sin(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z = upY*Math.sin(b)+upZ*Math.cos(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Y = upy;    upZ = up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5529240" y="47336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759640" y="42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6894360" y="217296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932520" y="30337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6338520" y="3024360"/>
            <a:ext cx="5540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6892920" y="2460600"/>
            <a:ext cx="5745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6891480" y="2325240"/>
            <a:ext cx="185760" cy="6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762240" y="2932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470360" y="226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967800" y="19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93296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721560" y="17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979600" y="3332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1949400" y="4371840"/>
            <a:ext cx="0" cy="84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987560" y="523224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H="1">
            <a:off x="1393920" y="4329000"/>
            <a:ext cx="1479600" cy="14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1947960" y="4392360"/>
            <a:ext cx="30780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 flipV="1">
            <a:off x="1792440" y="4513320"/>
            <a:ext cx="14256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1728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134800" y="394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447920" y="41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988000" y="515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034640" y="5530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2235240" y="4408560"/>
            <a:ext cx="30240" cy="552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2246400" y="4673160"/>
            <a:ext cx="82440" cy="133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340000" y="4673520"/>
            <a:ext cx="0" cy="17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1951200" y="4817880"/>
            <a:ext cx="134640" cy="176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903320" y="445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793880" y="388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6708240" y="2332080"/>
            <a:ext cx="360360" cy="461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6524280" y="2598480"/>
            <a:ext cx="36972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6740640" y="2784600"/>
            <a:ext cx="153720" cy="61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08520" y="2281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/>
          </p:nvPr>
        </p:nvSpPr>
        <p:spPr>
          <a:xfrm>
            <a:off x="689040" y="16200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6. the angle between up on xy plane and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c = Math.atan(upX/up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upY&lt;0) { c = c+Math.PI;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d(Math.toDegrees(c), 0, 0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up in yz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d(Math.toDegrees(b), 1, 0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enter in negative z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d(Math.toDegrees(a), 0, 1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center in yz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d(-eX, -eY, -e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eye at the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5529240" y="47336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759640" y="42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1941480" y="459720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979640" y="5457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1385640" y="5448240"/>
            <a:ext cx="5540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940040" y="4781160"/>
            <a:ext cx="66672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1938240" y="4749840"/>
            <a:ext cx="18576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809360" y="5356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661840" y="4361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14560" y="4387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980080" y="538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768680" y="41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026720" y="575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1755360" y="4756320"/>
            <a:ext cx="360360" cy="461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1571400" y="5022720"/>
            <a:ext cx="369720" cy="43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787400" y="5208480"/>
            <a:ext cx="154080" cy="61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655640" y="4705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081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089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2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4676176-1B41-4D72-926B-6754D0E80A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31720" y="677880"/>
            <a:ext cx="85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W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>
            <a:hlinkClick r:id="" action="ppaction://hlinkshowjump?jump=previousslide"/>
          </p:cNvPr>
          <p:cNvSpPr/>
          <p:nvPr/>
        </p:nvSpPr>
        <p:spPr>
          <a:xfrm>
            <a:off x="8020080" y="558180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839880" y="2322360"/>
            <a:ext cx="75898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gluPerspecti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ouble fovy, double aspect, double znear, double zf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vy -- angle of the field of view in x-z plane (0-180 degre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ect -- w/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near, zfar -- the distances between the viewpoint and the clipping planes along the negative z-axis. The should be always positiv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gluLook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ouble eyex, double eyey, double eyez, double centerx, double centery, double centerz, double upx, double upy, double up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ye -- viewpoint (PRP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er -- reference point (VRP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 -- view up direction (V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525680" y="2031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839160" y="3166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8" name=""/>
          <p:cNvGrpSpPr/>
          <p:nvPr/>
        </p:nvGrpSpPr>
        <p:grpSpPr>
          <a:xfrm>
            <a:off x="1428840" y="4487760"/>
            <a:ext cx="1747800" cy="1915920"/>
            <a:chOff x="1428840" y="4487760"/>
            <a:chExt cx="1747800" cy="1915920"/>
          </a:xfrm>
        </p:grpSpPr>
        <p:sp>
          <p:nvSpPr>
            <p:cNvPr id="2099" name=""/>
            <p:cNvSpPr/>
            <p:nvPr/>
          </p:nvSpPr>
          <p:spPr>
            <a:xfrm>
              <a:off x="1428840" y="44877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114640" y="44877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75200" y="45068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428840" y="47163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428840" y="49449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428840" y="51735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886040" y="55814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886040" y="58100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886040" y="60386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>
            <a:off x="741240" y="1146240"/>
            <a:ext cx="804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two commands yourself: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myPersp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myLook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st lik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gluPersp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gluLook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>
            <a:hlinkClick r:id="rId1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8534520" y="5791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73EE-3FA3-49AE-9471-86A03C91FED2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1057320" y="1281240"/>
            <a:ext cx="6705720" cy="18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ewing &amp; Transformation in OpenG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2" name=""/>
          <p:cNvSpPr/>
          <p:nvPr/>
        </p:nvSpPr>
        <p:spPr>
          <a:xfrm>
            <a:off x="2298600" y="4762440"/>
            <a:ext cx="13716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ac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51360" y="4762440"/>
            <a:ext cx="13716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on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67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75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664D270-3E19-4A23-B0A3-30867BE1AF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2680" y="1606680"/>
            <a:ext cx="74631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3D viewing, we specify a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viewing volu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jection meth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world coordinates, and a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view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n th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ing volume specifies what to app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port specifies where to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iewing 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ing trans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3D viewing volume is processed for projection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s are clipped against the 3D view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ontents are then transformed into the viewport for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3D coordinates are preserved for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light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hidden-surface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n-conver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35120" y="684360"/>
            <a:ext cx="51912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Stencil"/>
              </a:rPr>
              <a:t>VIEWING IN 3D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Stencil"/>
              <a:ea typeface="Stenci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/>
          <p:nvPr/>
        </p:nvSpPr>
        <p:spPr>
          <a:xfrm>
            <a:off x="766440" y="447840"/>
            <a:ext cx="530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OVERVIEW: THE CAMERA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5" name="" descr=""/>
          <p:cNvPicPr/>
          <p:nvPr/>
        </p:nvPicPr>
        <p:blipFill>
          <a:blip r:embed="rId1"/>
          <a:stretch/>
        </p:blipFill>
        <p:spPr>
          <a:xfrm>
            <a:off x="1219320" y="911160"/>
            <a:ext cx="5344920" cy="5654880"/>
          </a:xfrm>
          <a:prstGeom prst="rect">
            <a:avLst/>
          </a:prstGeom>
          <a:ln w="0">
            <a:noFill/>
          </a:ln>
        </p:spPr>
      </p:pic>
      <p:sp>
        <p:nvSpPr>
          <p:cNvPr id="2116" name="">
            <a:hlinkClick r:id="rId2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8534520" y="5791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A536-61E4-4914-9248-9AB123768806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7162920" y="1447920"/>
            <a:ext cx="1143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934320" y="2057400"/>
            <a:ext cx="2209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strok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Arrow: move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Arrow: move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Arrow: move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rrow: move to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up: move up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down: move down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/>
          <p:nvPr/>
        </p:nvSpPr>
        <p:spPr>
          <a:xfrm>
            <a:off x="299880" y="228600"/>
            <a:ext cx="8412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pecify viewing, modeling, and projection transform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onstruct a 4x4 matrix M: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v’=Mv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 Vertices have f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s (x,y,z,w), though in most cases w i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077320" cy="3949560"/>
          </a:xfrm>
          <a:prstGeom prst="rect">
            <a:avLst/>
          </a:prstGeom>
          <a:ln w="0">
            <a:noFill/>
          </a:ln>
        </p:spPr>
      </p:pic>
      <p:grpSp>
        <p:nvGrpSpPr>
          <p:cNvPr id="2122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23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7317F7F-F6D5-431E-8727-3131001CA747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/>
          <p:nvPr/>
        </p:nvSpPr>
        <p:spPr>
          <a:xfrm>
            <a:off x="830880" y="685800"/>
            <a:ext cx="7693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odelview matri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coordinates to eye coordin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pecifying camera &amp; obj posi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829440" y="1447920"/>
            <a:ext cx="76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rojection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ye to clip coordinates.  (view volu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ation, clipping, &amp; projec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838080" y="2209680"/>
            <a:ext cx="7925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erspective divis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vide coordinate values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produce normalized device coordinates. (part of proj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834840" y="2971800"/>
            <a:ext cx="7255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Viewport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window coordinates (shrunk 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tched, continuous, float) by applying the view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56360" y="4419720"/>
            <a:ext cx="7955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he transformations are performed o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 coordin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32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805F5A-9FA5-432F-9C72-3CBE7166CDA8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390960" y="457200"/>
            <a:ext cx="694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MODELING AND VIEWING TRANSFORMATIONS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82760" y="4902120"/>
            <a:ext cx="8126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the current matrix is C and we call  glMultMatrixf(M). After multiplication, the matrix is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925040" cy="3505320"/>
          </a:xfrm>
          <a:prstGeom prst="rect">
            <a:avLst/>
          </a:prstGeom>
          <a:ln w="0">
            <a:noFill/>
          </a:ln>
        </p:spPr>
      </p:pic>
      <p:grpSp>
        <p:nvGrpSpPr>
          <p:cNvPr id="2138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39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EFEB47A-65CC-427D-89F9-163B9CDF890E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"/>
          <p:cNvSpPr/>
          <p:nvPr/>
        </p:nvSpPr>
        <p:spPr>
          <a:xfrm>
            <a:off x="990720" y="380880"/>
            <a:ext cx="376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Viewing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142280" y="1117440"/>
            <a:ext cx="636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ogous to positioning and aiming a cam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142280" y="1549440"/>
            <a:ext cx="6262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default, the camera is originally situated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points dow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gative z-ax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81080" y="5133960"/>
            <a:ext cx="689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called first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de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ke effec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6" name="" descr=""/>
          <p:cNvPicPr/>
          <p:nvPr/>
        </p:nvPicPr>
        <p:blipFill>
          <a:blip r:embed="rId1"/>
          <a:stretch/>
        </p:blipFill>
        <p:spPr>
          <a:xfrm>
            <a:off x="1943280" y="2590920"/>
            <a:ext cx="424800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147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48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8142925-5456-4FE1-9494-9D7374EA6A96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52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6367D29-84FD-404E-A4D7-7E56A75BE3E2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6360" y="192240"/>
            <a:ext cx="394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6100"/>
                </a:solidFill>
                <a:latin typeface="Times New Roman"/>
              </a:rPr>
              <a:t>Viewport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66200" y="638280"/>
            <a:ext cx="756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spect ratio of a viewport should generally equal the aspect rat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04080" y="88884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the viewing vol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-374040" y="1293840"/>
            <a:ext cx="685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Perspective(myFovy, 1.0, myNear, myF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-274320" y="1542960"/>
            <a:ext cx="457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iewport (0, 0, 400, 4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-374040" y="2044800"/>
            <a:ext cx="685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Perspective(myFovy, 2.0, myNear, myF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-274320" y="2295360"/>
            <a:ext cx="457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iewport (0, 0, 400, 4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68160" y="5429160"/>
            <a:ext cx="515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avoid the distortion, this line could be us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-229680" y="5834160"/>
            <a:ext cx="442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iewport(0, 0, 400, 2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4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4724640" cy="26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0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66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514B2BD-76F8-4252-AAE9-315182C120A9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8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140120" y="723960"/>
            <a:ext cx="693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reate two side-by-side viewports, you issue these commands, al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140120" y="952560"/>
            <a:ext cx="70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the appropriate modeling, viewing, and projection trans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017360" y="1320840"/>
            <a:ext cx="480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iewport (0, 0, sizex/2, size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975240" y="1549440"/>
            <a:ext cx="30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975240" y="1779480"/>
            <a:ext cx="30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975240" y="2008080"/>
            <a:ext cx="30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12600" y="2236680"/>
            <a:ext cx="548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iewport (sizex/2, 0, sizex/2, siz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61040" y="2743200"/>
            <a:ext cx="4874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b000"/>
                </a:solidFill>
                <a:latin typeface="Times New Roman"/>
              </a:rPr>
              <a:t>Manipulating the Matrix S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7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95960" cy="26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79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2BA7A53-E09B-4131-AA47-34FE445AA2A3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1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12600" y="1131840"/>
            <a:ext cx="6234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lPushMatrix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pies the matrix and add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y to the top of the stack;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PopMatrix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ards the top matrix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1203480" y="2459160"/>
            <a:ext cx="5349960" cy="2792160"/>
            <a:chOff x="1203480" y="2459160"/>
            <a:chExt cx="5349960" cy="2792160"/>
          </a:xfrm>
        </p:grpSpPr>
        <p:sp>
          <p:nvSpPr>
            <p:cNvPr id="2184" name=""/>
            <p:cNvSpPr/>
            <p:nvPr/>
          </p:nvSpPr>
          <p:spPr>
            <a:xfrm>
              <a:off x="1208880" y="2459160"/>
              <a:ext cx="301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aw_wheel_and_bolts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15360" y="2687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212120" y="291780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ng i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210680" y="314640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aw_wheel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209240" y="337500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(i=0;i&lt;5;i++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208880" y="360360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203480" y="3832200"/>
              <a:ext cx="534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Rotatef(72.0*i,0.0,0.0,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04560" y="4060800"/>
              <a:ext cx="480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Translatef(3.0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08880" y="428940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aw_bol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209240" y="451800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14280" y="47480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215360" y="4976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8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6" name=""/>
          <p:cNvGrpSpPr/>
          <p:nvPr/>
        </p:nvGrpSpPr>
        <p:grpSpPr>
          <a:xfrm>
            <a:off x="1599480" y="1090440"/>
            <a:ext cx="3961440" cy="4267440"/>
            <a:chOff x="1599480" y="1090440"/>
            <a:chExt cx="3961440" cy="4267440"/>
          </a:xfrm>
        </p:grpSpPr>
        <p:sp>
          <p:nvSpPr>
            <p:cNvPr id="2197" name=""/>
            <p:cNvSpPr/>
            <p:nvPr/>
          </p:nvSpPr>
          <p:spPr>
            <a:xfrm>
              <a:off x="1609560" y="1090440"/>
              <a:ext cx="347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body_and_wheel_and_bolts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08120" y="1319040"/>
              <a:ext cx="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06680" y="1547640"/>
              <a:ext cx="19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car_body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05960" y="1776240"/>
              <a:ext cx="175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03800" y="2006640"/>
              <a:ext cx="251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Translatef(40,0,30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519640" y="2235240"/>
              <a:ext cx="304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/*move to first wheel position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06320" y="2463840"/>
              <a:ext cx="282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wheel_and_bolts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05600" y="2692440"/>
              <a:ext cx="164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5960" y="2921040"/>
              <a:ext cx="175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4160" y="3149640"/>
              <a:ext cx="25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Translatef(40,0,-3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520360" y="3378240"/>
              <a:ext cx="300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/*move to 2nd wheel position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06320" y="3606840"/>
              <a:ext cx="282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wheel_and_bolts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605600" y="3836880"/>
              <a:ext cx="164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99480" y="4065480"/>
              <a:ext cx="1217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..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062440" y="4294080"/>
              <a:ext cx="330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/*draw last two wheels similarly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607760" y="4522680"/>
              <a:ext cx="14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608120" y="499248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"/>
          <p:cNvSpPr/>
          <p:nvPr/>
        </p:nvSpPr>
        <p:spPr>
          <a:xfrm>
            <a:off x="8432640" y="543564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0C5-8BE3-441F-B025-57E9ED6427FA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5" name="" descr=""/>
          <p:cNvPicPr/>
          <p:nvPr/>
        </p:nvPicPr>
        <p:blipFill>
          <a:blip r:embed="rId1"/>
          <a:stretch/>
        </p:blipFill>
        <p:spPr>
          <a:xfrm>
            <a:off x="522360" y="4503600"/>
            <a:ext cx="7010280" cy="1229040"/>
          </a:xfrm>
          <a:prstGeom prst="rect">
            <a:avLst/>
          </a:prstGeom>
          <a:ln w="0">
            <a:noFill/>
          </a:ln>
        </p:spPr>
      </p:pic>
      <p:sp>
        <p:nvSpPr>
          <p:cNvPr id="2216" name="">
            <a:hlinkClick r:id="" action="ppaction://hlinkshowjump?jump=previousslide"/>
          </p:cNvPr>
          <p:cNvSpPr/>
          <p:nvPr/>
        </p:nvSpPr>
        <p:spPr>
          <a:xfrm>
            <a:off x="8305920" y="605808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607160" y="4737240"/>
            <a:ext cx="7621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831960" y="236520"/>
            <a:ext cx="723240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A Wireframe Sphere with 2 Clipping Planes: clip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double eqn[4] = {0.0, 1.0, 0.0, 0.0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double eqn2[4] = {1.0, 0.0, 0.0, 0.0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Translatef (0.0, 0.0, -5.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clip lower half -- y &lt; 0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ClipPlane (GL_CLIP_PLANE0, eqn);  glEnable (GL_CLIP_PLANE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clip left half -- x &lt; 0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ClipPlane (GL_CLIP_PLANE1, eqn2);  glEnable (GL_CLIP_PLANE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19600" y="6524640"/>
            <a:ext cx="1523880" cy="231120"/>
            <a:chOff x="3819600" y="6524640"/>
            <a:chExt cx="1523880" cy="231120"/>
          </a:xfrm>
        </p:grpSpPr>
        <p:sp>
          <p:nvSpPr>
            <p:cNvPr id="284" name=""/>
            <p:cNvSpPr/>
            <p:nvPr/>
          </p:nvSpPr>
          <p:spPr>
            <a:xfrm>
              <a:off x="3895920" y="652464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19600" y="660060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7520" y="660060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92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7183480-9579-4C91-BE57-BE6A3FA97B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267760" y="5991120"/>
            <a:ext cx="552240" cy="390600"/>
          </a:xfrm>
          <a:custGeom>
            <a:avLst/>
            <a:gdLst>
              <a:gd name="textAreaLeft" fmla="*/ 25200 w 552240"/>
              <a:gd name="textAreaRight" fmla="*/ 527040 w 55224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0530" h="21600">
                <a:moveTo>
                  <a:pt x="0" y="0"/>
                </a:moveTo>
                <a:lnTo>
                  <a:pt x="30530" y="0"/>
                </a:lnTo>
                <a:lnTo>
                  <a:pt x="30530" y="21600"/>
                </a:lnTo>
                <a:lnTo>
                  <a:pt x="0" y="21600"/>
                </a:lnTo>
                <a:close/>
              </a:path>
              <a:path fill="lightenLess" w="30530" h="21600">
                <a:moveTo>
                  <a:pt x="0" y="0"/>
                </a:moveTo>
                <a:lnTo>
                  <a:pt x="30530" y="0"/>
                </a:lnTo>
                <a:lnTo>
                  <a:pt x="29130" y="1400"/>
                </a:lnTo>
                <a:lnTo>
                  <a:pt x="1400" y="1400"/>
                </a:lnTo>
                <a:close/>
              </a:path>
              <a:path fill="darken" w="30530" h="21600">
                <a:moveTo>
                  <a:pt x="30530" y="0"/>
                </a:moveTo>
                <a:lnTo>
                  <a:pt x="30530" y="21600"/>
                </a:lnTo>
                <a:lnTo>
                  <a:pt x="29130" y="20200"/>
                </a:lnTo>
                <a:lnTo>
                  <a:pt x="29130" y="1400"/>
                </a:lnTo>
                <a:close/>
              </a:path>
              <a:path fill="darkenLess" w="30530" h="21600">
                <a:moveTo>
                  <a:pt x="30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30" y="20200"/>
                </a:lnTo>
                <a:close/>
              </a:path>
              <a:path fill="lighten" w="30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30" h="21600">
                <a:moveTo>
                  <a:pt x="8259" y="3794"/>
                </a:moveTo>
                <a:lnTo>
                  <a:pt x="22272" y="10800"/>
                </a:lnTo>
                <a:lnTo>
                  <a:pt x="825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16880" y="2943360"/>
            <a:ext cx="23760" cy="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16880" y="2368440"/>
            <a:ext cx="2376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0200" y="2776680"/>
            <a:ext cx="1440" cy="2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64560" y="2776680"/>
            <a:ext cx="1440" cy="2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28800" y="2824200"/>
            <a:ext cx="1440" cy="23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5400" y="2824200"/>
            <a:ext cx="1440" cy="23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2990880"/>
            <a:ext cx="2376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27600" y="2703600"/>
            <a:ext cx="1440" cy="23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05560" y="3006720"/>
            <a:ext cx="2139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 the cube and the models to the device coordinates in the display view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1760" y="2944800"/>
            <a:ext cx="2320920" cy="23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68920" y="2944800"/>
            <a:ext cx="23760" cy="124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71760" y="4162320"/>
            <a:ext cx="2297160" cy="23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71760" y="2944800"/>
            <a:ext cx="25560" cy="1217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7240" y="3206880"/>
            <a:ext cx="1411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 the model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7240" y="3422520"/>
            <a:ext cx="111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ordinate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6160" y="2944800"/>
            <a:ext cx="1514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pecify a volu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30440" y="2951280"/>
            <a:ext cx="204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the volum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58160" y="3165480"/>
            <a:ext cx="1905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the models to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4600" y="3716280"/>
            <a:ext cx="201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lume to be display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5320" y="3494160"/>
            <a:ext cx="47880" cy="47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156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5" y="30"/>
                </a:lnTo>
                <a:lnTo>
                  <a:pt x="30" y="30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41560" y="3422520"/>
            <a:ext cx="411120" cy="214560"/>
          </a:xfrm>
          <a:custGeom>
            <a:avLst/>
            <a:gdLst/>
            <a:ahLst/>
            <a:rect l="l" t="t" r="r" b="b"/>
            <a:pathLst>
              <a:path w="241" h="135">
                <a:moveTo>
                  <a:pt x="45" y="6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41" y="60"/>
                </a:lnTo>
                <a:lnTo>
                  <a:pt x="241" y="75"/>
                </a:lnTo>
                <a:lnTo>
                  <a:pt x="241" y="75"/>
                </a:lnTo>
                <a:lnTo>
                  <a:pt x="15" y="135"/>
                </a:lnTo>
                <a:lnTo>
                  <a:pt x="0" y="135"/>
                </a:lnTo>
                <a:lnTo>
                  <a:pt x="15" y="120"/>
                </a:lnTo>
                <a:lnTo>
                  <a:pt x="15" y="120"/>
                </a:lnTo>
                <a:lnTo>
                  <a:pt x="241" y="60"/>
                </a:lnTo>
                <a:lnTo>
                  <a:pt x="241" y="60"/>
                </a:lnTo>
                <a:lnTo>
                  <a:pt x="241" y="75"/>
                </a:lnTo>
                <a:lnTo>
                  <a:pt x="15" y="15"/>
                </a:lnTo>
                <a:lnTo>
                  <a:pt x="15" y="0"/>
                </a:lnTo>
                <a:lnTo>
                  <a:pt x="30" y="0"/>
                </a:lnTo>
                <a:lnTo>
                  <a:pt x="61" y="60"/>
                </a:lnTo>
                <a:lnTo>
                  <a:pt x="45" y="6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65320" y="3517920"/>
            <a:ext cx="73080" cy="95400"/>
          </a:xfrm>
          <a:custGeom>
            <a:avLst/>
            <a:gdLst/>
            <a:ahLst/>
            <a:rect l="l" t="t" r="r" b="b"/>
            <a:pathLst>
              <a:path w="46" h="60">
                <a:moveTo>
                  <a:pt x="0" y="60"/>
                </a:moveTo>
                <a:lnTo>
                  <a:pt x="3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5320" y="3422520"/>
            <a:ext cx="406440" cy="190800"/>
          </a:xfrm>
          <a:custGeom>
            <a:avLst/>
            <a:gdLst/>
            <a:ahLst/>
            <a:rect l="l" t="t" r="r" b="b"/>
            <a:pathLst>
              <a:path w="226" h="120">
                <a:moveTo>
                  <a:pt x="30" y="60"/>
                </a:moveTo>
                <a:lnTo>
                  <a:pt x="0" y="0"/>
                </a:lnTo>
                <a:lnTo>
                  <a:pt x="226" y="60"/>
                </a:lnTo>
                <a:lnTo>
                  <a:pt x="0" y="120"/>
                </a:lnTo>
                <a:lnTo>
                  <a:pt x="30" y="6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4280" y="3494160"/>
            <a:ext cx="25560" cy="47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65320" y="3494160"/>
            <a:ext cx="24120" cy="47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79840" y="3494160"/>
            <a:ext cx="285480" cy="47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4800" y="2897280"/>
            <a:ext cx="2345040" cy="237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54280" y="2897280"/>
            <a:ext cx="25560" cy="1241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4800" y="4114800"/>
            <a:ext cx="2319480" cy="23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" y="2897280"/>
            <a:ext cx="24120" cy="12175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58160" y="3379680"/>
            <a:ext cx="213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rmalized coordinat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42680" y="3684600"/>
            <a:ext cx="182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p against the cub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86400" y="2921040"/>
            <a:ext cx="2343240" cy="237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705880" y="2921040"/>
            <a:ext cx="23760" cy="1241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86400" y="4138560"/>
            <a:ext cx="2319480" cy="237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86400" y="2921040"/>
            <a:ext cx="23760" cy="1217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9960" y="3494160"/>
            <a:ext cx="47880" cy="475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15"/>
                </a:lnTo>
                <a:lnTo>
                  <a:pt x="15" y="30"/>
                </a:lnTo>
                <a:lnTo>
                  <a:pt x="30" y="15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04080" y="3398760"/>
            <a:ext cx="382320" cy="238320"/>
          </a:xfrm>
          <a:custGeom>
            <a:avLst/>
            <a:gdLst/>
            <a:ahLst/>
            <a:rect l="l" t="t" r="r" b="b"/>
            <a:pathLst>
              <a:path w="271" h="150">
                <a:moveTo>
                  <a:pt x="15" y="7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26" y="60"/>
                </a:lnTo>
                <a:lnTo>
                  <a:pt x="271" y="60"/>
                </a:lnTo>
                <a:lnTo>
                  <a:pt x="226" y="75"/>
                </a:lnTo>
                <a:lnTo>
                  <a:pt x="0" y="150"/>
                </a:lnTo>
                <a:lnTo>
                  <a:pt x="0" y="150"/>
                </a:lnTo>
                <a:lnTo>
                  <a:pt x="0" y="135"/>
                </a:lnTo>
                <a:lnTo>
                  <a:pt x="0" y="135"/>
                </a:lnTo>
                <a:lnTo>
                  <a:pt x="226" y="60"/>
                </a:lnTo>
                <a:lnTo>
                  <a:pt x="226" y="75"/>
                </a:lnTo>
                <a:lnTo>
                  <a:pt x="226" y="75"/>
                </a:lnTo>
                <a:lnTo>
                  <a:pt x="0" y="15"/>
                </a:lnTo>
                <a:lnTo>
                  <a:pt x="0" y="0"/>
                </a:lnTo>
                <a:lnTo>
                  <a:pt x="15" y="0"/>
                </a:lnTo>
                <a:lnTo>
                  <a:pt x="30" y="7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04080" y="3517920"/>
            <a:ext cx="47520" cy="95400"/>
          </a:xfrm>
          <a:custGeom>
            <a:avLst/>
            <a:gdLst/>
            <a:ahLst/>
            <a:rect l="l" t="t" r="r" b="b"/>
            <a:pathLst>
              <a:path w="30" h="60">
                <a:moveTo>
                  <a:pt x="0" y="60"/>
                </a:moveTo>
                <a:lnTo>
                  <a:pt x="15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04080" y="3398760"/>
            <a:ext cx="387360" cy="214560"/>
          </a:xfrm>
          <a:custGeom>
            <a:avLst/>
            <a:gdLst/>
            <a:ahLst/>
            <a:rect l="l" t="t" r="r" b="b"/>
            <a:pathLst>
              <a:path w="226" h="135">
                <a:moveTo>
                  <a:pt x="15" y="75"/>
                </a:moveTo>
                <a:lnTo>
                  <a:pt x="0" y="0"/>
                </a:lnTo>
                <a:lnTo>
                  <a:pt x="226" y="60"/>
                </a:lnTo>
                <a:lnTo>
                  <a:pt x="0" y="13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68920" y="3494160"/>
            <a:ext cx="23760" cy="475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9960" y="3494160"/>
            <a:ext cx="24120" cy="47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92680" y="3494160"/>
            <a:ext cx="287280" cy="47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840" y="438120"/>
            <a:ext cx="33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The 3D Viewing Pipe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120960" y="44496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Frustum(l,r,b,t,n,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glOrtho(l,r,b,t,n,f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rmaliz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0240" y="4486320"/>
            <a:ext cx="204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pping(model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lipp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54760" y="4414680"/>
            <a:ext cx="32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Viewport(x,y,w,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ev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91400" y="992160"/>
            <a:ext cx="2511720" cy="1641240"/>
            <a:chOff x="491400" y="992160"/>
            <a:chExt cx="2511720" cy="1641240"/>
          </a:xfrm>
        </p:grpSpPr>
        <p:sp>
          <p:nvSpPr>
            <p:cNvPr id="347" name=""/>
            <p:cNvSpPr/>
            <p:nvPr/>
          </p:nvSpPr>
          <p:spPr>
            <a:xfrm>
              <a:off x="2128320" y="2183760"/>
              <a:ext cx="720" cy="162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73440" y="1574640"/>
              <a:ext cx="1080" cy="162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0200" y="2183760"/>
              <a:ext cx="720" cy="162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4280" y="2183760"/>
              <a:ext cx="1080" cy="162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64600" y="2183760"/>
              <a:ext cx="720" cy="162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28320" y="2183760"/>
              <a:ext cx="720" cy="162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1520" y="2024280"/>
              <a:ext cx="720" cy="1512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5920" y="2039400"/>
              <a:ext cx="720" cy="162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0200" y="1703880"/>
              <a:ext cx="720" cy="1512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4280" y="1703880"/>
              <a:ext cx="1080" cy="1512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5320" y="1574640"/>
              <a:ext cx="1080" cy="162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400" y="1574640"/>
              <a:ext cx="720" cy="162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9720" y="1590840"/>
              <a:ext cx="720" cy="162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3440" y="1590840"/>
              <a:ext cx="1080" cy="162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28320" y="2183760"/>
              <a:ext cx="14760" cy="108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3440" y="1574640"/>
              <a:ext cx="1080" cy="162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90200" y="2248560"/>
              <a:ext cx="16200" cy="72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0200" y="2632680"/>
              <a:ext cx="16200" cy="72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12120" y="2248560"/>
              <a:ext cx="16200" cy="72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12120" y="2632680"/>
              <a:ext cx="16200" cy="72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83760" y="2248560"/>
              <a:ext cx="15840" cy="72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65880" y="1783800"/>
              <a:ext cx="14760" cy="72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18360" y="1429920"/>
              <a:ext cx="14760" cy="108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26680" y="1463040"/>
              <a:ext cx="16200" cy="72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47480" y="1879920"/>
              <a:ext cx="16200" cy="108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98320" y="2103840"/>
              <a:ext cx="1080" cy="162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0520" y="1414800"/>
              <a:ext cx="16200" cy="72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00520" y="1574640"/>
              <a:ext cx="16200" cy="72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88360" y="2311920"/>
              <a:ext cx="14760" cy="72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91400" y="992160"/>
              <a:ext cx="2358000" cy="1586520"/>
              <a:chOff x="491400" y="992160"/>
              <a:chExt cx="2358000" cy="1586520"/>
            </a:xfrm>
          </p:grpSpPr>
          <p:sp>
            <p:nvSpPr>
              <p:cNvPr id="377" name=""/>
              <p:cNvSpPr/>
              <p:nvPr/>
            </p:nvSpPr>
            <p:spPr>
              <a:xfrm>
                <a:off x="652680" y="1729440"/>
                <a:ext cx="47160" cy="316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0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2160" y="1761120"/>
                <a:ext cx="11052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18080" y="1792800"/>
                <a:ext cx="127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241640" y="180936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5200" y="1841040"/>
                <a:ext cx="11052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72200" y="1874160"/>
                <a:ext cx="1263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94320" y="190584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17520" y="1937520"/>
                <a:ext cx="1116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324880" y="1953720"/>
                <a:ext cx="12672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547360" y="198576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70560" y="2017440"/>
                <a:ext cx="47520" cy="16200"/>
              </a:xfrm>
              <a:prstGeom prst="rect">
                <a:avLst/>
              </a:pr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39440" y="1440360"/>
                <a:ext cx="238320" cy="448560"/>
              </a:xfrm>
              <a:custGeom>
                <a:avLst/>
                <a:gdLst/>
                <a:ahLst/>
                <a:rect l="l" t="t" r="r" b="b"/>
                <a:pathLst>
                  <a:path w="205" h="382">
                    <a:moveTo>
                      <a:pt x="0" y="0"/>
                    </a:moveTo>
                    <a:lnTo>
                      <a:pt x="205" y="82"/>
                    </a:lnTo>
                    <a:lnTo>
                      <a:pt x="205" y="382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39440" y="1440360"/>
                <a:ext cx="254880" cy="465120"/>
              </a:xfrm>
              <a:custGeom>
                <a:avLst/>
                <a:gdLst/>
                <a:ahLst/>
                <a:rect l="l" t="t" r="r" b="b"/>
                <a:pathLst>
                  <a:path w="219" h="396">
                    <a:moveTo>
                      <a:pt x="0" y="0"/>
                    </a:moveTo>
                    <a:lnTo>
                      <a:pt x="205" y="82"/>
                    </a:lnTo>
                    <a:lnTo>
                      <a:pt x="219" y="82"/>
                    </a:lnTo>
                    <a:lnTo>
                      <a:pt x="219" y="82"/>
                    </a:lnTo>
                    <a:lnTo>
                      <a:pt x="219" y="382"/>
                    </a:lnTo>
                    <a:lnTo>
                      <a:pt x="219" y="396"/>
                    </a:lnTo>
                    <a:lnTo>
                      <a:pt x="205" y="396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205" y="382"/>
                    </a:lnTo>
                    <a:lnTo>
                      <a:pt x="205" y="396"/>
                    </a:lnTo>
                    <a:lnTo>
                      <a:pt x="205" y="382"/>
                    </a:lnTo>
                    <a:lnTo>
                      <a:pt x="205" y="82"/>
                    </a:lnTo>
                    <a:lnTo>
                      <a:pt x="219" y="82"/>
                    </a:lnTo>
                    <a:lnTo>
                      <a:pt x="205" y="9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39440" y="1440360"/>
                <a:ext cx="16200" cy="336960"/>
              </a:xfrm>
              <a:custGeom>
                <a:avLst/>
                <a:gdLst/>
                <a:ahLst/>
                <a:rect l="l" t="t" r="r" b="b"/>
                <a:pathLst>
                  <a:path w="14" h="287">
                    <a:moveTo>
                      <a:pt x="0" y="2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87"/>
                    </a:lnTo>
                    <a:lnTo>
                      <a:pt x="0" y="287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6480" y="1712880"/>
                <a:ext cx="6372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795960" y="1681200"/>
                <a:ext cx="12672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1018080" y="164808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241640" y="161640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448640" y="1585080"/>
                <a:ext cx="12672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2200" y="1553400"/>
                <a:ext cx="110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894320" y="151992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101680" y="148824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324880" y="1440360"/>
                <a:ext cx="11052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531880" y="1408680"/>
                <a:ext cx="12672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54360" y="1392480"/>
                <a:ext cx="63720" cy="16200"/>
              </a:xfrm>
              <a:prstGeom prst="rect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9920" y="1712880"/>
                <a:ext cx="6408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79400" y="1648080"/>
                <a:ext cx="127800" cy="3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002960" y="1585080"/>
                <a:ext cx="12672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1225080" y="1519920"/>
                <a:ext cx="127800" cy="3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1448640" y="1456920"/>
                <a:ext cx="12672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672200" y="1375560"/>
                <a:ext cx="126360" cy="4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894320" y="1312200"/>
                <a:ext cx="127800" cy="4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117520" y="1247400"/>
                <a:ext cx="126720" cy="4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40000" y="1199880"/>
                <a:ext cx="6372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94320" y="1392480"/>
                <a:ext cx="939960" cy="160560"/>
              </a:xfrm>
              <a:custGeom>
                <a:avLst/>
                <a:gdLst/>
                <a:ahLst/>
                <a:rect l="l" t="t" r="r" b="b"/>
                <a:pathLst>
                  <a:path w="808" h="137">
                    <a:moveTo>
                      <a:pt x="0" y="123"/>
                    </a:moveTo>
                    <a:lnTo>
                      <a:pt x="0" y="137"/>
                    </a:lnTo>
                    <a:lnTo>
                      <a:pt x="808" y="14"/>
                    </a:lnTo>
                    <a:lnTo>
                      <a:pt x="808" y="0"/>
                    </a:lnTo>
                    <a:lnTo>
                      <a:pt x="0" y="123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23240" y="1199880"/>
                <a:ext cx="764640" cy="240480"/>
              </a:xfrm>
              <a:custGeom>
                <a:avLst/>
                <a:gdLst/>
                <a:ahLst/>
                <a:rect l="l" t="t" r="r" b="b"/>
                <a:pathLst>
                  <a:path w="657" h="205">
                    <a:moveTo>
                      <a:pt x="0" y="191"/>
                    </a:moveTo>
                    <a:lnTo>
                      <a:pt x="0" y="205"/>
                    </a:lnTo>
                    <a:lnTo>
                      <a:pt x="657" y="14"/>
                    </a:lnTo>
                    <a:lnTo>
                      <a:pt x="657" y="0"/>
                    </a:lnTo>
                    <a:lnTo>
                      <a:pt x="0" y="191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94320" y="1905840"/>
                <a:ext cx="939960" cy="127800"/>
              </a:xfrm>
              <a:custGeom>
                <a:avLst/>
                <a:gdLst/>
                <a:ahLst/>
                <a:rect l="l" t="t" r="r" b="b"/>
                <a:pathLst>
                  <a:path w="808" h="109">
                    <a:moveTo>
                      <a:pt x="0" y="0"/>
                    </a:moveTo>
                    <a:lnTo>
                      <a:pt x="0" y="14"/>
                    </a:lnTo>
                    <a:lnTo>
                      <a:pt x="808" y="109"/>
                    </a:lnTo>
                    <a:lnTo>
                      <a:pt x="808" y="95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9920" y="1712880"/>
                <a:ext cx="47520" cy="1620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9400" y="1729440"/>
                <a:ext cx="111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02960" y="1744920"/>
                <a:ext cx="1116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25080" y="174492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48640" y="176112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72200" y="1777680"/>
                <a:ext cx="110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94320" y="1792800"/>
                <a:ext cx="127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117520" y="1809360"/>
                <a:ext cx="126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40000" y="1825920"/>
                <a:ext cx="63720" cy="15120"/>
              </a:xfrm>
              <a:prstGeom prst="rect">
                <a:avLst/>
              </a:pr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5160" y="1696680"/>
                <a:ext cx="47520" cy="644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28"/>
                    </a:moveTo>
                    <a:lnTo>
                      <a:pt x="41" y="14"/>
                    </a:lnTo>
                    <a:lnTo>
                      <a:pt x="13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55"/>
                    </a:lnTo>
                    <a:lnTo>
                      <a:pt x="13" y="55"/>
                    </a:lnTo>
                    <a:lnTo>
                      <a:pt x="41" y="55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5160" y="1696680"/>
                <a:ext cx="62640" cy="3276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41" y="28"/>
                    </a:moveTo>
                    <a:lnTo>
                      <a:pt x="41" y="14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13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13" y="28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54" y="14"/>
                    </a:lnTo>
                    <a:lnTo>
                      <a:pt x="54" y="28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5160" y="171288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5160" y="1729440"/>
                <a:ext cx="14760" cy="1512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54560" y="104004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94360" y="185760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2840" y="1297080"/>
                <a:ext cx="37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1400" y="1439280"/>
                <a:ext cx="395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in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5160" y="2161800"/>
                <a:ext cx="14760" cy="36864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79760" y="2146680"/>
                <a:ext cx="14760" cy="432000"/>
              </a:xfrm>
              <a:prstGeom prst="rect">
                <a:avLst/>
              </a:pr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51040" y="2065320"/>
                <a:ext cx="16200" cy="22536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8600" y="2130120"/>
                <a:ext cx="95400" cy="1123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8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7" y="41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68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68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67800" y="2146680"/>
                <a:ext cx="16200" cy="31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9920" y="214668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55" y="27"/>
                    </a:moveTo>
                    <a:lnTo>
                      <a:pt x="55" y="68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672200" y="2146680"/>
                <a:ext cx="78840" cy="11124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13" y="82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54" y="4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72200" y="2178360"/>
                <a:ext cx="14760" cy="4788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41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72200" y="2146680"/>
                <a:ext cx="62640" cy="7956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0" y="27"/>
                    </a:moveTo>
                    <a:lnTo>
                      <a:pt x="0" y="0"/>
                    </a:lnTo>
                    <a:lnTo>
                      <a:pt x="54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84000" y="2178360"/>
                <a:ext cx="987840" cy="16200"/>
              </a:xfrm>
              <a:prstGeom prst="rect">
                <a:avLst/>
              </a:pr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66320" y="197172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8600" y="2339280"/>
                <a:ext cx="95400" cy="7956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7" y="40"/>
                    </a:lnTo>
                    <a:lnTo>
                      <a:pt x="0" y="40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7" y="4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8" y="68"/>
                    </a:lnTo>
                    <a:lnTo>
                      <a:pt x="68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7800" y="2354400"/>
                <a:ext cx="16200" cy="31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9920" y="2354400"/>
                <a:ext cx="64080" cy="644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27"/>
                    </a:moveTo>
                    <a:lnTo>
                      <a:pt x="55" y="55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83280" y="2354400"/>
                <a:ext cx="96480" cy="7956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83" y="27"/>
                    </a:lnTo>
                    <a:lnTo>
                      <a:pt x="55" y="4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5" y="27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83280" y="2386080"/>
                <a:ext cx="16200" cy="3276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83280" y="2354400"/>
                <a:ext cx="64080" cy="644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4000" y="2386080"/>
                <a:ext cx="1798920" cy="16200"/>
              </a:xfrm>
              <a:prstGeom prst="rect">
                <a:avLst/>
              </a:prstGeom>
              <a:blipFill rotWithShape="0">
                <a:blip r:embed="rId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96160" y="217692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72800" y="99216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05360" y="111888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44040" y="1568520"/>
                <a:ext cx="95400" cy="961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14" y="41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68" y="55"/>
                    </a:lnTo>
                    <a:lnTo>
                      <a:pt x="82" y="55"/>
                    </a:lnTo>
                    <a:lnTo>
                      <a:pt x="55" y="6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14" y="27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41"/>
                    </a:lnTo>
                    <a:lnTo>
                      <a:pt x="14" y="41"/>
                    </a:lnTo>
                    <a:close/>
                  </a:path>
                </a:pathLst>
              </a:custGeom>
              <a:blipFill rotWithShape="0">
                <a:blip r:embed="rId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44040" y="161676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44040" y="1585080"/>
                <a:ext cx="64080" cy="6336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14" y="27"/>
                    </a:moveTo>
                    <a:lnTo>
                      <a:pt x="14" y="0"/>
                    </a:lnTo>
                    <a:lnTo>
                      <a:pt x="55" y="41"/>
                    </a:lnTo>
                    <a:lnTo>
                      <a:pt x="0" y="5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79960" y="1585080"/>
                <a:ext cx="63720" cy="478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48640" y="1505160"/>
                <a:ext cx="47520" cy="7956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27" y="6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68"/>
                    </a:lnTo>
                    <a:lnTo>
                      <a:pt x="27" y="68"/>
                    </a:lnTo>
                    <a:close/>
                  </a:path>
                </a:pathLst>
              </a:custGeom>
              <a:blipFill rotWithShape="0">
                <a:blip r:embed="rId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00760" y="1312560"/>
                <a:ext cx="64080" cy="192240"/>
              </a:xfrm>
              <a:custGeom>
                <a:avLst/>
                <a:gdLst/>
                <a:ahLst/>
                <a:rect l="l" t="t" r="r" b="b"/>
                <a:pathLst>
                  <a:path w="55" h="164">
                    <a:moveTo>
                      <a:pt x="41" y="164"/>
                    </a:moveTo>
                    <a:lnTo>
                      <a:pt x="55" y="16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41" y="164"/>
                    </a:lnTo>
                    <a:close/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78120" y="1633320"/>
                <a:ext cx="96480" cy="961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69" y="54"/>
                    </a:move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2" y="13"/>
                    </a:lnTo>
                    <a:lnTo>
                      <a:pt x="42" y="0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14" y="68"/>
                    </a:lnTo>
                    <a:lnTo>
                      <a:pt x="83" y="68"/>
                    </a:lnTo>
                    <a:lnTo>
                      <a:pt x="83" y="82"/>
                    </a:lnTo>
                    <a:lnTo>
                      <a:pt x="69" y="82"/>
                    </a:lnTo>
                    <a:lnTo>
                      <a:pt x="55" y="54"/>
                    </a:lnTo>
                    <a:lnTo>
                      <a:pt x="69" y="54"/>
                    </a:lnTo>
                    <a:close/>
                  </a:path>
                </a:pathLst>
              </a:custGeom>
              <a:blipFill rotWithShape="0">
                <a:blip r:embed="rId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26720" y="16650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0"/>
                    </a:moveTo>
                    <a:lnTo>
                      <a:pt x="2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894320" y="1665000"/>
                <a:ext cx="79920" cy="6444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55" y="27"/>
                    </a:moveTo>
                    <a:lnTo>
                      <a:pt x="69" y="55"/>
                    </a:lnTo>
                    <a:lnTo>
                      <a:pt x="0" y="55"/>
                    </a:lnTo>
                    <a:lnTo>
                      <a:pt x="41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070000" y="1247760"/>
                <a:ext cx="47160" cy="288720"/>
              </a:xfrm>
              <a:custGeom>
                <a:avLst/>
                <a:gdLst/>
                <a:ahLst/>
                <a:rect l="l" t="t" r="r" b="b"/>
                <a:pathLst>
                  <a:path w="41" h="246">
                    <a:moveTo>
                      <a:pt x="41" y="0"/>
                    </a:moveTo>
                    <a:lnTo>
                      <a:pt x="13" y="246"/>
                    </a:lnTo>
                    <a:lnTo>
                      <a:pt x="13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27" y="0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022480" y="1536840"/>
                <a:ext cx="62640" cy="11124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54" y="0"/>
                    </a:moveTo>
                    <a:lnTo>
                      <a:pt x="13" y="82"/>
                    </a:lnTo>
                    <a:lnTo>
                      <a:pt x="13" y="95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1" y="0"/>
                    </a:lnTo>
                    <a:lnTo>
                      <a:pt x="54" y="0"/>
                    </a:lnTo>
                    <a:close/>
                  </a:path>
                </a:pathLst>
              </a:custGeom>
              <a:blipFill rotWithShape="0">
                <a:blip r:embed="rId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58400" y="169668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58400" y="1633320"/>
                <a:ext cx="78840" cy="7956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13"/>
                    </a:moveTo>
                    <a:lnTo>
                      <a:pt x="55" y="0"/>
                    </a:lnTo>
                    <a:lnTo>
                      <a:pt x="0" y="54"/>
                    </a:lnTo>
                    <a:lnTo>
                      <a:pt x="14" y="68"/>
                    </a:lnTo>
                    <a:lnTo>
                      <a:pt x="68" y="13"/>
                    </a:lnTo>
                    <a:close/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87880" y="1199880"/>
                <a:ext cx="15840" cy="64440"/>
              </a:xfrm>
              <a:prstGeom prst="rect">
                <a:avLst/>
              </a:prstGeom>
              <a:blipFill rotWithShape="0">
                <a:blip r:embed="rId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87880" y="1360800"/>
                <a:ext cx="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87880" y="1553400"/>
                <a:ext cx="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87880" y="1761120"/>
                <a:ext cx="15840" cy="7956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5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87880" y="1825920"/>
                <a:ext cx="6372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0"/>
                    </a:moveTo>
                    <a:lnTo>
                      <a:pt x="0" y="13"/>
                    </a:lnTo>
                    <a:lnTo>
                      <a:pt x="55" y="27"/>
                    </a:lnTo>
                    <a:lnTo>
                      <a:pt x="55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63200" y="1889280"/>
                <a:ext cx="111600" cy="6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86760" y="2001960"/>
                <a:ext cx="62640" cy="3168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0"/>
                    </a:moveTo>
                    <a:lnTo>
                      <a:pt x="0" y="13"/>
                    </a:lnTo>
                    <a:lnTo>
                      <a:pt x="54" y="27"/>
                    </a:lnTo>
                    <a:lnTo>
                      <a:pt x="54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87880" y="1199880"/>
                <a:ext cx="461520" cy="208800"/>
              </a:xfrm>
              <a:custGeom>
                <a:avLst/>
                <a:gdLst/>
                <a:ahLst/>
                <a:rect l="l" t="t" r="r" b="b"/>
                <a:pathLst>
                  <a:path w="397" h="178">
                    <a:moveTo>
                      <a:pt x="0" y="0"/>
                    </a:moveTo>
                    <a:lnTo>
                      <a:pt x="0" y="14"/>
                    </a:lnTo>
                    <a:lnTo>
                      <a:pt x="384" y="178"/>
                    </a:lnTo>
                    <a:lnTo>
                      <a:pt x="397" y="164"/>
                    </a:lnTo>
                    <a:lnTo>
                      <a:pt x="397" y="164"/>
                    </a:lnTo>
                    <a:lnTo>
                      <a:pt x="384" y="16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34640" y="1392480"/>
                <a:ext cx="14760" cy="624600"/>
              </a:xfrm>
              <a:prstGeom prst="rect">
                <a:avLst/>
              </a:pr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34840" y="1408680"/>
                <a:ext cx="79920" cy="961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41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41" y="54"/>
                    </a:lnTo>
                    <a:lnTo>
                      <a:pt x="41" y="82"/>
                    </a:lnTo>
                    <a:lnTo>
                      <a:pt x="2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41" y="1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51040" y="1408680"/>
                <a:ext cx="31320" cy="15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51040" y="1408680"/>
                <a:ext cx="64080" cy="6336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27" y="0"/>
                    </a:moveTo>
                    <a:lnTo>
                      <a:pt x="55" y="0"/>
                    </a:lnTo>
                    <a:lnTo>
                      <a:pt x="27" y="54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82360" y="1264320"/>
                <a:ext cx="16200" cy="127800"/>
              </a:xfrm>
              <a:prstGeom prst="rect">
                <a:avLst/>
              </a:pr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23240" y="1825920"/>
                <a:ext cx="111600" cy="7956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28" y="41"/>
                    </a:moveTo>
                    <a:lnTo>
                      <a:pt x="14" y="13"/>
                    </a:lnTo>
                    <a:lnTo>
                      <a:pt x="0" y="13"/>
                    </a:lnTo>
                    <a:lnTo>
                      <a:pt x="28" y="0"/>
                    </a:lnTo>
                    <a:lnTo>
                      <a:pt x="83" y="0"/>
                    </a:lnTo>
                    <a:lnTo>
                      <a:pt x="96" y="0"/>
                    </a:lnTo>
                    <a:lnTo>
                      <a:pt x="83" y="27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69" y="13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2" y="27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56000" y="18576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7" y="1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639440" y="1841040"/>
                <a:ext cx="64080" cy="478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4" y="28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28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560240" y="1922040"/>
                <a:ext cx="1080" cy="15120"/>
              </a:xfrm>
              <a:prstGeom prst="rect">
                <a:avLst/>
              </a:pr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56000" y="1874160"/>
                <a:ext cx="720" cy="15120"/>
              </a:xfrm>
              <a:prstGeom prst="rect">
                <a:avLst/>
              </a:pr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60240" y="187416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0" y="41"/>
                    </a:moveTo>
                    <a:lnTo>
                      <a:pt x="0" y="54"/>
                    </a:lnTo>
                    <a:lnTo>
                      <a:pt x="82" y="13"/>
                    </a:lnTo>
                    <a:lnTo>
                      <a:pt x="82" y="0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4" name=""/>
          <p:cNvSpPr/>
          <p:nvPr/>
        </p:nvSpPr>
        <p:spPr>
          <a:xfrm>
            <a:off x="4200480" y="156996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61080" y="17604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047840" y="184932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568760" y="12268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30"/>
          <a:stretch/>
        </p:blipFill>
        <p:spPr>
          <a:xfrm>
            <a:off x="6553080" y="1020600"/>
            <a:ext cx="1812960" cy="149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491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499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7FD78FA-2026-462E-B534-A066D8DF10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0520" y="482760"/>
            <a:ext cx="349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OJEC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4440" y="965160"/>
            <a:ext cx="522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deal with onl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lanar geometric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67040" y="952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57400" y="1397160"/>
            <a:ext cx="75517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distance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enter of projec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viewpo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to object is finite, projection is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perspec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otherwise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78400" y="1403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48360" y="1397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60440" y="1728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87320" y="17226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709640" y="2236680"/>
            <a:ext cx="5448240" cy="17906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610160" y="6337440"/>
            <a:ext cx="2052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304040" y="6402240"/>
            <a:ext cx="20520" cy="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18160" y="5861160"/>
            <a:ext cx="1440" cy="21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8160" y="6141960"/>
            <a:ext cx="144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124600" y="4133880"/>
            <a:ext cx="2799720" cy="1994040"/>
            <a:chOff x="5124600" y="4133880"/>
            <a:chExt cx="2799720" cy="1994040"/>
          </a:xfrm>
        </p:grpSpPr>
        <p:sp>
          <p:nvSpPr>
            <p:cNvPr id="518" name=""/>
            <p:cNvSpPr/>
            <p:nvPr/>
          </p:nvSpPr>
          <p:spPr>
            <a:xfrm>
              <a:off x="7542360" y="4799160"/>
              <a:ext cx="1440" cy="21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69120" y="4994280"/>
              <a:ext cx="1440" cy="22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99040" y="4842000"/>
              <a:ext cx="1800" cy="21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69120" y="5492880"/>
              <a:ext cx="1440" cy="21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77160" y="5384880"/>
              <a:ext cx="1440" cy="20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64280" y="5384880"/>
              <a:ext cx="1800" cy="20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04040" y="5818320"/>
              <a:ext cx="20520" cy="1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73640" y="5708520"/>
              <a:ext cx="22320" cy="1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3640" y="6013440"/>
              <a:ext cx="22320" cy="14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66000" y="5861160"/>
              <a:ext cx="1440" cy="219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91040" y="5102280"/>
              <a:ext cx="1800" cy="223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95920" y="4691160"/>
              <a:ext cx="22320" cy="14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42320" y="5297400"/>
              <a:ext cx="21960" cy="18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29440" y="5405400"/>
              <a:ext cx="1440" cy="223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16480" y="4626000"/>
              <a:ext cx="22320" cy="14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16480" y="4799160"/>
              <a:ext cx="22320" cy="14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124600" y="4133880"/>
              <a:ext cx="2799720" cy="1994040"/>
              <a:chOff x="5124600" y="4133880"/>
              <a:chExt cx="2799720" cy="1994040"/>
            </a:xfrm>
          </p:grpSpPr>
          <p:sp>
            <p:nvSpPr>
              <p:cNvPr id="535" name=""/>
              <p:cNvSpPr/>
              <p:nvPr/>
            </p:nvSpPr>
            <p:spPr>
              <a:xfrm>
                <a:off x="6145560" y="5521320"/>
                <a:ext cx="1440" cy="2232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145560" y="5521320"/>
                <a:ext cx="1152360" cy="2232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97800" y="4719600"/>
                <a:ext cx="369720" cy="844560"/>
              </a:xfrm>
              <a:custGeom>
                <a:avLst/>
                <a:gdLst/>
                <a:ahLst/>
                <a:rect l="l" t="t" r="r" b="b"/>
                <a:pathLst>
                  <a:path w="233" h="532">
                    <a:moveTo>
                      <a:pt x="0" y="0"/>
                    </a:moveTo>
                    <a:lnTo>
                      <a:pt x="219" y="96"/>
                    </a:lnTo>
                    <a:lnTo>
                      <a:pt x="233" y="96"/>
                    </a:lnTo>
                    <a:lnTo>
                      <a:pt x="233" y="96"/>
                    </a:lnTo>
                    <a:lnTo>
                      <a:pt x="233" y="505"/>
                    </a:lnTo>
                    <a:lnTo>
                      <a:pt x="233" y="532"/>
                    </a:lnTo>
                    <a:lnTo>
                      <a:pt x="219" y="519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69"/>
                    </a:lnTo>
                    <a:lnTo>
                      <a:pt x="14" y="369"/>
                    </a:lnTo>
                    <a:lnTo>
                      <a:pt x="233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96"/>
                    </a:lnTo>
                    <a:lnTo>
                      <a:pt x="233" y="96"/>
                    </a:lnTo>
                    <a:lnTo>
                      <a:pt x="219" y="109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97800" y="4719600"/>
                <a:ext cx="22320" cy="586080"/>
              </a:xfrm>
              <a:custGeom>
                <a:avLst/>
                <a:gdLst/>
                <a:ahLst/>
                <a:rect l="l" t="t" r="r" b="b"/>
                <a:pathLst>
                  <a:path w="14" h="369">
                    <a:moveTo>
                      <a:pt x="0" y="3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69"/>
                    </a:lnTo>
                    <a:lnTo>
                      <a:pt x="0" y="369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50160" y="4697640"/>
                <a:ext cx="20880" cy="871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55"/>
                    </a:move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50160" y="469764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0"/>
                    </a:moveTo>
                    <a:lnTo>
                      <a:pt x="0" y="14"/>
                    </a:lnTo>
                    <a:lnTo>
                      <a:pt x="54" y="41"/>
                    </a:lnTo>
                    <a:lnTo>
                      <a:pt x="54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10800" y="482760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0" y="0"/>
                    </a:moveTo>
                    <a:lnTo>
                      <a:pt x="0" y="14"/>
                    </a:lnTo>
                    <a:lnTo>
                      <a:pt x="55" y="41"/>
                    </a:lnTo>
                    <a:lnTo>
                      <a:pt x="68" y="28"/>
                    </a:lnTo>
                    <a:lnTo>
                      <a:pt x="68" y="41"/>
                    </a:lnTo>
                    <a:lnTo>
                      <a:pt x="55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97920" y="4872240"/>
                <a:ext cx="20520" cy="8568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97920" y="5110200"/>
                <a:ext cx="1440" cy="19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97920" y="5435640"/>
                <a:ext cx="20520" cy="12852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13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0" y="68"/>
                    </a:lnTo>
                    <a:lnTo>
                      <a:pt x="13" y="81"/>
                    </a:lnTo>
                    <a:lnTo>
                      <a:pt x="13" y="54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10800" y="547848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50160" y="5326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41" y="41"/>
                    </a:moveTo>
                    <a:lnTo>
                      <a:pt x="54" y="2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1" y="41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50160" y="5240520"/>
                <a:ext cx="20880" cy="856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6950160" y="4915080"/>
                <a:ext cx="1800" cy="19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97800" y="4697640"/>
                <a:ext cx="1440" cy="2196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97800" y="4697640"/>
                <a:ext cx="1152360" cy="2196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5560" y="4892760"/>
                <a:ext cx="1440" cy="223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5560" y="4892760"/>
                <a:ext cx="1152360" cy="2232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81080" y="537048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13880" y="415620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73360" y="413388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124600" y="4697640"/>
                <a:ext cx="347760" cy="801720"/>
              </a:xfrm>
              <a:custGeom>
                <a:avLst/>
                <a:gdLst/>
                <a:ahLst/>
                <a:rect l="l" t="t" r="r" b="b"/>
                <a:pathLst>
                  <a:path w="219" h="505">
                    <a:moveTo>
                      <a:pt x="0" y="0"/>
                    </a:moveTo>
                    <a:lnTo>
                      <a:pt x="219" y="110"/>
                    </a:lnTo>
                    <a:lnTo>
                      <a:pt x="219" y="505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124600" y="4697640"/>
                <a:ext cx="370080" cy="846000"/>
              </a:xfrm>
              <a:custGeom>
                <a:avLst/>
                <a:gdLst/>
                <a:ahLst/>
                <a:rect l="l" t="t" r="r" b="b"/>
                <a:pathLst>
                  <a:path w="233" h="533">
                    <a:moveTo>
                      <a:pt x="0" y="0"/>
                    </a:moveTo>
                    <a:lnTo>
                      <a:pt x="219" y="110"/>
                    </a:lnTo>
                    <a:lnTo>
                      <a:pt x="233" y="123"/>
                    </a:lnTo>
                    <a:lnTo>
                      <a:pt x="233" y="110"/>
                    </a:lnTo>
                    <a:lnTo>
                      <a:pt x="233" y="505"/>
                    </a:lnTo>
                    <a:lnTo>
                      <a:pt x="233" y="533"/>
                    </a:lnTo>
                    <a:lnTo>
                      <a:pt x="219" y="519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219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110"/>
                    </a:lnTo>
                    <a:lnTo>
                      <a:pt x="233" y="110"/>
                    </a:lnTo>
                    <a:lnTo>
                      <a:pt x="219" y="1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24600" y="4697640"/>
                <a:ext cx="22320" cy="608040"/>
              </a:xfrm>
              <a:custGeom>
                <a:avLst/>
                <a:gdLst/>
                <a:ahLst/>
                <a:rect l="l" t="t" r="r" b="b"/>
                <a:pathLst>
                  <a:path w="14" h="383">
                    <a:moveTo>
                      <a:pt x="0" y="38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83"/>
                    </a:lnTo>
                    <a:lnTo>
                      <a:pt x="0" y="383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72360" y="5521320"/>
                <a:ext cx="87120" cy="223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712120" y="552132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92920" y="552132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97840" y="552132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2760" y="5521320"/>
                <a:ext cx="172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05880" y="552132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10800" y="5521320"/>
                <a:ext cx="8712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32600" y="5305680"/>
                <a:ext cx="1440" cy="2052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6920" y="5305680"/>
                <a:ext cx="85680" cy="205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64360" y="53056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67480" y="530568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72400" y="530568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275520" y="532620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80440" y="53262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85360" y="5326200"/>
                <a:ext cx="64800" cy="2232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72360" y="4872240"/>
                <a:ext cx="87120" cy="2052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89800" y="487224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92920" y="487224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97840" y="489276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02760" y="489276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905880" y="489276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10800" y="4892760"/>
                <a:ext cx="64800" cy="223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24600" y="4697640"/>
                <a:ext cx="87480" cy="2196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64360" y="469764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646960" y="469764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50080" y="469764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55000" y="469764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58120" y="471960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63040" y="4719600"/>
                <a:ext cx="87120" cy="223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297920" y="4892760"/>
                <a:ext cx="20520" cy="628560"/>
              </a:xfrm>
              <a:custGeom>
                <a:avLst/>
                <a:gdLst/>
                <a:ahLst/>
                <a:rect l="l" t="t" r="r" b="b"/>
                <a:pathLst>
                  <a:path w="13" h="396">
                    <a:moveTo>
                      <a:pt x="0" y="396"/>
                    </a:moveTo>
                    <a:lnTo>
                      <a:pt x="13" y="396"/>
                    </a:lnTo>
                    <a:lnTo>
                      <a:pt x="13" y="0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96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950160" y="4697640"/>
                <a:ext cx="347760" cy="217440"/>
              </a:xfrm>
              <a:custGeom>
                <a:avLst/>
                <a:gdLst/>
                <a:ahLst/>
                <a:rect l="l" t="t" r="r" b="b"/>
                <a:pathLst>
                  <a:path w="219" h="137">
                    <a:moveTo>
                      <a:pt x="219" y="137"/>
                    </a:moveTo>
                    <a:lnTo>
                      <a:pt x="219" y="12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9" y="137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72360" y="5608800"/>
                <a:ext cx="22320" cy="519120"/>
              </a:xfrm>
              <a:prstGeom prst="rect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75600" y="5608800"/>
                <a:ext cx="22320" cy="51912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45560" y="5608800"/>
                <a:ext cx="21960" cy="30312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450040" y="569448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9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8" y="28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82" y="69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59480" y="57168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94680" y="571680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27"/>
                    </a:moveTo>
                    <a:lnTo>
                      <a:pt x="54" y="68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015240" y="571680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14" y="82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015240" y="575964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15240" y="571680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80360" y="5759640"/>
                <a:ext cx="1440" cy="2196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015240" y="5759640"/>
                <a:ext cx="1440" cy="21960"/>
              </a:xfrm>
              <a:prstGeom prst="rect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80360" y="5759640"/>
                <a:ext cx="434880" cy="2196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667120" y="547848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50040" y="593424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28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8" y="40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9" y="68"/>
                    </a:lnTo>
                    <a:lnTo>
                      <a:pt x="69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59480" y="595476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94680" y="595476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7"/>
                    </a:moveTo>
                    <a:lnTo>
                      <a:pt x="54" y="55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88480" y="5934240"/>
                <a:ext cx="129960" cy="150840"/>
              </a:xfrm>
              <a:custGeom>
                <a:avLst/>
                <a:gdLst/>
                <a:ahLst/>
                <a:rect l="l" t="t" r="r" b="b"/>
                <a:pathLst>
                  <a:path w="82" h="95">
                    <a:moveTo>
                      <a:pt x="0" y="40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55" y="40"/>
                    </a:lnTo>
                    <a:lnTo>
                      <a:pt x="82" y="40"/>
                    </a:lnTo>
                    <a:lnTo>
                      <a:pt x="55" y="54"/>
                    </a:lnTo>
                    <a:lnTo>
                      <a:pt x="14" y="81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1" y="40"/>
                    </a:lnTo>
                    <a:lnTo>
                      <a:pt x="55" y="54"/>
                    </a:lnTo>
                    <a:lnTo>
                      <a:pt x="41" y="54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4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88480" y="599760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88480" y="595476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27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80360" y="5997600"/>
                <a:ext cx="1440" cy="2232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80360" y="5997600"/>
                <a:ext cx="1585800" cy="2232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19440" y="573876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67480" y="4915080"/>
                <a:ext cx="152640" cy="172800"/>
              </a:xfrm>
              <a:custGeom>
                <a:avLst/>
                <a:gdLst/>
                <a:ahLst/>
                <a:rect l="l" t="t" r="r" b="b"/>
                <a:pathLst>
                  <a:path w="96" h="109">
                    <a:moveTo>
                      <a:pt x="28" y="41"/>
                    </a:moveTo>
                    <a:lnTo>
                      <a:pt x="55" y="13"/>
                    </a:lnTo>
                    <a:lnTo>
                      <a:pt x="55" y="0"/>
                    </a:lnTo>
                    <a:lnTo>
                      <a:pt x="69" y="27"/>
                    </a:lnTo>
                    <a:lnTo>
                      <a:pt x="82" y="95"/>
                    </a:lnTo>
                    <a:lnTo>
                      <a:pt x="96" y="109"/>
                    </a:lnTo>
                    <a:lnTo>
                      <a:pt x="55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69" y="82"/>
                    </a:lnTo>
                    <a:lnTo>
                      <a:pt x="55" y="95"/>
                    </a:lnTo>
                    <a:lnTo>
                      <a:pt x="55" y="95"/>
                    </a:lnTo>
                    <a:lnTo>
                      <a:pt x="4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41" y="54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89800" y="49802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14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89800" y="4935600"/>
                <a:ext cx="87480" cy="10944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14" y="28"/>
                    </a:moveTo>
                    <a:lnTo>
                      <a:pt x="41" y="0"/>
                    </a:lnTo>
                    <a:lnTo>
                      <a:pt x="55" y="69"/>
                    </a:lnTo>
                    <a:lnTo>
                      <a:pt x="0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46960" y="4784760"/>
                <a:ext cx="85680" cy="19548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41" y="123"/>
                    </a:moveTo>
                    <a:lnTo>
                      <a:pt x="54" y="12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23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46960" y="4502160"/>
                <a:ext cx="20520" cy="28260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145560" y="50659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55" y="28"/>
                    </a:moveTo>
                    <a:lnTo>
                      <a:pt x="69" y="55"/>
                    </a:lnTo>
                    <a:lnTo>
                      <a:pt x="69" y="55"/>
                    </a:lnTo>
                    <a:lnTo>
                      <a:pt x="69" y="55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55"/>
                    </a:lnTo>
                    <a:lnTo>
                      <a:pt x="55" y="41"/>
                    </a:lnTo>
                    <a:lnTo>
                      <a:pt x="69" y="55"/>
                    </a:lnTo>
                    <a:lnTo>
                      <a:pt x="55" y="69"/>
                    </a:lnTo>
                    <a:lnTo>
                      <a:pt x="41" y="41"/>
                    </a:lnTo>
                    <a:lnTo>
                      <a:pt x="55" y="28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67520" y="508788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4" y="0"/>
                    </a:move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67520" y="50878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1" y="14"/>
                    </a:moveTo>
                    <a:lnTo>
                      <a:pt x="55" y="41"/>
                    </a:lnTo>
                    <a:lnTo>
                      <a:pt x="0" y="55"/>
                    </a:lnTo>
                    <a:lnTo>
                      <a:pt x="14" y="0"/>
                    </a:lnTo>
                    <a:lnTo>
                      <a:pt x="41" y="14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20160" y="4546800"/>
                <a:ext cx="42840" cy="345960"/>
              </a:xfrm>
              <a:custGeom>
                <a:avLst/>
                <a:gdLst/>
                <a:ahLst/>
                <a:rect l="l" t="t" r="r" b="b"/>
                <a:pathLst>
                  <a:path w="27" h="218">
                    <a:moveTo>
                      <a:pt x="27" y="0"/>
                    </a:moveTo>
                    <a:lnTo>
                      <a:pt x="13" y="0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13" y="218"/>
                    </a:lnTo>
                    <a:lnTo>
                      <a:pt x="13" y="218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32680" y="4892760"/>
                <a:ext cx="108000" cy="217440"/>
              </a:xfrm>
              <a:custGeom>
                <a:avLst/>
                <a:gdLst/>
                <a:ahLst/>
                <a:rect l="l" t="t" r="r" b="b"/>
                <a:pathLst>
                  <a:path w="68" h="137">
                    <a:moveTo>
                      <a:pt x="68" y="0"/>
                    </a:moveTo>
                    <a:lnTo>
                      <a:pt x="55" y="0"/>
                    </a:lnTo>
                    <a:lnTo>
                      <a:pt x="0" y="137"/>
                    </a:lnTo>
                    <a:lnTo>
                      <a:pt x="14" y="137"/>
                    </a:lnTo>
                    <a:lnTo>
                      <a:pt x="68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13760" y="417852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015320" y="5305680"/>
                <a:ext cx="150840" cy="12996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5" y="41"/>
                    </a:moveTo>
                    <a:lnTo>
                      <a:pt x="82" y="68"/>
                    </a:lnTo>
                    <a:lnTo>
                      <a:pt x="82" y="82"/>
                    </a:lnTo>
                    <a:lnTo>
                      <a:pt x="68" y="68"/>
                    </a:lnTo>
                    <a:lnTo>
                      <a:pt x="27" y="27"/>
                    </a:lnTo>
                    <a:lnTo>
                      <a:pt x="0" y="27"/>
                    </a:lnTo>
                    <a:lnTo>
                      <a:pt x="41" y="13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82" y="54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82" y="41"/>
                    </a:lnTo>
                    <a:lnTo>
                      <a:pt x="95" y="41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45640" y="5326200"/>
                <a:ext cx="20520" cy="442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0"/>
                    </a:move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080480" y="53262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8"/>
                    </a:moveTo>
                    <a:lnTo>
                      <a:pt x="41" y="55"/>
                    </a:lnTo>
                    <a:lnTo>
                      <a:pt x="0" y="14"/>
                    </a:lnTo>
                    <a:lnTo>
                      <a:pt x="54" y="0"/>
                    </a:lnTo>
                    <a:lnTo>
                      <a:pt x="54" y="28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66160" y="5370480"/>
                <a:ext cx="500040" cy="65160"/>
              </a:xfrm>
              <a:custGeom>
                <a:avLst/>
                <a:gdLst/>
                <a:ahLst/>
                <a:rect l="l" t="t" r="r" b="b"/>
                <a:pathLst>
                  <a:path w="315" h="41">
                    <a:moveTo>
                      <a:pt x="315" y="41"/>
                    </a:moveTo>
                    <a:lnTo>
                      <a:pt x="31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15" y="41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58160" y="469764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41" y="0"/>
                    </a:move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1" y="55"/>
                    </a:lnTo>
                    <a:lnTo>
                      <a:pt x="41" y="82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55" y="0"/>
                    </a:lnTo>
                    <a:lnTo>
                      <a:pt x="68" y="0"/>
                    </a:lnTo>
                    <a:lnTo>
                      <a:pt x="68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80480" y="469764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0480" y="469764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0"/>
                    </a:moveTo>
                    <a:lnTo>
                      <a:pt x="54" y="0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123320" y="4481640"/>
                <a:ext cx="22320" cy="216000"/>
              </a:xfrm>
              <a:prstGeom prst="rect">
                <a:avLst/>
              </a:pr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"/>
          <p:cNvGrpSpPr/>
          <p:nvPr/>
        </p:nvGrpSpPr>
        <p:grpSpPr>
          <a:xfrm>
            <a:off x="1203840" y="4054320"/>
            <a:ext cx="3426840" cy="2219400"/>
            <a:chOff x="1203840" y="4054320"/>
            <a:chExt cx="3426840" cy="2219400"/>
          </a:xfrm>
        </p:grpSpPr>
        <p:sp>
          <p:nvSpPr>
            <p:cNvPr id="632" name=""/>
            <p:cNvSpPr/>
            <p:nvPr/>
          </p:nvSpPr>
          <p:spPr>
            <a:xfrm>
              <a:off x="3436920" y="5665680"/>
              <a:ext cx="1440" cy="2232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89160" y="4842000"/>
              <a:ext cx="1800" cy="2196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11360" y="5665680"/>
              <a:ext cx="1440" cy="2232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98480" y="5665680"/>
              <a:ext cx="1800" cy="2232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49800" y="5665680"/>
              <a:ext cx="1440" cy="2232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36920" y="5665680"/>
              <a:ext cx="1440" cy="2232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85920" y="5450040"/>
              <a:ext cx="1440" cy="2052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4360" y="5470560"/>
              <a:ext cx="1440" cy="2232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1360" y="5016600"/>
              <a:ext cx="1440" cy="2052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8480" y="5016600"/>
              <a:ext cx="1800" cy="2052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63600" y="4842000"/>
              <a:ext cx="1800" cy="2196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51080" y="4842000"/>
              <a:ext cx="1440" cy="2196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02040" y="4863960"/>
              <a:ext cx="1440" cy="2232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089160" y="4863960"/>
              <a:ext cx="1800" cy="2232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36920" y="5665680"/>
              <a:ext cx="20520" cy="180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89160" y="4842000"/>
              <a:ext cx="1800" cy="2196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11360" y="5753160"/>
              <a:ext cx="22320" cy="144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1360" y="6272280"/>
              <a:ext cx="22320" cy="144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14600" y="5753160"/>
              <a:ext cx="22320" cy="144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14600" y="6272280"/>
              <a:ext cx="22320" cy="144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4560" y="5753160"/>
              <a:ext cx="21960" cy="144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51120" y="5124600"/>
              <a:ext cx="20520" cy="144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785960" y="4646520"/>
              <a:ext cx="20520" cy="180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79680" y="4691160"/>
              <a:ext cx="22320" cy="144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71680" y="5254560"/>
              <a:ext cx="22320" cy="18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05200" y="5557680"/>
              <a:ext cx="1800" cy="2232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62320" y="4626000"/>
              <a:ext cx="22320" cy="144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62320" y="4842000"/>
              <a:ext cx="22320" cy="144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10160" y="5838840"/>
              <a:ext cx="20520" cy="1440"/>
            </a:xfrm>
            <a:prstGeom prst="rect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1203840" y="4054320"/>
              <a:ext cx="3216960" cy="2144520"/>
              <a:chOff x="1203840" y="4054320"/>
              <a:chExt cx="3216960" cy="2144520"/>
            </a:xfrm>
          </p:grpSpPr>
          <p:sp>
            <p:nvSpPr>
              <p:cNvPr id="662" name=""/>
              <p:cNvSpPr/>
              <p:nvPr/>
            </p:nvSpPr>
            <p:spPr>
              <a:xfrm>
                <a:off x="1423800" y="5051160"/>
                <a:ext cx="64800" cy="4284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0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641240" y="509400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2040" y="51368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226960" y="515916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31880" y="520200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14480" y="5246640"/>
                <a:ext cx="172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117600" y="528948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22160" y="533232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04760" y="5354280"/>
                <a:ext cx="17316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08240" y="539748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12800" y="5440320"/>
                <a:ext cx="65160" cy="21960"/>
              </a:xfrm>
              <a:prstGeom prst="rect">
                <a:avLst/>
              </a:pr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69840" y="4660560"/>
                <a:ext cx="325440" cy="606600"/>
              </a:xfrm>
              <a:custGeom>
                <a:avLst/>
                <a:gdLst/>
                <a:ahLst/>
                <a:rect l="l" t="t" r="r" b="b"/>
                <a:pathLst>
                  <a:path w="205" h="382">
                    <a:moveTo>
                      <a:pt x="0" y="0"/>
                    </a:moveTo>
                    <a:lnTo>
                      <a:pt x="205" y="82"/>
                    </a:lnTo>
                    <a:lnTo>
                      <a:pt x="205" y="382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69840" y="4660560"/>
                <a:ext cx="347760" cy="628920"/>
              </a:xfrm>
              <a:custGeom>
                <a:avLst/>
                <a:gdLst/>
                <a:ahLst/>
                <a:rect l="l" t="t" r="r" b="b"/>
                <a:pathLst>
                  <a:path w="219" h="396">
                    <a:moveTo>
                      <a:pt x="0" y="0"/>
                    </a:moveTo>
                    <a:lnTo>
                      <a:pt x="205" y="82"/>
                    </a:lnTo>
                    <a:lnTo>
                      <a:pt x="219" y="82"/>
                    </a:lnTo>
                    <a:lnTo>
                      <a:pt x="219" y="82"/>
                    </a:lnTo>
                    <a:lnTo>
                      <a:pt x="219" y="382"/>
                    </a:lnTo>
                    <a:lnTo>
                      <a:pt x="219" y="396"/>
                    </a:lnTo>
                    <a:lnTo>
                      <a:pt x="205" y="396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205" y="382"/>
                    </a:lnTo>
                    <a:lnTo>
                      <a:pt x="205" y="396"/>
                    </a:lnTo>
                    <a:lnTo>
                      <a:pt x="205" y="382"/>
                    </a:lnTo>
                    <a:lnTo>
                      <a:pt x="205" y="82"/>
                    </a:lnTo>
                    <a:lnTo>
                      <a:pt x="219" y="82"/>
                    </a:lnTo>
                    <a:lnTo>
                      <a:pt x="205" y="9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69840" y="4660560"/>
                <a:ext cx="22320" cy="455760"/>
              </a:xfrm>
              <a:custGeom>
                <a:avLst/>
                <a:gdLst/>
                <a:ahLst/>
                <a:rect l="l" t="t" r="r" b="b"/>
                <a:pathLst>
                  <a:path w="14" h="287">
                    <a:moveTo>
                      <a:pt x="0" y="2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87"/>
                    </a:lnTo>
                    <a:lnTo>
                      <a:pt x="0" y="287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401480" y="5028840"/>
                <a:ext cx="8712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618920" y="498600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1922040" y="4941720"/>
                <a:ext cx="1526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226960" y="489888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2509560" y="4855680"/>
                <a:ext cx="1731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2814480" y="481284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3117600" y="476856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3400200" y="472572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704760" y="4660200"/>
                <a:ext cx="150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3987360" y="461772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290840" y="4595760"/>
                <a:ext cx="87120" cy="21960"/>
              </a:xfrm>
              <a:prstGeom prst="rect">
                <a:avLst/>
              </a:pr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79160" y="5028840"/>
                <a:ext cx="8748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596600" y="4941360"/>
                <a:ext cx="1746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1901520" y="485568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2204640" y="4768560"/>
                <a:ext cx="1746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509560" y="468252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814480" y="4573080"/>
                <a:ext cx="172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117600" y="4487400"/>
                <a:ext cx="1746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3422160" y="4399920"/>
                <a:ext cx="1731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725640" y="433512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17600" y="4595760"/>
                <a:ext cx="1282680" cy="217440"/>
              </a:xfrm>
              <a:custGeom>
                <a:avLst/>
                <a:gdLst/>
                <a:ahLst/>
                <a:rect l="l" t="t" r="r" b="b"/>
                <a:pathLst>
                  <a:path w="808" h="137">
                    <a:moveTo>
                      <a:pt x="0" y="123"/>
                    </a:moveTo>
                    <a:lnTo>
                      <a:pt x="0" y="137"/>
                    </a:lnTo>
                    <a:lnTo>
                      <a:pt x="808" y="14"/>
                    </a:lnTo>
                    <a:lnTo>
                      <a:pt x="808" y="0"/>
                    </a:lnTo>
                    <a:lnTo>
                      <a:pt x="0" y="123"/>
                    </a:lnTo>
                    <a:close/>
                  </a:path>
                </a:pathLst>
              </a:cu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47520" y="4335120"/>
                <a:ext cx="1043280" cy="325440"/>
              </a:xfrm>
              <a:custGeom>
                <a:avLst/>
                <a:gdLst/>
                <a:ahLst/>
                <a:rect l="l" t="t" r="r" b="b"/>
                <a:pathLst>
                  <a:path w="657" h="205">
                    <a:moveTo>
                      <a:pt x="0" y="191"/>
                    </a:moveTo>
                    <a:lnTo>
                      <a:pt x="0" y="205"/>
                    </a:lnTo>
                    <a:lnTo>
                      <a:pt x="657" y="14"/>
                    </a:lnTo>
                    <a:lnTo>
                      <a:pt x="657" y="0"/>
                    </a:lnTo>
                    <a:lnTo>
                      <a:pt x="0" y="191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17600" y="5289480"/>
                <a:ext cx="1282680" cy="172800"/>
              </a:xfrm>
              <a:custGeom>
                <a:avLst/>
                <a:gdLst/>
                <a:ahLst/>
                <a:rect l="l" t="t" r="r" b="b"/>
                <a:pathLst>
                  <a:path w="808" h="109">
                    <a:moveTo>
                      <a:pt x="0" y="0"/>
                    </a:moveTo>
                    <a:lnTo>
                      <a:pt x="0" y="14"/>
                    </a:lnTo>
                    <a:lnTo>
                      <a:pt x="808" y="109"/>
                    </a:lnTo>
                    <a:lnTo>
                      <a:pt x="808" y="95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79160" y="5028840"/>
                <a:ext cx="65160" cy="22320"/>
              </a:xfrm>
              <a:prstGeom prst="rect">
                <a:avLst/>
              </a:pr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96600" y="5051160"/>
                <a:ext cx="152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901520" y="507204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204640" y="5072040"/>
                <a:ext cx="1526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09560" y="509400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814480" y="511632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17600" y="51368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22160" y="51591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725640" y="5181480"/>
                <a:ext cx="87120" cy="20520"/>
              </a:xfrm>
              <a:prstGeom prst="rect">
                <a:avLst/>
              </a:prstGeom>
              <a:blipFill rotWithShape="0">
                <a:blip r:embed="rId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58640" y="500688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28"/>
                    </a:moveTo>
                    <a:lnTo>
                      <a:pt x="41" y="14"/>
                    </a:lnTo>
                    <a:lnTo>
                      <a:pt x="13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55"/>
                    </a:lnTo>
                    <a:lnTo>
                      <a:pt x="13" y="55"/>
                    </a:lnTo>
                    <a:lnTo>
                      <a:pt x="41" y="55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58640" y="5006880"/>
                <a:ext cx="8568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41" y="28"/>
                    </a:moveTo>
                    <a:lnTo>
                      <a:pt x="41" y="14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13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13" y="28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54" y="14"/>
                    </a:lnTo>
                    <a:lnTo>
                      <a:pt x="54" y="28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58640" y="50288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58640" y="5051160"/>
                <a:ext cx="20520" cy="20880"/>
              </a:xfrm>
              <a:prstGeom prst="rect">
                <a:avLst/>
              </a:prstGeom>
              <a:blipFill rotWithShape="0">
                <a:blip r:embed="rId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790720" y="411948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72200" y="522432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205640" y="4465440"/>
                <a:ext cx="37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203840" y="4660560"/>
                <a:ext cx="395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in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58640" y="5635440"/>
                <a:ext cx="20520" cy="498600"/>
              </a:xfrm>
              <a:prstGeom prst="rect">
                <a:avLst/>
              </a:pr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052520" y="5614920"/>
                <a:ext cx="20520" cy="583920"/>
              </a:xfrm>
              <a:prstGeom prst="rect">
                <a:avLst/>
              </a:pr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22120" y="5505120"/>
                <a:ext cx="22320" cy="304920"/>
              </a:xfrm>
              <a:prstGeom prst="rect">
                <a:avLst/>
              </a:prstGeom>
              <a:blipFill rotWithShape="0">
                <a:blip r:embed="rId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36320" y="559260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8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7" y="41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68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68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444320" y="561492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79160" y="5614920"/>
                <a:ext cx="87480" cy="10764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55" y="27"/>
                    </a:moveTo>
                    <a:lnTo>
                      <a:pt x="55" y="68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814480" y="5614920"/>
                <a:ext cx="107640" cy="15084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13" y="82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54" y="4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14480" y="5657760"/>
                <a:ext cx="20520" cy="6480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41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14480" y="5614920"/>
                <a:ext cx="85680" cy="10764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0" y="27"/>
                    </a:moveTo>
                    <a:lnTo>
                      <a:pt x="0" y="0"/>
                    </a:lnTo>
                    <a:lnTo>
                      <a:pt x="54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66640" y="5657760"/>
                <a:ext cx="1347840" cy="2196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986840" y="537660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336320" y="587520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7" y="40"/>
                    </a:lnTo>
                    <a:lnTo>
                      <a:pt x="0" y="40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7" y="4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8" y="68"/>
                    </a:lnTo>
                    <a:lnTo>
                      <a:pt x="68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44320" y="589572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379160" y="58957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27"/>
                    </a:moveTo>
                    <a:lnTo>
                      <a:pt x="55" y="55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920760" y="5895720"/>
                <a:ext cx="131760" cy="10800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83" y="27"/>
                    </a:lnTo>
                    <a:lnTo>
                      <a:pt x="55" y="4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5" y="27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920760" y="593856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920760" y="58957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66640" y="5938560"/>
                <a:ext cx="2454120" cy="22320"/>
              </a:xfrm>
              <a:prstGeom prst="rect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74000" y="565776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224880" y="405432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313000" y="422748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39520" y="48337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14" y="41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68" y="55"/>
                    </a:lnTo>
                    <a:lnTo>
                      <a:pt x="82" y="55"/>
                    </a:lnTo>
                    <a:lnTo>
                      <a:pt x="55" y="6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14" y="27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41"/>
                    </a:lnTo>
                    <a:lnTo>
                      <a:pt x="14" y="41"/>
                    </a:lnTo>
                    <a:close/>
                  </a:path>
                </a:pathLst>
              </a:cu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39520" y="489888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39520" y="48560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14" y="27"/>
                    </a:moveTo>
                    <a:lnTo>
                      <a:pt x="14" y="0"/>
                    </a:lnTo>
                    <a:lnTo>
                      <a:pt x="55" y="41"/>
                    </a:lnTo>
                    <a:lnTo>
                      <a:pt x="0" y="5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552400" y="485604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509560" y="474804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27" y="6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68"/>
                    </a:lnTo>
                    <a:lnTo>
                      <a:pt x="27" y="68"/>
                    </a:lnTo>
                    <a:close/>
                  </a:path>
                </a:pathLst>
              </a:cu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444400" y="4487760"/>
                <a:ext cx="87480" cy="260280"/>
              </a:xfrm>
              <a:custGeom>
                <a:avLst/>
                <a:gdLst/>
                <a:ahLst/>
                <a:rect l="l" t="t" r="r" b="b"/>
                <a:pathLst>
                  <a:path w="55" h="164">
                    <a:moveTo>
                      <a:pt x="41" y="164"/>
                    </a:moveTo>
                    <a:lnTo>
                      <a:pt x="55" y="16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41" y="164"/>
                    </a:lnTo>
                    <a:close/>
                  </a:path>
                </a:pathLst>
              </a:cu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095280" y="492120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69" y="54"/>
                    </a:move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2" y="13"/>
                    </a:lnTo>
                    <a:lnTo>
                      <a:pt x="42" y="0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14" y="68"/>
                    </a:lnTo>
                    <a:lnTo>
                      <a:pt x="83" y="68"/>
                    </a:lnTo>
                    <a:lnTo>
                      <a:pt x="83" y="82"/>
                    </a:lnTo>
                    <a:lnTo>
                      <a:pt x="69" y="82"/>
                    </a:lnTo>
                    <a:lnTo>
                      <a:pt x="55" y="54"/>
                    </a:lnTo>
                    <a:lnTo>
                      <a:pt x="69" y="54"/>
                    </a:lnTo>
                    <a:close/>
                  </a:path>
                </a:pathLst>
              </a:cu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161880" y="49640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0"/>
                    </a:moveTo>
                    <a:lnTo>
                      <a:pt x="2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117600" y="4964040"/>
                <a:ext cx="109440" cy="8712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55" y="27"/>
                    </a:moveTo>
                    <a:lnTo>
                      <a:pt x="69" y="55"/>
                    </a:lnTo>
                    <a:lnTo>
                      <a:pt x="0" y="55"/>
                    </a:lnTo>
                    <a:lnTo>
                      <a:pt x="41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57360" y="4400280"/>
                <a:ext cx="64800" cy="390600"/>
              </a:xfrm>
              <a:custGeom>
                <a:avLst/>
                <a:gdLst/>
                <a:ahLst/>
                <a:rect l="l" t="t" r="r" b="b"/>
                <a:pathLst>
                  <a:path w="41" h="246">
                    <a:moveTo>
                      <a:pt x="41" y="0"/>
                    </a:moveTo>
                    <a:lnTo>
                      <a:pt x="13" y="246"/>
                    </a:lnTo>
                    <a:lnTo>
                      <a:pt x="13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27" y="0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292200" y="4790880"/>
                <a:ext cx="85680" cy="15084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54" y="0"/>
                    </a:moveTo>
                    <a:lnTo>
                      <a:pt x="13" y="82"/>
                    </a:lnTo>
                    <a:lnTo>
                      <a:pt x="13" y="95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1" y="0"/>
                    </a:lnTo>
                    <a:lnTo>
                      <a:pt x="54" y="0"/>
                    </a:lnTo>
                    <a:close/>
                  </a:path>
                </a:pathLst>
              </a:cu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204720" y="50068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204720" y="492120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13"/>
                    </a:moveTo>
                    <a:lnTo>
                      <a:pt x="55" y="0"/>
                    </a:lnTo>
                    <a:lnTo>
                      <a:pt x="0" y="54"/>
                    </a:lnTo>
                    <a:lnTo>
                      <a:pt x="14" y="68"/>
                    </a:lnTo>
                    <a:lnTo>
                      <a:pt x="68" y="13"/>
                    </a:lnTo>
                    <a:close/>
                  </a:path>
                </a:pathLst>
              </a:cu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790800" y="4335120"/>
                <a:ext cx="21960" cy="87480"/>
              </a:xfrm>
              <a:prstGeom prst="rect">
                <a:avLst/>
              </a:pr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790800" y="4552920"/>
                <a:ext cx="1440" cy="15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790800" y="4813200"/>
                <a:ext cx="1440" cy="1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90800" y="5094000"/>
                <a:ext cx="21960" cy="10800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5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790800" y="518148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0"/>
                    </a:moveTo>
                    <a:lnTo>
                      <a:pt x="0" y="13"/>
                    </a:lnTo>
                    <a:lnTo>
                      <a:pt x="55" y="27"/>
                    </a:lnTo>
                    <a:lnTo>
                      <a:pt x="55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30200" y="5267160"/>
                <a:ext cx="15264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35120" y="541944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0"/>
                    </a:moveTo>
                    <a:lnTo>
                      <a:pt x="0" y="13"/>
                    </a:lnTo>
                    <a:lnTo>
                      <a:pt x="54" y="27"/>
                    </a:lnTo>
                    <a:lnTo>
                      <a:pt x="54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790800" y="4335120"/>
                <a:ext cx="630000" cy="282600"/>
              </a:xfrm>
              <a:custGeom>
                <a:avLst/>
                <a:gdLst/>
                <a:ahLst/>
                <a:rect l="l" t="t" r="r" b="b"/>
                <a:pathLst>
                  <a:path w="397" h="178">
                    <a:moveTo>
                      <a:pt x="0" y="0"/>
                    </a:moveTo>
                    <a:lnTo>
                      <a:pt x="0" y="14"/>
                    </a:lnTo>
                    <a:lnTo>
                      <a:pt x="384" y="178"/>
                    </a:lnTo>
                    <a:lnTo>
                      <a:pt x="397" y="164"/>
                    </a:lnTo>
                    <a:lnTo>
                      <a:pt x="397" y="164"/>
                    </a:lnTo>
                    <a:lnTo>
                      <a:pt x="384" y="16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00280" y="4595760"/>
                <a:ext cx="20520" cy="844560"/>
              </a:xfrm>
              <a:prstGeom prst="rect">
                <a:avLst/>
              </a:pr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00160" y="461772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41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41" y="54"/>
                    </a:lnTo>
                    <a:lnTo>
                      <a:pt x="41" y="82"/>
                    </a:lnTo>
                    <a:lnTo>
                      <a:pt x="2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41" y="1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22120" y="461772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22120" y="461772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27" y="0"/>
                    </a:moveTo>
                    <a:lnTo>
                      <a:pt x="55" y="0"/>
                    </a:lnTo>
                    <a:lnTo>
                      <a:pt x="27" y="54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4960" y="4422600"/>
                <a:ext cx="22320" cy="173160"/>
              </a:xfrm>
              <a:prstGeom prst="rect">
                <a:avLst/>
              </a:pr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47520" y="5181480"/>
                <a:ext cx="152640" cy="1080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28" y="41"/>
                    </a:moveTo>
                    <a:lnTo>
                      <a:pt x="14" y="13"/>
                    </a:lnTo>
                    <a:lnTo>
                      <a:pt x="0" y="13"/>
                    </a:lnTo>
                    <a:lnTo>
                      <a:pt x="28" y="0"/>
                    </a:lnTo>
                    <a:lnTo>
                      <a:pt x="83" y="0"/>
                    </a:lnTo>
                    <a:lnTo>
                      <a:pt x="96" y="0"/>
                    </a:lnTo>
                    <a:lnTo>
                      <a:pt x="83" y="27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69" y="13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2" y="27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92160" y="52243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7" y="1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769840" y="520200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4" y="28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28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661840" y="5311440"/>
                <a:ext cx="1800" cy="20880"/>
              </a:xfrm>
              <a:prstGeom prst="rect">
                <a:avLst/>
              </a:pr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792160" y="5246640"/>
                <a:ext cx="1440" cy="20520"/>
              </a:xfrm>
              <a:prstGeom prst="rect">
                <a:avLst/>
              </a:pr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661840" y="5246640"/>
                <a:ext cx="130320" cy="8568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0" y="41"/>
                    </a:moveTo>
                    <a:lnTo>
                      <a:pt x="0" y="54"/>
                    </a:lnTo>
                    <a:lnTo>
                      <a:pt x="82" y="13"/>
                    </a:lnTo>
                    <a:lnTo>
                      <a:pt x="82" y="0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771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79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BCE7F8E-7E0F-403E-B168-7313DD30E9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8800" y="460440"/>
            <a:ext cx="257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allel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929520" y="866880"/>
            <a:ext cx="6701040" cy="2346120"/>
            <a:chOff x="929520" y="866880"/>
            <a:chExt cx="6701040" cy="2346120"/>
          </a:xfrm>
        </p:grpSpPr>
        <p:sp>
          <p:nvSpPr>
            <p:cNvPr id="786" name=""/>
            <p:cNvSpPr/>
            <p:nvPr/>
          </p:nvSpPr>
          <p:spPr>
            <a:xfrm>
              <a:off x="929520" y="866880"/>
              <a:ext cx="333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Times New Roman"/>
                </a:rPr>
                <a:t>Orthographic Parallel Proj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43680" y="866880"/>
              <a:ext cx="338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 the direction of proj is normal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31680" y="1095480"/>
              <a:ext cx="1489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proj pla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15320" y="1414440"/>
              <a:ext cx="592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) proj plane is perpendicular to a principal axis (front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74680" y="1643040"/>
              <a:ext cx="427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vation, top-elevation, side-ele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16760" y="1947960"/>
              <a:ext cx="587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) Axonometric projection: use projection plan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74320" y="2176560"/>
              <a:ext cx="538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 not normal to the principal axis and therefo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75400" y="2405160"/>
              <a:ext cx="442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ow several faces of an object at onc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17480" y="2709720"/>
              <a:ext cx="575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) isometric projection: the proj plane normal mak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73600" y="2938320"/>
              <a:ext cx="414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al angles with each principal axi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930240" y="3270240"/>
            <a:ext cx="210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Oblique Parallel 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015000" y="3270240"/>
            <a:ext cx="11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otherw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615320" y="3587760"/>
            <a:ext cx="6078600" cy="1952640"/>
            <a:chOff x="1615320" y="3587760"/>
            <a:chExt cx="6078600" cy="1952640"/>
          </a:xfrm>
        </p:grpSpPr>
        <p:sp>
          <p:nvSpPr>
            <p:cNvPr id="799" name=""/>
            <p:cNvSpPr/>
            <p:nvPr/>
          </p:nvSpPr>
          <p:spPr>
            <a:xfrm>
              <a:off x="1617840" y="3587760"/>
              <a:ext cx="531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) cavalier proj.: the direction of proj makes a 4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72880" y="3816360"/>
              <a:ext cx="532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gree angle with the proj plane. As a result,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071800" y="4044960"/>
              <a:ext cx="553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ion of a line perpendicular to the projec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73960" y="4273560"/>
              <a:ext cx="476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e has the same length as the line itself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15320" y="4578480"/>
              <a:ext cx="607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) Cabinet projection have a direction of projection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75400" y="4807080"/>
              <a:ext cx="552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kes an angle of arctan(2) = 63.4 degree with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072880" y="5037120"/>
              <a:ext cx="555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. plane, so lines perpendicular to the 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73240" y="5265720"/>
              <a:ext cx="480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e project at one-half their actual length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7746840" y="3886200"/>
            <a:ext cx="762120" cy="67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11360" y="5041800"/>
            <a:ext cx="761760" cy="67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639200" y="1631880"/>
            <a:ext cx="914400" cy="1159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ront (Z) Top (Y) Side (X) Isometric (1, 1,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812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820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43117405-650F-49DD-8FB8-565353F605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30600" y="460440"/>
            <a:ext cx="369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n Orthographic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297240" y="2190600"/>
            <a:ext cx="2799720" cy="1994040"/>
            <a:chOff x="3297240" y="2190600"/>
            <a:chExt cx="2799720" cy="1994040"/>
          </a:xfrm>
        </p:grpSpPr>
        <p:sp>
          <p:nvSpPr>
            <p:cNvPr id="827" name=""/>
            <p:cNvSpPr/>
            <p:nvPr/>
          </p:nvSpPr>
          <p:spPr>
            <a:xfrm>
              <a:off x="5715000" y="2855880"/>
              <a:ext cx="1440" cy="2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41760" y="3051000"/>
              <a:ext cx="1440" cy="22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171680" y="2898720"/>
              <a:ext cx="1800" cy="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41760" y="3549600"/>
              <a:ext cx="144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49800" y="3441600"/>
              <a:ext cx="1440" cy="20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6920" y="3441600"/>
              <a:ext cx="1800" cy="20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76680" y="3875040"/>
              <a:ext cx="20520" cy="1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46280" y="3765240"/>
              <a:ext cx="2232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46280" y="4070160"/>
              <a:ext cx="22320" cy="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38640" y="3917880"/>
              <a:ext cx="1440" cy="21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63680" y="3159000"/>
              <a:ext cx="1800" cy="22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68560" y="2747880"/>
              <a:ext cx="22320" cy="1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14960" y="3354120"/>
              <a:ext cx="21960" cy="1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02080" y="3462120"/>
              <a:ext cx="1440" cy="22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89120" y="2682720"/>
              <a:ext cx="22320" cy="1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89120" y="2855880"/>
              <a:ext cx="22320" cy="14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297240" y="2190600"/>
              <a:ext cx="2799720" cy="1994040"/>
              <a:chOff x="3297240" y="2190600"/>
              <a:chExt cx="2799720" cy="1994040"/>
            </a:xfrm>
          </p:grpSpPr>
          <p:sp>
            <p:nvSpPr>
              <p:cNvPr id="844" name=""/>
              <p:cNvSpPr/>
              <p:nvPr/>
            </p:nvSpPr>
            <p:spPr>
              <a:xfrm>
                <a:off x="4318200" y="3578040"/>
                <a:ext cx="1440" cy="22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18200" y="3578040"/>
                <a:ext cx="1152360" cy="22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970440" y="2776320"/>
                <a:ext cx="369720" cy="844560"/>
              </a:xfrm>
              <a:custGeom>
                <a:avLst/>
                <a:gdLst/>
                <a:ahLst/>
                <a:rect l="l" t="t" r="r" b="b"/>
                <a:pathLst>
                  <a:path w="233" h="532">
                    <a:moveTo>
                      <a:pt x="0" y="0"/>
                    </a:moveTo>
                    <a:lnTo>
                      <a:pt x="219" y="96"/>
                    </a:lnTo>
                    <a:lnTo>
                      <a:pt x="233" y="96"/>
                    </a:lnTo>
                    <a:lnTo>
                      <a:pt x="233" y="96"/>
                    </a:lnTo>
                    <a:lnTo>
                      <a:pt x="233" y="505"/>
                    </a:lnTo>
                    <a:lnTo>
                      <a:pt x="233" y="532"/>
                    </a:lnTo>
                    <a:lnTo>
                      <a:pt x="219" y="519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69"/>
                    </a:lnTo>
                    <a:lnTo>
                      <a:pt x="14" y="369"/>
                    </a:lnTo>
                    <a:lnTo>
                      <a:pt x="233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96"/>
                    </a:lnTo>
                    <a:lnTo>
                      <a:pt x="233" y="96"/>
                    </a:lnTo>
                    <a:lnTo>
                      <a:pt x="219" y="109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970440" y="2776320"/>
                <a:ext cx="22320" cy="586080"/>
              </a:xfrm>
              <a:custGeom>
                <a:avLst/>
                <a:gdLst/>
                <a:ahLst/>
                <a:rect l="l" t="t" r="r" b="b"/>
                <a:pathLst>
                  <a:path w="14" h="369">
                    <a:moveTo>
                      <a:pt x="0" y="3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69"/>
                    </a:lnTo>
                    <a:lnTo>
                      <a:pt x="0" y="369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122800" y="2754360"/>
                <a:ext cx="20880" cy="871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55"/>
                    </a:move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122800" y="275436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0"/>
                    </a:moveTo>
                    <a:lnTo>
                      <a:pt x="0" y="14"/>
                    </a:lnTo>
                    <a:lnTo>
                      <a:pt x="54" y="41"/>
                    </a:lnTo>
                    <a:lnTo>
                      <a:pt x="54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83440" y="288432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0" y="0"/>
                    </a:moveTo>
                    <a:lnTo>
                      <a:pt x="0" y="14"/>
                    </a:lnTo>
                    <a:lnTo>
                      <a:pt x="55" y="41"/>
                    </a:lnTo>
                    <a:lnTo>
                      <a:pt x="68" y="28"/>
                    </a:lnTo>
                    <a:lnTo>
                      <a:pt x="68" y="41"/>
                    </a:lnTo>
                    <a:lnTo>
                      <a:pt x="55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70560" y="2928960"/>
                <a:ext cx="20520" cy="856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70560" y="3166920"/>
                <a:ext cx="1440" cy="19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470560" y="3492360"/>
                <a:ext cx="20520" cy="12852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13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0" y="68"/>
                    </a:lnTo>
                    <a:lnTo>
                      <a:pt x="13" y="81"/>
                    </a:lnTo>
                    <a:lnTo>
                      <a:pt x="13" y="54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83440" y="353520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122800" y="338292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41" y="41"/>
                    </a:moveTo>
                    <a:lnTo>
                      <a:pt x="54" y="2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1" y="41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22800" y="3297240"/>
                <a:ext cx="20880" cy="856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5122800" y="2971800"/>
                <a:ext cx="1800" cy="19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970440" y="2754360"/>
                <a:ext cx="1440" cy="21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970440" y="2754360"/>
                <a:ext cx="1152360" cy="2196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318200" y="2949480"/>
                <a:ext cx="1440" cy="22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318200" y="2949480"/>
                <a:ext cx="1152360" cy="2232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53720" y="342720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186520" y="221292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46000" y="219060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297240" y="2754360"/>
                <a:ext cx="347760" cy="801720"/>
              </a:xfrm>
              <a:custGeom>
                <a:avLst/>
                <a:gdLst/>
                <a:ahLst/>
                <a:rect l="l" t="t" r="r" b="b"/>
                <a:pathLst>
                  <a:path w="219" h="505">
                    <a:moveTo>
                      <a:pt x="0" y="0"/>
                    </a:moveTo>
                    <a:lnTo>
                      <a:pt x="219" y="110"/>
                    </a:lnTo>
                    <a:lnTo>
                      <a:pt x="219" y="505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297240" y="2754360"/>
                <a:ext cx="370080" cy="846000"/>
              </a:xfrm>
              <a:custGeom>
                <a:avLst/>
                <a:gdLst/>
                <a:ahLst/>
                <a:rect l="l" t="t" r="r" b="b"/>
                <a:pathLst>
                  <a:path w="233" h="533">
                    <a:moveTo>
                      <a:pt x="0" y="0"/>
                    </a:moveTo>
                    <a:lnTo>
                      <a:pt x="219" y="110"/>
                    </a:lnTo>
                    <a:lnTo>
                      <a:pt x="233" y="123"/>
                    </a:lnTo>
                    <a:lnTo>
                      <a:pt x="233" y="110"/>
                    </a:lnTo>
                    <a:lnTo>
                      <a:pt x="233" y="505"/>
                    </a:lnTo>
                    <a:lnTo>
                      <a:pt x="233" y="533"/>
                    </a:lnTo>
                    <a:lnTo>
                      <a:pt x="219" y="519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219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110"/>
                    </a:lnTo>
                    <a:lnTo>
                      <a:pt x="233" y="110"/>
                    </a:lnTo>
                    <a:lnTo>
                      <a:pt x="219" y="1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297240" y="2754360"/>
                <a:ext cx="22320" cy="608040"/>
              </a:xfrm>
              <a:custGeom>
                <a:avLst/>
                <a:gdLst/>
                <a:ahLst/>
                <a:rect l="l" t="t" r="r" b="b"/>
                <a:pathLst>
                  <a:path w="14" h="383">
                    <a:moveTo>
                      <a:pt x="0" y="38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83"/>
                    </a:lnTo>
                    <a:lnTo>
                      <a:pt x="0" y="383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45000" y="3578040"/>
                <a:ext cx="87120" cy="223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884760" y="357804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65560" y="35780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70480" y="35780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75400" y="3578040"/>
                <a:ext cx="172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078520" y="357804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383440" y="3578040"/>
                <a:ext cx="87120" cy="2232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405240" y="3362400"/>
                <a:ext cx="1440" cy="2052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19560" y="3362400"/>
                <a:ext cx="85680" cy="205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537000" y="336240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840120" y="336240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45040" y="33624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448160" y="338292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53080" y="338292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058000" y="3382920"/>
                <a:ext cx="64800" cy="2232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45000" y="2928960"/>
                <a:ext cx="87120" cy="205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62440" y="29289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65560" y="292896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70480" y="294948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775400" y="294948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078520" y="294948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383440" y="2949480"/>
                <a:ext cx="6480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297240" y="2754360"/>
                <a:ext cx="87480" cy="2196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537000" y="275436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19600" y="27543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22720" y="275436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27640" y="27543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730760" y="277632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035680" y="2776320"/>
                <a:ext cx="87120" cy="223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70560" y="2949480"/>
                <a:ext cx="20520" cy="628560"/>
              </a:xfrm>
              <a:custGeom>
                <a:avLst/>
                <a:gdLst/>
                <a:ahLst/>
                <a:rect l="l" t="t" r="r" b="b"/>
                <a:pathLst>
                  <a:path w="13" h="396">
                    <a:moveTo>
                      <a:pt x="0" y="396"/>
                    </a:moveTo>
                    <a:lnTo>
                      <a:pt x="13" y="396"/>
                    </a:lnTo>
                    <a:lnTo>
                      <a:pt x="13" y="0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96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122800" y="2754360"/>
                <a:ext cx="347760" cy="217440"/>
              </a:xfrm>
              <a:custGeom>
                <a:avLst/>
                <a:gdLst/>
                <a:ahLst/>
                <a:rect l="l" t="t" r="r" b="b"/>
                <a:pathLst>
                  <a:path w="219" h="137">
                    <a:moveTo>
                      <a:pt x="219" y="137"/>
                    </a:moveTo>
                    <a:lnTo>
                      <a:pt x="219" y="12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9" y="13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645000" y="3665520"/>
                <a:ext cx="22320" cy="5191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448240" y="3665520"/>
                <a:ext cx="22320" cy="5191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8200" y="3665520"/>
                <a:ext cx="21960" cy="3031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22680" y="375120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9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8" y="28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82" y="69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32120" y="377352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67320" y="377352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27"/>
                    </a:moveTo>
                    <a:lnTo>
                      <a:pt x="54" y="68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187880" y="37735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14" y="82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87880" y="381636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187880" y="377352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53000" y="3816360"/>
                <a:ext cx="1440" cy="2196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87880" y="3816360"/>
                <a:ext cx="1440" cy="219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3000" y="3816360"/>
                <a:ext cx="434880" cy="2196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39760" y="353520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622680" y="399096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28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8" y="40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9" y="68"/>
                    </a:lnTo>
                    <a:lnTo>
                      <a:pt x="69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32120" y="401148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67320" y="401148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7"/>
                    </a:moveTo>
                    <a:lnTo>
                      <a:pt x="54" y="55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61120" y="3990960"/>
                <a:ext cx="129960" cy="150840"/>
              </a:xfrm>
              <a:custGeom>
                <a:avLst/>
                <a:gdLst/>
                <a:ahLst/>
                <a:rect l="l" t="t" r="r" b="b"/>
                <a:pathLst>
                  <a:path w="82" h="95">
                    <a:moveTo>
                      <a:pt x="0" y="40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55" y="40"/>
                    </a:lnTo>
                    <a:lnTo>
                      <a:pt x="82" y="40"/>
                    </a:lnTo>
                    <a:lnTo>
                      <a:pt x="55" y="54"/>
                    </a:lnTo>
                    <a:lnTo>
                      <a:pt x="14" y="81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1" y="40"/>
                    </a:lnTo>
                    <a:lnTo>
                      <a:pt x="55" y="54"/>
                    </a:lnTo>
                    <a:lnTo>
                      <a:pt x="41" y="54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4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361120" y="405432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361120" y="401148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27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53000" y="4054320"/>
                <a:ext cx="1440" cy="2232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53000" y="4054320"/>
                <a:ext cx="1585800" cy="2232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492080" y="379548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840120" y="2971800"/>
                <a:ext cx="152640" cy="172800"/>
              </a:xfrm>
              <a:custGeom>
                <a:avLst/>
                <a:gdLst/>
                <a:ahLst/>
                <a:rect l="l" t="t" r="r" b="b"/>
                <a:pathLst>
                  <a:path w="96" h="109">
                    <a:moveTo>
                      <a:pt x="28" y="41"/>
                    </a:moveTo>
                    <a:lnTo>
                      <a:pt x="55" y="13"/>
                    </a:lnTo>
                    <a:lnTo>
                      <a:pt x="55" y="0"/>
                    </a:lnTo>
                    <a:lnTo>
                      <a:pt x="69" y="27"/>
                    </a:lnTo>
                    <a:lnTo>
                      <a:pt x="82" y="95"/>
                    </a:lnTo>
                    <a:lnTo>
                      <a:pt x="96" y="109"/>
                    </a:lnTo>
                    <a:lnTo>
                      <a:pt x="55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69" y="82"/>
                    </a:lnTo>
                    <a:lnTo>
                      <a:pt x="55" y="95"/>
                    </a:lnTo>
                    <a:lnTo>
                      <a:pt x="55" y="95"/>
                    </a:lnTo>
                    <a:lnTo>
                      <a:pt x="4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41" y="54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62440" y="30369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14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62440" y="2992320"/>
                <a:ext cx="87480" cy="10944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14" y="28"/>
                    </a:moveTo>
                    <a:lnTo>
                      <a:pt x="41" y="0"/>
                    </a:lnTo>
                    <a:lnTo>
                      <a:pt x="55" y="69"/>
                    </a:lnTo>
                    <a:lnTo>
                      <a:pt x="0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19600" y="2841480"/>
                <a:ext cx="85680" cy="19548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41" y="123"/>
                    </a:moveTo>
                    <a:lnTo>
                      <a:pt x="54" y="12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23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19600" y="2558880"/>
                <a:ext cx="20520" cy="28260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318200" y="3122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55" y="28"/>
                    </a:moveTo>
                    <a:lnTo>
                      <a:pt x="69" y="55"/>
                    </a:lnTo>
                    <a:lnTo>
                      <a:pt x="69" y="55"/>
                    </a:lnTo>
                    <a:lnTo>
                      <a:pt x="69" y="55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55"/>
                    </a:lnTo>
                    <a:lnTo>
                      <a:pt x="55" y="41"/>
                    </a:lnTo>
                    <a:lnTo>
                      <a:pt x="69" y="55"/>
                    </a:lnTo>
                    <a:lnTo>
                      <a:pt x="55" y="69"/>
                    </a:lnTo>
                    <a:lnTo>
                      <a:pt x="41" y="41"/>
                    </a:lnTo>
                    <a:lnTo>
                      <a:pt x="55" y="28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40160" y="314460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4" y="0"/>
                    </a:move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340160" y="31446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1" y="14"/>
                    </a:moveTo>
                    <a:lnTo>
                      <a:pt x="55" y="41"/>
                    </a:lnTo>
                    <a:lnTo>
                      <a:pt x="0" y="55"/>
                    </a:lnTo>
                    <a:lnTo>
                      <a:pt x="14" y="0"/>
                    </a:lnTo>
                    <a:lnTo>
                      <a:pt x="41" y="14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492800" y="2603520"/>
                <a:ext cx="42840" cy="345960"/>
              </a:xfrm>
              <a:custGeom>
                <a:avLst/>
                <a:gdLst/>
                <a:ahLst/>
                <a:rect l="l" t="t" r="r" b="b"/>
                <a:pathLst>
                  <a:path w="27" h="218">
                    <a:moveTo>
                      <a:pt x="27" y="0"/>
                    </a:moveTo>
                    <a:lnTo>
                      <a:pt x="13" y="0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13" y="218"/>
                    </a:lnTo>
                    <a:lnTo>
                      <a:pt x="13" y="218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405320" y="2949480"/>
                <a:ext cx="108000" cy="217440"/>
              </a:xfrm>
              <a:custGeom>
                <a:avLst/>
                <a:gdLst/>
                <a:ahLst/>
                <a:rect l="l" t="t" r="r" b="b"/>
                <a:pathLst>
                  <a:path w="68" h="137">
                    <a:moveTo>
                      <a:pt x="68" y="0"/>
                    </a:moveTo>
                    <a:lnTo>
                      <a:pt x="55" y="0"/>
                    </a:lnTo>
                    <a:lnTo>
                      <a:pt x="0" y="137"/>
                    </a:lnTo>
                    <a:lnTo>
                      <a:pt x="14" y="137"/>
                    </a:lnTo>
                    <a:lnTo>
                      <a:pt x="68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86400" y="223524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187960" y="3362400"/>
                <a:ext cx="150840" cy="12996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5" y="41"/>
                    </a:moveTo>
                    <a:lnTo>
                      <a:pt x="82" y="68"/>
                    </a:lnTo>
                    <a:lnTo>
                      <a:pt x="82" y="82"/>
                    </a:lnTo>
                    <a:lnTo>
                      <a:pt x="68" y="68"/>
                    </a:lnTo>
                    <a:lnTo>
                      <a:pt x="27" y="27"/>
                    </a:lnTo>
                    <a:lnTo>
                      <a:pt x="0" y="27"/>
                    </a:lnTo>
                    <a:lnTo>
                      <a:pt x="41" y="13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82" y="54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82" y="41"/>
                    </a:lnTo>
                    <a:lnTo>
                      <a:pt x="95" y="41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318280" y="3382920"/>
                <a:ext cx="20520" cy="442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0"/>
                    </a:move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253120" y="338292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8"/>
                    </a:moveTo>
                    <a:lnTo>
                      <a:pt x="41" y="55"/>
                    </a:lnTo>
                    <a:lnTo>
                      <a:pt x="0" y="14"/>
                    </a:lnTo>
                    <a:lnTo>
                      <a:pt x="54" y="0"/>
                    </a:lnTo>
                    <a:lnTo>
                      <a:pt x="54" y="28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338800" y="3427200"/>
                <a:ext cx="500040" cy="65160"/>
              </a:xfrm>
              <a:custGeom>
                <a:avLst/>
                <a:gdLst/>
                <a:ahLst/>
                <a:rect l="l" t="t" r="r" b="b"/>
                <a:pathLst>
                  <a:path w="315" h="41">
                    <a:moveTo>
                      <a:pt x="315" y="41"/>
                    </a:moveTo>
                    <a:lnTo>
                      <a:pt x="31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15" y="41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230800" y="275436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41" y="0"/>
                    </a:move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1" y="55"/>
                    </a:lnTo>
                    <a:lnTo>
                      <a:pt x="41" y="82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55" y="0"/>
                    </a:lnTo>
                    <a:lnTo>
                      <a:pt x="68" y="0"/>
                    </a:lnTo>
                    <a:lnTo>
                      <a:pt x="68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253120" y="275436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53120" y="275436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0"/>
                    </a:moveTo>
                    <a:lnTo>
                      <a:pt x="54" y="0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95960" y="2538360"/>
                <a:ext cx="22320" cy="21600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0" name=""/>
          <p:cNvSpPr/>
          <p:nvPr/>
        </p:nvSpPr>
        <p:spPr>
          <a:xfrm flipH="1">
            <a:off x="2158920" y="291132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413160" y="235584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03440" y="2901960"/>
            <a:ext cx="220680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42280" y="411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03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33120" y="2611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948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95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39773CB-429F-436F-A39F-6CCF09E0E0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6200" y="458640"/>
            <a:ext cx="329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Times New Roman"/>
              </a:rPr>
              <a:t>Perspective Proje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92080" y="950760"/>
            <a:ext cx="7162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Vanishing point: the perspective projections of any set of parallel lines that are not parallel to the projection plane converge to a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vanishin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point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(a point at infinity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923760" y="1876320"/>
            <a:ext cx="746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a set of lines is parallel to a coordinate axis, the vanishing point is called the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principl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vanishing poi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79480" y="2614680"/>
            <a:ext cx="78948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erspective projections are categorized by their number of principal vanishing points; current graphics projection only deals with the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one point proj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397640" y="401328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849240" y="3728880"/>
            <a:ext cx="6010200" cy="23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im X. Chen</cp:lastModifiedBy>
  <dcterms:modified xsi:type="dcterms:W3CDTF">2005-11-01T16:45:42Z</dcterms:modified>
  <cp:revision>295</cp:revision>
  <dc:subject/>
  <dc:title>Computer Graphics</dc:title>
</cp:coreProperties>
</file>