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CAMERA.WAV" ContentType="audio/x-wav"/>
  <Override PartName="/ppt/media/image1.wmf" ContentType="image/x-wmf"/>
  <Override PartName="/ppt/media/image2.png" ContentType="image/png"/>
  <Override PartName="/ppt/media/CHIMES.WAV" ContentType="audio/x-wav"/>
  <Override PartName="/ppt/media/image6.wmf" ContentType="image/x-wmf"/>
  <Override PartName="/ppt/media/image3.png" ContentType="image/png"/>
  <Override PartName="/ppt/media/image4.jpeg" ContentType="image/jpeg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75463" cy="9161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03D9-7E28-4C4B-96DF-ECEF25CE7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9A05-EA1A-4855-8994-A2B680927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3A41-CB0C-4788-9F9F-009B255F3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BA4E-D3D5-4DCA-AB27-18B81F9FD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C270-149F-4211-8BB1-55F06730F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41A3-59FF-4F46-B9AF-9F7AE9CD3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64A3-F8F0-4B75-A870-47B16112F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0478-58BD-451A-83E7-F7A0BC445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9584-CE48-4BD4-BBAE-36640A70F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8F43-CECC-4E77-9D24-3D75B732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003C-5474-4A73-99AE-0D5DDD43B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1A22-A5B8-4E22-843A-CEE16F0F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:   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7367C-A803-4C74-9805-739966A562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CAMERA.WAV"/><Relationship Id="rId5" Type="http://schemas.openxmlformats.org/officeDocument/2006/relationships/audio" Target="../media/CHIMES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:   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7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AutoShape 8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9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10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Group 11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48" name="Text Box 12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Drawing Geometric Model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Rectangle 13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4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Text Box 15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AF6B7AA3-9478-4F30-A5DC-377D44BC5D5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6">
            <a:hlinkClick r:id="" action="ppaction://hlinkshowjump?jump=nextslide"/>
          </p:cNvPr>
          <p:cNvSpPr/>
          <p:nvPr/>
        </p:nvSpPr>
        <p:spPr>
          <a:xfrm>
            <a:off x="8001000" y="57913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3794"/>
                </a:moveTo>
                <a:lnTo>
                  <a:pt x="22441" y="10800"/>
                </a:lnTo>
                <a:lnTo>
                  <a:pt x="8428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WordArt 93"/>
          <p:cNvSpPr txBox="1"/>
          <p:nvPr/>
        </p:nvSpPr>
        <p:spPr>
          <a:xfrm>
            <a:off x="677880" y="698400"/>
            <a:ext cx="7689960" cy="8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RIMITIVES &amp; 3D MODELS IN OPENGL</a:t>
            </a:r>
            <a:endParaRPr b="0" lang="en-US" sz="2000" spc="1" strike="noStrike">
              <a:ln w="9360">
                <a:solidFill>
                  <a:srgbClr val="ff33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penGL drawing primitives and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penGL polygon face and cu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penGL hidden-surface remo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nstructing 3D models in OpenG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llision det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:   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Group 2"/>
          <p:cNvGrpSpPr/>
          <p:nvPr/>
        </p:nvGrpSpPr>
        <p:grpSpPr>
          <a:xfrm>
            <a:off x="8381880" y="5867280"/>
            <a:ext cx="761760" cy="762120"/>
            <a:chOff x="8381880" y="5867280"/>
            <a:chExt cx="761760" cy="762120"/>
          </a:xfrm>
        </p:grpSpPr>
        <p:sp>
          <p:nvSpPr>
            <p:cNvPr id="255" name="AutoShape 3">
              <a:hlinkClick r:id="" action="ppaction://hlinkshowjump?jump=nextslide"/>
            </p:cNvPr>
            <p:cNvSpPr/>
            <p:nvPr/>
          </p:nvSpPr>
          <p:spPr>
            <a:xfrm>
              <a:off x="8381880" y="6248520"/>
              <a:ext cx="761760" cy="380880"/>
            </a:xfrm>
            <a:custGeom>
              <a:avLst/>
              <a:gdLst>
                <a:gd name="textAreaLeft" fmla="*/ 24480 w 761760"/>
                <a:gd name="textAreaRight" fmla="*/ 737280 w 76176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43180" h="21600">
                  <a:moveTo>
                    <a:pt x="0" y="0"/>
                  </a:moveTo>
                  <a:lnTo>
                    <a:pt x="43180" y="0"/>
                  </a:lnTo>
                  <a:lnTo>
                    <a:pt x="43180" y="21600"/>
                  </a:lnTo>
                  <a:lnTo>
                    <a:pt x="0" y="21600"/>
                  </a:lnTo>
                  <a:close/>
                </a:path>
                <a:path fill="lightenLess" w="43180" h="21600">
                  <a:moveTo>
                    <a:pt x="0" y="0"/>
                  </a:moveTo>
                  <a:lnTo>
                    <a:pt x="43180" y="0"/>
                  </a:lnTo>
                  <a:lnTo>
                    <a:pt x="41780" y="1400"/>
                  </a:lnTo>
                  <a:lnTo>
                    <a:pt x="1400" y="1400"/>
                  </a:lnTo>
                  <a:close/>
                </a:path>
                <a:path fill="darken" w="43180" h="21600">
                  <a:moveTo>
                    <a:pt x="43180" y="0"/>
                  </a:moveTo>
                  <a:lnTo>
                    <a:pt x="43180" y="21600"/>
                  </a:lnTo>
                  <a:lnTo>
                    <a:pt x="41780" y="20200"/>
                  </a:lnTo>
                  <a:lnTo>
                    <a:pt x="41780" y="1400"/>
                  </a:lnTo>
                  <a:close/>
                </a:path>
                <a:path fill="darkenLess" w="43180" h="21600">
                  <a:moveTo>
                    <a:pt x="4318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1780" y="20200"/>
                  </a:lnTo>
                  <a:close/>
                </a:path>
                <a:path fill="lighten" w="4318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180" h="21600">
                  <a:moveTo>
                    <a:pt x="14583" y="3794"/>
                  </a:moveTo>
                  <a:lnTo>
                    <a:pt x="28596" y="10800"/>
                  </a:lnTo>
                  <a:lnTo>
                    <a:pt x="14583" y="1780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Text Box 4"/>
            <p:cNvSpPr/>
            <p:nvPr/>
          </p:nvSpPr>
          <p:spPr>
            <a:xfrm>
              <a:off x="8490600" y="5867280"/>
              <a:ext cx="54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FFA1858A-2613-45C3-BA31-CF92B395ADA5}" type="slidenum"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&lt;number&gt;</a:t>
              </a:fld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AutoShape 5">
            <a:hlinkClick r:id="" action="ppaction://hlinkshowjump?jump=previousslide"/>
          </p:cNvPr>
          <p:cNvSpPr/>
          <p:nvPr/>
        </p:nvSpPr>
        <p:spPr>
          <a:xfrm>
            <a:off x="7772400" y="62485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6"/>
          <p:cNvSpPr/>
          <p:nvPr/>
        </p:nvSpPr>
        <p:spPr>
          <a:xfrm>
            <a:off x="528480" y="457200"/>
            <a:ext cx="4686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HE Z-BUFFER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8"/>
          <p:cNvSpPr/>
          <p:nvPr/>
        </p:nvSpPr>
        <p:spPr>
          <a:xfrm>
            <a:off x="1155600" y="963720"/>
            <a:ext cx="7721640" cy="52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loat pixelDept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epthBuffer(XMAX, YMAX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lor frameBuffer(XMAX, YMAX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each polygon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each pixel (x,y) in the polygon scan-conversion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GL_DEPTH_TEST enabled) </a:t>
            </a:r>
            <a:r>
              <a:rPr b="1" lang="en-US" sz="1800" spc="-1" strike="noStrike">
                <a:solidFill>
                  <a:srgbClr val="3366ff"/>
                </a:solidFill>
                <a:latin typeface="Courier New"/>
              </a:rPr>
              <a:t>zBuff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x,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Enable(GL_DEPTH_TEST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e draw_frameBuffer(x,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Courier New"/>
              </a:rPr>
              <a:t>zBuff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int x, int y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ixelDepth = polygon’s z-value at pixel (x,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ixelDepth &lt; read_depthBuffer(x,y)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raw_depthBuffer(x, y, pixelDepth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raw_frameBuffer(x,y); // gl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32"/>
          <p:cNvSpPr/>
          <p:nvPr/>
        </p:nvSpPr>
        <p:spPr>
          <a:xfrm flipH="1">
            <a:off x="5297400" y="1000080"/>
            <a:ext cx="3611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33"/>
          <p:cNvSpPr/>
          <p:nvPr/>
        </p:nvSpPr>
        <p:spPr>
          <a:xfrm flipH="1" flipV="1">
            <a:off x="6095880" y="463320"/>
            <a:ext cx="14400" cy="958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34"/>
          <p:cNvSpPr/>
          <p:nvPr/>
        </p:nvSpPr>
        <p:spPr>
          <a:xfrm>
            <a:off x="5003280" y="719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750000" y="666720"/>
            <a:ext cx="449280" cy="552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7416720" y="565200"/>
            <a:ext cx="189000" cy="288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8070840" y="1189080"/>
            <a:ext cx="217440" cy="261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38"/>
          <p:cNvSpPr/>
          <p:nvPr/>
        </p:nvSpPr>
        <p:spPr>
          <a:xfrm>
            <a:off x="7808760" y="826920"/>
            <a:ext cx="203400" cy="290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Oval 39"/>
          <p:cNvSpPr/>
          <p:nvPr/>
        </p:nvSpPr>
        <p:spPr>
          <a:xfrm>
            <a:off x="5965920" y="855720"/>
            <a:ext cx="276120" cy="245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Oval 40"/>
          <p:cNvSpPr/>
          <p:nvPr/>
        </p:nvSpPr>
        <p:spPr>
          <a:xfrm>
            <a:off x="6154560" y="928800"/>
            <a:ext cx="88920" cy="101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41"/>
          <p:cNvSpPr/>
          <p:nvPr/>
        </p:nvSpPr>
        <p:spPr>
          <a:xfrm>
            <a:off x="5951520" y="782640"/>
            <a:ext cx="42840" cy="8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42"/>
          <p:cNvSpPr/>
          <p:nvPr/>
        </p:nvSpPr>
        <p:spPr>
          <a:xfrm flipH="1">
            <a:off x="6213600" y="739800"/>
            <a:ext cx="1159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43"/>
          <p:cNvSpPr/>
          <p:nvPr/>
        </p:nvSpPr>
        <p:spPr>
          <a:xfrm>
            <a:off x="6024600" y="711360"/>
            <a:ext cx="712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44"/>
          <p:cNvSpPr/>
          <p:nvPr/>
        </p:nvSpPr>
        <p:spPr>
          <a:xfrm>
            <a:off x="6561000" y="246240"/>
            <a:ext cx="2087640" cy="14666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:   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Group 3"/>
          <p:cNvGrpSpPr/>
          <p:nvPr/>
        </p:nvGrpSpPr>
        <p:grpSpPr>
          <a:xfrm>
            <a:off x="3886200" y="6477120"/>
            <a:ext cx="1523880" cy="368280"/>
            <a:chOff x="3886200" y="6477120"/>
            <a:chExt cx="1523880" cy="368280"/>
          </a:xfrm>
        </p:grpSpPr>
        <p:sp>
          <p:nvSpPr>
            <p:cNvPr id="276" name="Text Box 4"/>
            <p:cNvSpPr/>
            <p:nvPr/>
          </p:nvSpPr>
          <p:spPr>
            <a:xfrm>
              <a:off x="3962520" y="64771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        </a:t>
              </a: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: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Rectangle 5"/>
            <p:cNvSpPr/>
            <p:nvPr/>
          </p:nvSpPr>
          <p:spPr>
            <a:xfrm>
              <a:off x="3886200" y="6553080"/>
              <a:ext cx="7632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Rectangle 6"/>
            <p:cNvSpPr/>
            <p:nvPr/>
          </p:nvSpPr>
          <p:spPr>
            <a:xfrm>
              <a:off x="5334120" y="6553080"/>
              <a:ext cx="759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AutoShape 7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AutoShape 8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AutoShape 9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AutoShape 10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Group 11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284" name="Text Box 12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Drawing Geometric Model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Rectangle 13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Rectangle 14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Text Box 15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BE99C6C1-2FFB-4DF6-A60F-6EB2F9E06E3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AutoShape 16">
            <a:hlinkClick r:id="" action="ppaction://hlinkshowjump?jump=nextslide"/>
          </p:cNvPr>
          <p:cNvSpPr/>
          <p:nvPr/>
        </p:nvSpPr>
        <p:spPr>
          <a:xfrm>
            <a:off x="8001000" y="57913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3794"/>
                </a:moveTo>
                <a:lnTo>
                  <a:pt x="22441" y="10800"/>
                </a:lnTo>
                <a:lnTo>
                  <a:pt x="8428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25"/>
          <p:cNvSpPr/>
          <p:nvPr/>
        </p:nvSpPr>
        <p:spPr>
          <a:xfrm>
            <a:off x="1360440" y="2332080"/>
            <a:ext cx="7407360" cy="14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void glPolygonMode(GLenum face, Glenum mod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Times New Roman"/>
              </a:rPr>
              <a:t>fac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can be GL_FRONT_AND_BACK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L_FRONT, or GL_BACK; mode can be GL_POINT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L_LINE, or GL_FI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32"/>
          <p:cNvSpPr/>
          <p:nvPr/>
        </p:nvSpPr>
        <p:spPr>
          <a:xfrm>
            <a:off x="1355760" y="4332240"/>
            <a:ext cx="6956280" cy="14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void glCullFace(GLenum mode)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icates which polygons should be discarded. The </a:t>
            </a:r>
            <a:r>
              <a:rPr b="1" lang="en-US" sz="1800" spc="-1" strike="noStrike">
                <a:solidFill>
                  <a:srgbClr val="3366ff"/>
                </a:solidFill>
                <a:latin typeface="Times New Roman"/>
              </a:rPr>
              <a:t>mod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s either GL_FRONT, GL_BACK, or GL_FRONT_AND_BACK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 take effect, use 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glEnable(GL_CULL_FACE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39"/>
          <p:cNvSpPr/>
          <p:nvPr/>
        </p:nvSpPr>
        <p:spPr>
          <a:xfrm>
            <a:off x="736560" y="695160"/>
            <a:ext cx="6521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aces of a Polygon and Back-face Cu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40"/>
          <p:cNvSpPr/>
          <p:nvPr/>
        </p:nvSpPr>
        <p:spPr>
          <a:xfrm>
            <a:off x="1353960" y="1293840"/>
            <a:ext cx="7407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ont face polygon has counterclockwise vertices, with normal facing viewer. In OpenGL, this can be defin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500"/>
                            </p:stCondLst>
                            <p:childTnLst>
                              <p:par>
                                <p:cTn id="2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:   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Group 3"/>
          <p:cNvGrpSpPr/>
          <p:nvPr/>
        </p:nvGrpSpPr>
        <p:grpSpPr>
          <a:xfrm>
            <a:off x="3886200" y="6477120"/>
            <a:ext cx="1523880" cy="368280"/>
            <a:chOff x="3886200" y="6477120"/>
            <a:chExt cx="1523880" cy="368280"/>
          </a:xfrm>
        </p:grpSpPr>
        <p:sp>
          <p:nvSpPr>
            <p:cNvPr id="296" name="Text Box 4"/>
            <p:cNvSpPr/>
            <p:nvPr/>
          </p:nvSpPr>
          <p:spPr>
            <a:xfrm>
              <a:off x="3962520" y="64771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        </a:t>
              </a: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: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Rectangle 5"/>
            <p:cNvSpPr/>
            <p:nvPr/>
          </p:nvSpPr>
          <p:spPr>
            <a:xfrm>
              <a:off x="3886200" y="6553080"/>
              <a:ext cx="7632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Rectangle 6"/>
            <p:cNvSpPr/>
            <p:nvPr/>
          </p:nvSpPr>
          <p:spPr>
            <a:xfrm>
              <a:off x="5334120" y="6553080"/>
              <a:ext cx="759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AutoShape 7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AutoShape 8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AutoShape 9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AutoShape 10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Group 11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304" name="Text Box 12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Drawing Geometric Model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Rectangle 13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Rectangle 14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Text Box 15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F221E6D1-5ED9-4E8B-AF6A-6D424497B6A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17"/>
          <p:cNvSpPr/>
          <p:nvPr/>
        </p:nvSpPr>
        <p:spPr>
          <a:xfrm>
            <a:off x="618120" y="933480"/>
            <a:ext cx="7785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IRCLE, CONE, CYLINDER, SPHERE, AND ANI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31"/>
          <p:cNvSpPr/>
          <p:nvPr/>
        </p:nvSpPr>
        <p:spPr>
          <a:xfrm>
            <a:off x="3710160" y="2394000"/>
            <a:ext cx="1600200" cy="3988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ir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32"/>
          <p:cNvSpPr/>
          <p:nvPr/>
        </p:nvSpPr>
        <p:spPr>
          <a:xfrm>
            <a:off x="3797280" y="5005440"/>
            <a:ext cx="1600200" cy="3988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p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33"/>
          <p:cNvSpPr/>
          <p:nvPr/>
        </p:nvSpPr>
        <p:spPr>
          <a:xfrm>
            <a:off x="3762360" y="4011480"/>
            <a:ext cx="1600200" cy="3988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yli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34"/>
          <p:cNvSpPr/>
          <p:nvPr/>
        </p:nvSpPr>
        <p:spPr>
          <a:xfrm>
            <a:off x="3710160" y="3133800"/>
            <a:ext cx="1600200" cy="3988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AutoShape 36">
            <a:hlinkClick r:id="" action="ppaction://hlinkshowjump?jump=nextslide"/>
          </p:cNvPr>
          <p:cNvSpPr/>
          <p:nvPr/>
        </p:nvSpPr>
        <p:spPr>
          <a:xfrm>
            <a:off x="8001000" y="57913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3794"/>
                </a:moveTo>
                <a:lnTo>
                  <a:pt x="22441" y="10800"/>
                </a:lnTo>
                <a:lnTo>
                  <a:pt x="8428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:   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Group 3"/>
          <p:cNvGrpSpPr/>
          <p:nvPr/>
        </p:nvGrpSpPr>
        <p:grpSpPr>
          <a:xfrm>
            <a:off x="3886200" y="6477120"/>
            <a:ext cx="1523880" cy="368280"/>
            <a:chOff x="3886200" y="6477120"/>
            <a:chExt cx="1523880" cy="368280"/>
          </a:xfrm>
        </p:grpSpPr>
        <p:sp>
          <p:nvSpPr>
            <p:cNvPr id="317" name="Text Box 4"/>
            <p:cNvSpPr/>
            <p:nvPr/>
          </p:nvSpPr>
          <p:spPr>
            <a:xfrm>
              <a:off x="3962520" y="64771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        </a:t>
              </a: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: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Rectangle 5"/>
            <p:cNvSpPr/>
            <p:nvPr/>
          </p:nvSpPr>
          <p:spPr>
            <a:xfrm>
              <a:off x="3886200" y="6553080"/>
              <a:ext cx="7632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Rectangle 6"/>
            <p:cNvSpPr/>
            <p:nvPr/>
          </p:nvSpPr>
          <p:spPr>
            <a:xfrm>
              <a:off x="5334120" y="6553080"/>
              <a:ext cx="759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AutoShape 7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AutoShape 8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AutoShape 9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AutoShape 10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" name="Group 11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325" name="Text Box 12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Drawing Geometric Model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Rectangle 13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Rectangle 14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8" name="Text Box 15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7D839CE3-B5DF-4C55-93AA-5CADF2E5313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22"/>
          <p:cNvSpPr/>
          <p:nvPr/>
        </p:nvSpPr>
        <p:spPr>
          <a:xfrm>
            <a:off x="1314360" y="884160"/>
            <a:ext cx="1600200" cy="3988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ir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Picture 23" descr=""/>
          <p:cNvPicPr/>
          <p:nvPr/>
        </p:nvPicPr>
        <p:blipFill>
          <a:blip r:embed="rId1"/>
          <a:stretch/>
        </p:blipFill>
        <p:spPr>
          <a:xfrm>
            <a:off x="3656160" y="349200"/>
            <a:ext cx="3703320" cy="252432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24"/>
          <p:cNvSpPr/>
          <p:nvPr/>
        </p:nvSpPr>
        <p:spPr>
          <a:xfrm>
            <a:off x="398520" y="2922480"/>
            <a:ext cx="8350200" cy="34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pth=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draw 4 triangles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pth=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each triangle is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ubdivid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to two and we draw 8 triangl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vectors. Then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in the direction of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1 + v2)=(v1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v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v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v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v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v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= 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= 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normaliz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1 + v2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Normalizing a vector is equivalent to scaling the vector to a unit vecto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ursively subdivides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dep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 and draws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ep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riang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AutoShape 25">
            <a:hlinkClick r:id="" action="ppaction://hlinkshowjump?jump=nextslide"/>
          </p:cNvPr>
          <p:cNvSpPr/>
          <p:nvPr/>
        </p:nvSpPr>
        <p:spPr>
          <a:xfrm>
            <a:off x="8001000" y="57913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3794"/>
                </a:moveTo>
                <a:lnTo>
                  <a:pt x="22441" y="10800"/>
                </a:lnTo>
                <a:lnTo>
                  <a:pt x="8428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:   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Group 3"/>
          <p:cNvGrpSpPr/>
          <p:nvPr/>
        </p:nvGrpSpPr>
        <p:grpSpPr>
          <a:xfrm>
            <a:off x="3886200" y="6477120"/>
            <a:ext cx="1523880" cy="368280"/>
            <a:chOff x="3886200" y="6477120"/>
            <a:chExt cx="1523880" cy="368280"/>
          </a:xfrm>
        </p:grpSpPr>
        <p:sp>
          <p:nvSpPr>
            <p:cNvPr id="336" name="Text Box 4"/>
            <p:cNvSpPr/>
            <p:nvPr/>
          </p:nvSpPr>
          <p:spPr>
            <a:xfrm>
              <a:off x="3962520" y="64771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        </a:t>
              </a: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: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Rectangle 5"/>
            <p:cNvSpPr/>
            <p:nvPr/>
          </p:nvSpPr>
          <p:spPr>
            <a:xfrm>
              <a:off x="3886200" y="6553080"/>
              <a:ext cx="7632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Rectangle 6"/>
            <p:cNvSpPr/>
            <p:nvPr/>
          </p:nvSpPr>
          <p:spPr>
            <a:xfrm>
              <a:off x="5334120" y="6553080"/>
              <a:ext cx="759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AutoShape 7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AutoShape 8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AutoShape 9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AutoShape 10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Group 11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344" name="Text Box 12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Drawing Geometric Model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Rectangle 13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Rectangle 14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Text Box 15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592031B0-9416-476F-9804-BD8B842E075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18"/>
          <p:cNvSpPr/>
          <p:nvPr/>
        </p:nvSpPr>
        <p:spPr>
          <a:xfrm>
            <a:off x="398520" y="2195640"/>
            <a:ext cx="83502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ise the center of the circle along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x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make sure the cone is within the viewing volu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lOrtho(-Width/2, Width/2, -Height/2, Height/2, 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-Width/2, Width/2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AutoShape 19">
            <a:hlinkClick r:id="" action="ppaction://hlinkshowjump?jump=nextslide"/>
          </p:cNvPr>
          <p:cNvSpPr/>
          <p:nvPr/>
        </p:nvSpPr>
        <p:spPr>
          <a:xfrm>
            <a:off x="8001000" y="57913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3794"/>
                </a:moveTo>
                <a:lnTo>
                  <a:pt x="22441" y="10800"/>
                </a:lnTo>
                <a:lnTo>
                  <a:pt x="8428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20"/>
          <p:cNvSpPr/>
          <p:nvPr/>
        </p:nvSpPr>
        <p:spPr>
          <a:xfrm>
            <a:off x="865080" y="1144440"/>
            <a:ext cx="1600200" cy="3988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:   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3"/>
          <p:cNvGrpSpPr/>
          <p:nvPr/>
        </p:nvGrpSpPr>
        <p:grpSpPr>
          <a:xfrm>
            <a:off x="3886200" y="6477120"/>
            <a:ext cx="1523880" cy="368280"/>
            <a:chOff x="3886200" y="6477120"/>
            <a:chExt cx="1523880" cy="368280"/>
          </a:xfrm>
        </p:grpSpPr>
        <p:sp>
          <p:nvSpPr>
            <p:cNvPr id="354" name="Text Box 4"/>
            <p:cNvSpPr/>
            <p:nvPr/>
          </p:nvSpPr>
          <p:spPr>
            <a:xfrm>
              <a:off x="3962520" y="64771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        </a:t>
              </a: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: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Rectangle 5"/>
            <p:cNvSpPr/>
            <p:nvPr/>
          </p:nvSpPr>
          <p:spPr>
            <a:xfrm>
              <a:off x="3886200" y="6553080"/>
              <a:ext cx="7632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Rectangle 6"/>
            <p:cNvSpPr/>
            <p:nvPr/>
          </p:nvSpPr>
          <p:spPr>
            <a:xfrm>
              <a:off x="5334120" y="6553080"/>
              <a:ext cx="759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" name="AutoShape 7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AutoShape 8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AutoShape 9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AutoShape 10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" name="Group 11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362" name="Text Box 12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Drawing Geometric Model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Rectangle 13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Rectangle 14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5" name="Text Box 15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9A42960D-FDC8-46A8-8F20-29C4FF4A22A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16"/>
          <p:cNvSpPr/>
          <p:nvPr/>
        </p:nvSpPr>
        <p:spPr>
          <a:xfrm>
            <a:off x="398520" y="1716120"/>
            <a:ext cx="8350200" cy="33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 a circle a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=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draw another circle a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=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connect the rectangles of the same vertices on the edges of the two circles, we have a cyl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make sure the cone is within the viewing volu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lOrtho(-Width/2, Width/2, -Height/2, Height/2, 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-Width/2, Width/2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AutoShape 17">
            <a:hlinkClick r:id="" action="ppaction://hlinkshowjump?jump=nextslide"/>
          </p:cNvPr>
          <p:cNvSpPr/>
          <p:nvPr/>
        </p:nvSpPr>
        <p:spPr>
          <a:xfrm>
            <a:off x="8001000" y="57913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3794"/>
                </a:moveTo>
                <a:lnTo>
                  <a:pt x="22441" y="10800"/>
                </a:lnTo>
                <a:lnTo>
                  <a:pt x="8428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19"/>
          <p:cNvSpPr/>
          <p:nvPr/>
        </p:nvSpPr>
        <p:spPr>
          <a:xfrm>
            <a:off x="860400" y="804960"/>
            <a:ext cx="1600200" cy="3988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yli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:   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Group 3"/>
          <p:cNvGrpSpPr/>
          <p:nvPr/>
        </p:nvGrpSpPr>
        <p:grpSpPr>
          <a:xfrm>
            <a:off x="3886200" y="6477120"/>
            <a:ext cx="1523880" cy="368280"/>
            <a:chOff x="3886200" y="6477120"/>
            <a:chExt cx="1523880" cy="368280"/>
          </a:xfrm>
        </p:grpSpPr>
        <p:sp>
          <p:nvSpPr>
            <p:cNvPr id="372" name="Text Box 4"/>
            <p:cNvSpPr/>
            <p:nvPr/>
          </p:nvSpPr>
          <p:spPr>
            <a:xfrm>
              <a:off x="3962520" y="64771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        </a:t>
              </a: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: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Rectangle 5"/>
            <p:cNvSpPr/>
            <p:nvPr/>
          </p:nvSpPr>
          <p:spPr>
            <a:xfrm>
              <a:off x="3886200" y="6553080"/>
              <a:ext cx="7632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Rectangle 6"/>
            <p:cNvSpPr/>
            <p:nvPr/>
          </p:nvSpPr>
          <p:spPr>
            <a:xfrm>
              <a:off x="5334120" y="6553080"/>
              <a:ext cx="759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AutoShape 7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AutoShape 8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AutoShape 9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AutoShape 10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Group 11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380" name="Text Box 12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Drawing Geometric Model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Rectangle 13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Rectangle 14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Text Box 15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38CA8C84-EA9B-4031-BAC7-A4CE8A20493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16"/>
          <p:cNvSpPr/>
          <p:nvPr/>
        </p:nvSpPr>
        <p:spPr>
          <a:xfrm>
            <a:off x="398520" y="1716120"/>
            <a:ext cx="8350200" cy="19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 equilateral triangl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n a sphere and 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=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=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normalize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also on the sphere. We can further subdivide the triangle into four equilateral tri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AutoShape 17">
            <a:hlinkClick r:id="" action="ppaction://hlinkshowjump?jump=nextslide"/>
          </p:cNvPr>
          <p:cNvSpPr/>
          <p:nvPr/>
        </p:nvSpPr>
        <p:spPr>
          <a:xfrm>
            <a:off x="8001000" y="57913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3794"/>
                </a:moveTo>
                <a:lnTo>
                  <a:pt x="22441" y="10800"/>
                </a:lnTo>
                <a:lnTo>
                  <a:pt x="8428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19"/>
          <p:cNvSpPr/>
          <p:nvPr/>
        </p:nvSpPr>
        <p:spPr>
          <a:xfrm>
            <a:off x="1155600" y="868320"/>
            <a:ext cx="1600200" cy="3988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p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Picture 20" descr=""/>
          <p:cNvPicPr/>
          <p:nvPr/>
        </p:nvPicPr>
        <p:blipFill>
          <a:blip r:embed="rId1"/>
          <a:stretch/>
        </p:blipFill>
        <p:spPr>
          <a:xfrm>
            <a:off x="1476360" y="3436920"/>
            <a:ext cx="5013360" cy="2790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:   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0" name="Group 3"/>
          <p:cNvGrpSpPr/>
          <p:nvPr/>
        </p:nvGrpSpPr>
        <p:grpSpPr>
          <a:xfrm>
            <a:off x="3886200" y="6477120"/>
            <a:ext cx="1523880" cy="368280"/>
            <a:chOff x="3886200" y="6477120"/>
            <a:chExt cx="1523880" cy="368280"/>
          </a:xfrm>
        </p:grpSpPr>
        <p:sp>
          <p:nvSpPr>
            <p:cNvPr id="391" name="Text Box 4"/>
            <p:cNvSpPr/>
            <p:nvPr/>
          </p:nvSpPr>
          <p:spPr>
            <a:xfrm>
              <a:off x="3962520" y="64771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        </a:t>
              </a: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: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Rectangle 5"/>
            <p:cNvSpPr/>
            <p:nvPr/>
          </p:nvSpPr>
          <p:spPr>
            <a:xfrm>
              <a:off x="3886200" y="6553080"/>
              <a:ext cx="7632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Rectangle 6"/>
            <p:cNvSpPr/>
            <p:nvPr/>
          </p:nvSpPr>
          <p:spPr>
            <a:xfrm>
              <a:off x="5334120" y="6553080"/>
              <a:ext cx="759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4" name="AutoShape 7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AutoShape 8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AutoShape 9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AutoShape 10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Group 11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399" name="Text Box 12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Drawing Geometric Model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Rectangle 13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Rectangle 14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2" name="Text Box 15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A8261434-DA2D-4749-AB37-CA8A89348D2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AutoShape 17">
            <a:hlinkClick r:id="" action="ppaction://hlinkshowjump?jump=nextslide"/>
          </p:cNvPr>
          <p:cNvSpPr/>
          <p:nvPr/>
        </p:nvSpPr>
        <p:spPr>
          <a:xfrm>
            <a:off x="8001000" y="57913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3794"/>
                </a:moveTo>
                <a:lnTo>
                  <a:pt x="22441" y="10800"/>
                </a:lnTo>
                <a:lnTo>
                  <a:pt x="8428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71680" y="406440"/>
            <a:ext cx="7772400" cy="7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ore Hidden-surface Remo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168200"/>
            <a:ext cx="7772400" cy="39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ew point at the origin and the models are in the negative z ax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nder the models in the order of their distances to the view point along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xis from the farthest to the clos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up a 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bo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bounding volume) with the faces perpendicular to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xis to bound a 3D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are the minimum and maximum bounds in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irection between boxes to decide which model should be rendered fir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bounding volumes to decide priority of rendering is also known as 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minmax test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23"/>
          <p:cNvSpPr/>
          <p:nvPr/>
        </p:nvSpPr>
        <p:spPr>
          <a:xfrm flipH="1">
            <a:off x="1972800" y="5630760"/>
            <a:ext cx="4729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24"/>
          <p:cNvSpPr/>
          <p:nvPr/>
        </p:nvSpPr>
        <p:spPr>
          <a:xfrm flipH="1" flipV="1">
            <a:off x="2771640" y="5094000"/>
            <a:ext cx="14400" cy="958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25"/>
          <p:cNvSpPr/>
          <p:nvPr/>
        </p:nvSpPr>
        <p:spPr>
          <a:xfrm>
            <a:off x="1679040" y="53499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26"/>
          <p:cNvSpPr/>
          <p:nvPr/>
        </p:nvSpPr>
        <p:spPr>
          <a:xfrm>
            <a:off x="3425760" y="5297400"/>
            <a:ext cx="449280" cy="552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Rectangle 27"/>
          <p:cNvSpPr/>
          <p:nvPr/>
        </p:nvSpPr>
        <p:spPr>
          <a:xfrm>
            <a:off x="4092480" y="5195880"/>
            <a:ext cx="189000" cy="289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Rectangle 28"/>
          <p:cNvSpPr/>
          <p:nvPr/>
        </p:nvSpPr>
        <p:spPr>
          <a:xfrm>
            <a:off x="4746600" y="5819760"/>
            <a:ext cx="217440" cy="262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29"/>
          <p:cNvSpPr/>
          <p:nvPr/>
        </p:nvSpPr>
        <p:spPr>
          <a:xfrm>
            <a:off x="4484520" y="5457960"/>
            <a:ext cx="203400" cy="290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Oval 30"/>
          <p:cNvSpPr/>
          <p:nvPr/>
        </p:nvSpPr>
        <p:spPr>
          <a:xfrm>
            <a:off x="2641680" y="5486400"/>
            <a:ext cx="276120" cy="246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Oval 31"/>
          <p:cNvSpPr/>
          <p:nvPr/>
        </p:nvSpPr>
        <p:spPr>
          <a:xfrm>
            <a:off x="2830680" y="5559480"/>
            <a:ext cx="88560" cy="101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Line 32"/>
          <p:cNvSpPr/>
          <p:nvPr/>
        </p:nvSpPr>
        <p:spPr>
          <a:xfrm>
            <a:off x="2627280" y="5413320"/>
            <a:ext cx="42840" cy="8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Line 33"/>
          <p:cNvSpPr/>
          <p:nvPr/>
        </p:nvSpPr>
        <p:spPr>
          <a:xfrm flipH="1">
            <a:off x="2889360" y="5370480"/>
            <a:ext cx="1159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Line 34"/>
          <p:cNvSpPr/>
          <p:nvPr/>
        </p:nvSpPr>
        <p:spPr>
          <a:xfrm>
            <a:off x="2700360" y="5342040"/>
            <a:ext cx="712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:   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Group 3"/>
          <p:cNvGrpSpPr/>
          <p:nvPr/>
        </p:nvGrpSpPr>
        <p:grpSpPr>
          <a:xfrm>
            <a:off x="3886200" y="6477120"/>
            <a:ext cx="1523880" cy="368280"/>
            <a:chOff x="3886200" y="6477120"/>
            <a:chExt cx="1523880" cy="368280"/>
          </a:xfrm>
        </p:grpSpPr>
        <p:sp>
          <p:nvSpPr>
            <p:cNvPr id="421" name="Text Box 4"/>
            <p:cNvSpPr/>
            <p:nvPr/>
          </p:nvSpPr>
          <p:spPr>
            <a:xfrm>
              <a:off x="3962520" y="64771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        </a:t>
              </a: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: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Rectangle 5"/>
            <p:cNvSpPr/>
            <p:nvPr/>
          </p:nvSpPr>
          <p:spPr>
            <a:xfrm>
              <a:off x="3886200" y="6553080"/>
              <a:ext cx="7632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Rectangle 6"/>
            <p:cNvSpPr/>
            <p:nvPr/>
          </p:nvSpPr>
          <p:spPr>
            <a:xfrm>
              <a:off x="5334120" y="6553080"/>
              <a:ext cx="759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" name="AutoShape 7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AutoShape 8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AutoShape 9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AutoShape 10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" name="Group 11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429" name="Text Box 12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Drawing Geometric Model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Rectangle 13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Rectangle 14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2" name="Text Box 15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CE2C2F82-9F16-4E85-A425-D0E052529E5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angle 17"/>
          <p:cNvSpPr/>
          <p:nvPr/>
        </p:nvSpPr>
        <p:spPr>
          <a:xfrm>
            <a:off x="457200" y="690480"/>
            <a:ext cx="8085240" cy="51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ollision Det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llision dete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void two models in an animation penetrating each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n use their bounding volumes to decide their physical distances and coll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spcAft>
                <a:spcPts val="1001"/>
              </a:spcAft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bounding volu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be in a different shape other than a box, such as a sphe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may use multiple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pher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different radii to more accurately bound a model, but the collision detection would be more complex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Line 19"/>
          <p:cNvSpPr/>
          <p:nvPr/>
        </p:nvSpPr>
        <p:spPr>
          <a:xfrm flipH="1">
            <a:off x="5297400" y="1000080"/>
            <a:ext cx="3611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Line 20"/>
          <p:cNvSpPr/>
          <p:nvPr/>
        </p:nvSpPr>
        <p:spPr>
          <a:xfrm flipH="1" flipV="1">
            <a:off x="6095880" y="463320"/>
            <a:ext cx="14400" cy="958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21"/>
          <p:cNvSpPr/>
          <p:nvPr/>
        </p:nvSpPr>
        <p:spPr>
          <a:xfrm>
            <a:off x="5003280" y="719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Oval 26"/>
          <p:cNvSpPr/>
          <p:nvPr/>
        </p:nvSpPr>
        <p:spPr>
          <a:xfrm>
            <a:off x="5965920" y="855720"/>
            <a:ext cx="276120" cy="245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Oval 27"/>
          <p:cNvSpPr/>
          <p:nvPr/>
        </p:nvSpPr>
        <p:spPr>
          <a:xfrm>
            <a:off x="6154560" y="928800"/>
            <a:ext cx="88920" cy="101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Line 28"/>
          <p:cNvSpPr/>
          <p:nvPr/>
        </p:nvSpPr>
        <p:spPr>
          <a:xfrm>
            <a:off x="5951520" y="782640"/>
            <a:ext cx="42840" cy="8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Line 29"/>
          <p:cNvSpPr/>
          <p:nvPr/>
        </p:nvSpPr>
        <p:spPr>
          <a:xfrm flipH="1">
            <a:off x="6213600" y="739800"/>
            <a:ext cx="1159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Line 30"/>
          <p:cNvSpPr/>
          <p:nvPr/>
        </p:nvSpPr>
        <p:spPr>
          <a:xfrm>
            <a:off x="6024600" y="711360"/>
            <a:ext cx="712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Oval 32"/>
          <p:cNvSpPr/>
          <p:nvPr/>
        </p:nvSpPr>
        <p:spPr>
          <a:xfrm>
            <a:off x="6734160" y="770040"/>
            <a:ext cx="450720" cy="449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Oval 33"/>
          <p:cNvSpPr/>
          <p:nvPr/>
        </p:nvSpPr>
        <p:spPr>
          <a:xfrm>
            <a:off x="7097760" y="623880"/>
            <a:ext cx="290520" cy="276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Oval 34"/>
          <p:cNvSpPr/>
          <p:nvPr/>
        </p:nvSpPr>
        <p:spPr>
          <a:xfrm>
            <a:off x="7577280" y="711360"/>
            <a:ext cx="420480" cy="449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Oval 35"/>
          <p:cNvSpPr/>
          <p:nvPr/>
        </p:nvSpPr>
        <p:spPr>
          <a:xfrm>
            <a:off x="7823160" y="1046160"/>
            <a:ext cx="247680" cy="274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Oval 36"/>
          <p:cNvSpPr/>
          <p:nvPr/>
        </p:nvSpPr>
        <p:spPr>
          <a:xfrm>
            <a:off x="8026560" y="449280"/>
            <a:ext cx="261720" cy="276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:   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349200"/>
            <a:ext cx="7772400" cy="14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W6: Op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7772400" cy="20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 a cone, a cylinder, and a sphere that bounce back and forth in a circle. When the models meet, they change their directions of mov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be in double buffer m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have hidden surface remov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AutoShape 8">
            <a:hlinkClick r:id="" action="ppaction://hlinkshowjump?jump=previousslide"/>
          </p:cNvPr>
          <p:cNvSpPr/>
          <p:nvPr/>
        </p:nvSpPr>
        <p:spPr>
          <a:xfrm>
            <a:off x="8136000" y="5870520"/>
            <a:ext cx="647640" cy="476280"/>
          </a:xfrm>
          <a:custGeom>
            <a:avLst/>
            <a:gdLst>
              <a:gd name="textAreaLeft" fmla="*/ 30600 w 647640"/>
              <a:gd name="textAreaRight" fmla="*/ 617040 w 647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9366" h="21600">
                <a:moveTo>
                  <a:pt x="0" y="0"/>
                </a:moveTo>
                <a:lnTo>
                  <a:pt x="29366" y="0"/>
                </a:lnTo>
                <a:lnTo>
                  <a:pt x="29366" y="21600"/>
                </a:lnTo>
                <a:lnTo>
                  <a:pt x="0" y="21600"/>
                </a:lnTo>
                <a:close/>
              </a:path>
              <a:path fill="lightenLess" w="29366" h="21600">
                <a:moveTo>
                  <a:pt x="0" y="0"/>
                </a:moveTo>
                <a:lnTo>
                  <a:pt x="29366" y="0"/>
                </a:lnTo>
                <a:lnTo>
                  <a:pt x="27966" y="1400"/>
                </a:lnTo>
                <a:lnTo>
                  <a:pt x="1400" y="1400"/>
                </a:lnTo>
                <a:close/>
              </a:path>
              <a:path fill="darken" w="29366" h="21600">
                <a:moveTo>
                  <a:pt x="29366" y="0"/>
                </a:moveTo>
                <a:lnTo>
                  <a:pt x="29366" y="21600"/>
                </a:lnTo>
                <a:lnTo>
                  <a:pt x="27966" y="20200"/>
                </a:lnTo>
                <a:lnTo>
                  <a:pt x="27966" y="1400"/>
                </a:lnTo>
                <a:close/>
              </a:path>
              <a:path fill="darkenLess" w="29366" h="21600">
                <a:moveTo>
                  <a:pt x="29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66" y="20200"/>
                </a:lnTo>
                <a:close/>
              </a:path>
              <a:path fill="lighten" w="29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66" h="21600">
                <a:moveTo>
                  <a:pt x="7676" y="7493"/>
                </a:moveTo>
                <a:lnTo>
                  <a:pt x="11184" y="7493"/>
                </a:lnTo>
                <a:lnTo>
                  <a:pt x="11184" y="12828"/>
                </a:lnTo>
                <a:cubicBezTo>
                  <a:pt x="11184" y="13751"/>
                  <a:pt x="11985" y="14482"/>
                  <a:pt x="13020" y="14482"/>
                </a:cubicBezTo>
                <a:lnTo>
                  <a:pt x="14683" y="14482"/>
                </a:lnTo>
                <a:cubicBezTo>
                  <a:pt x="15719" y="14482"/>
                  <a:pt x="16519" y="13751"/>
                  <a:pt x="16519" y="12828"/>
                </a:cubicBezTo>
                <a:lnTo>
                  <a:pt x="16519" y="7493"/>
                </a:lnTo>
                <a:lnTo>
                  <a:pt x="14683" y="7493"/>
                </a:lnTo>
                <a:lnTo>
                  <a:pt x="18190" y="3985"/>
                </a:lnTo>
                <a:lnTo>
                  <a:pt x="21863" y="7493"/>
                </a:lnTo>
                <a:lnTo>
                  <a:pt x="20027" y="7493"/>
                </a:lnTo>
                <a:lnTo>
                  <a:pt x="20027" y="12828"/>
                </a:lnTo>
                <a:cubicBezTo>
                  <a:pt x="20027" y="15596"/>
                  <a:pt x="17451" y="18155"/>
                  <a:pt x="14683" y="18155"/>
                </a:cubicBezTo>
                <a:lnTo>
                  <a:pt x="13020" y="18155"/>
                </a:lnTo>
                <a:cubicBezTo>
                  <a:pt x="10253" y="18155"/>
                  <a:pt x="7676" y="15596"/>
                  <a:pt x="7676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Group 21"/>
          <p:cNvGrpSpPr/>
          <p:nvPr/>
        </p:nvGrpSpPr>
        <p:grpSpPr>
          <a:xfrm>
            <a:off x="3205080" y="3571920"/>
            <a:ext cx="2557080" cy="2515680"/>
            <a:chOff x="3205080" y="3571920"/>
            <a:chExt cx="2557080" cy="2515680"/>
          </a:xfrm>
        </p:grpSpPr>
        <p:sp>
          <p:nvSpPr>
            <p:cNvPr id="452" name="AutoShape 10"/>
            <p:cNvSpPr/>
            <p:nvPr/>
          </p:nvSpPr>
          <p:spPr>
            <a:xfrm>
              <a:off x="5240880" y="5411160"/>
              <a:ext cx="331200" cy="36036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4449240" y="3650760"/>
              <a:ext cx="378720" cy="371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AutoShape 12"/>
            <p:cNvSpPr/>
            <p:nvPr/>
          </p:nvSpPr>
          <p:spPr>
            <a:xfrm>
              <a:off x="3360240" y="3966840"/>
              <a:ext cx="306360" cy="42804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13"/>
            <p:cNvSpPr/>
            <p:nvPr/>
          </p:nvSpPr>
          <p:spPr>
            <a:xfrm flipV="1">
              <a:off x="3264120" y="3831120"/>
              <a:ext cx="319680" cy="23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14"/>
            <p:cNvSpPr/>
            <p:nvPr/>
          </p:nvSpPr>
          <p:spPr>
            <a:xfrm>
              <a:off x="4519080" y="3571920"/>
              <a:ext cx="400680" cy="9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15"/>
            <p:cNvSpPr/>
            <p:nvPr/>
          </p:nvSpPr>
          <p:spPr>
            <a:xfrm flipV="1">
              <a:off x="5679360" y="5342400"/>
              <a:ext cx="82800" cy="30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Oval 17"/>
            <p:cNvSpPr/>
            <p:nvPr/>
          </p:nvSpPr>
          <p:spPr>
            <a:xfrm>
              <a:off x="3205080" y="3779280"/>
              <a:ext cx="2405880" cy="2308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AutoShape 18"/>
            <p:cNvSpPr/>
            <p:nvPr/>
          </p:nvSpPr>
          <p:spPr>
            <a:xfrm>
              <a:off x="3264120" y="3776760"/>
              <a:ext cx="2258640" cy="2090160"/>
            </a:xfrm>
            <a:prstGeom prst="pentag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33cc"/>
                  </a:solidFill>
                  <a:latin typeface="Times New Roman"/>
                </a:rPr>
                <a:t>Clipping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lang="en-US" sz="900" spc="-1" strike="noStrike">
                  <a:solidFill>
                    <a:srgbClr val="a50021"/>
                  </a:solidFill>
                  <a:latin typeface="Times New Roman"/>
                </a:rPr>
                <a:t>Jim Che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:   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Group 3"/>
          <p:cNvGrpSpPr/>
          <p:nvPr/>
        </p:nvGrpSpPr>
        <p:grpSpPr>
          <a:xfrm>
            <a:off x="3886200" y="6477120"/>
            <a:ext cx="1523880" cy="368280"/>
            <a:chOff x="3886200" y="6477120"/>
            <a:chExt cx="1523880" cy="368280"/>
          </a:xfrm>
        </p:grpSpPr>
        <p:sp>
          <p:nvSpPr>
            <p:cNvPr id="58" name="Text Box 4"/>
            <p:cNvSpPr/>
            <p:nvPr/>
          </p:nvSpPr>
          <p:spPr>
            <a:xfrm>
              <a:off x="3962520" y="64771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        </a:t>
              </a: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: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Rectangle 5"/>
            <p:cNvSpPr/>
            <p:nvPr/>
          </p:nvSpPr>
          <p:spPr>
            <a:xfrm>
              <a:off x="3886200" y="6553080"/>
              <a:ext cx="7632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Rectangle 6"/>
            <p:cNvSpPr/>
            <p:nvPr/>
          </p:nvSpPr>
          <p:spPr>
            <a:xfrm>
              <a:off x="5334120" y="6553080"/>
              <a:ext cx="759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AutoShape 7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8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9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10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Group 11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66" name="Text Box 12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Drawing Geometric Model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13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14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Text Box 15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F6CB8ECB-E3AA-43E3-B77B-CD6C3EB283E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16">
            <a:hlinkClick r:id="" action="ppaction://hlinkshowjump?jump=nextslide"/>
          </p:cNvPr>
          <p:cNvSpPr/>
          <p:nvPr/>
        </p:nvSpPr>
        <p:spPr>
          <a:xfrm>
            <a:off x="8001000" y="57913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3794"/>
                </a:moveTo>
                <a:lnTo>
                  <a:pt x="22441" y="10800"/>
                </a:lnTo>
                <a:lnTo>
                  <a:pt x="8428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31"/>
          <p:cNvSpPr/>
          <p:nvPr/>
        </p:nvSpPr>
        <p:spPr>
          <a:xfrm>
            <a:off x="811080" y="1090440"/>
            <a:ext cx="5380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OPENGL DRAWING PRIMI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Group 40"/>
          <p:cNvGrpSpPr/>
          <p:nvPr/>
        </p:nvGrpSpPr>
        <p:grpSpPr>
          <a:xfrm>
            <a:off x="788760" y="1992240"/>
            <a:ext cx="3292560" cy="2049480"/>
            <a:chOff x="788760" y="1992240"/>
            <a:chExt cx="3292560" cy="2049480"/>
          </a:xfrm>
        </p:grpSpPr>
        <p:sp>
          <p:nvSpPr>
            <p:cNvPr id="73" name="Rectangle 32"/>
            <p:cNvSpPr/>
            <p:nvPr/>
          </p:nvSpPr>
          <p:spPr>
            <a:xfrm>
              <a:off x="1375920" y="1992240"/>
              <a:ext cx="2658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lBegin(GL_POLYGON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33"/>
            <p:cNvSpPr/>
            <p:nvPr/>
          </p:nvSpPr>
          <p:spPr>
            <a:xfrm>
              <a:off x="788760" y="2352960"/>
              <a:ext cx="3292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Vertex2f(0.0, 0.0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Rectangle 34"/>
            <p:cNvSpPr/>
            <p:nvPr/>
          </p:nvSpPr>
          <p:spPr>
            <a:xfrm>
              <a:off x="788760" y="2648520"/>
              <a:ext cx="3292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Vertex2f(0.0, 3.0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Rectangle 35"/>
            <p:cNvSpPr/>
            <p:nvPr/>
          </p:nvSpPr>
          <p:spPr>
            <a:xfrm>
              <a:off x="788760" y="2944080"/>
              <a:ext cx="3292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Vertex2f(3.0, 3.0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Rectangle 36"/>
            <p:cNvSpPr/>
            <p:nvPr/>
          </p:nvSpPr>
          <p:spPr>
            <a:xfrm>
              <a:off x="788760" y="3241800"/>
              <a:ext cx="3292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Vertex2f(4.0, 1.5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37"/>
            <p:cNvSpPr/>
            <p:nvPr/>
          </p:nvSpPr>
          <p:spPr>
            <a:xfrm>
              <a:off x="788760" y="3538800"/>
              <a:ext cx="3292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Vertex2f(3.0, 0.0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Rectangle 38"/>
            <p:cNvSpPr/>
            <p:nvPr/>
          </p:nvSpPr>
          <p:spPr>
            <a:xfrm>
              <a:off x="1377000" y="3767040"/>
              <a:ext cx="86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lEnd(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Rectangle 42"/>
          <p:cNvSpPr/>
          <p:nvPr/>
        </p:nvSpPr>
        <p:spPr>
          <a:xfrm>
            <a:off x="1175400" y="4357800"/>
            <a:ext cx="4639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nGL polygons must be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conv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:   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Group 3"/>
          <p:cNvGrpSpPr/>
          <p:nvPr/>
        </p:nvGrpSpPr>
        <p:grpSpPr>
          <a:xfrm>
            <a:off x="3886200" y="6477120"/>
            <a:ext cx="1523880" cy="368280"/>
            <a:chOff x="3886200" y="6477120"/>
            <a:chExt cx="1523880" cy="368280"/>
          </a:xfrm>
        </p:grpSpPr>
        <p:sp>
          <p:nvSpPr>
            <p:cNvPr id="84" name="Text Box 4"/>
            <p:cNvSpPr/>
            <p:nvPr/>
          </p:nvSpPr>
          <p:spPr>
            <a:xfrm>
              <a:off x="3962520" y="64771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        </a:t>
              </a: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: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Rectangle 5"/>
            <p:cNvSpPr/>
            <p:nvPr/>
          </p:nvSpPr>
          <p:spPr>
            <a:xfrm>
              <a:off x="3886200" y="6553080"/>
              <a:ext cx="7632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Rectangle 6"/>
            <p:cNvSpPr/>
            <p:nvPr/>
          </p:nvSpPr>
          <p:spPr>
            <a:xfrm>
              <a:off x="5334120" y="6553080"/>
              <a:ext cx="759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AutoShape 7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8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9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10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Group 11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92" name="Text Box 12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Drawing Geometric Model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Rectangle 13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Rectangle 14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Text Box 15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58AC4397-07D9-408D-AC51-BF7DE3677D3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6">
            <a:hlinkClick r:id="" action="ppaction://hlinkshowjump?jump=nextslide"/>
          </p:cNvPr>
          <p:cNvSpPr/>
          <p:nvPr/>
        </p:nvSpPr>
        <p:spPr>
          <a:xfrm>
            <a:off x="8001000" y="57913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3794"/>
                </a:moveTo>
                <a:lnTo>
                  <a:pt x="22441" y="10800"/>
                </a:lnTo>
                <a:lnTo>
                  <a:pt x="8428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40"/>
          <p:cNvSpPr/>
          <p:nvPr/>
        </p:nvSpPr>
        <p:spPr>
          <a:xfrm>
            <a:off x="981360" y="1036800"/>
            <a:ext cx="3269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id glBegin(GLenum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mo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41"/>
          <p:cNvSpPr/>
          <p:nvPr/>
        </p:nvSpPr>
        <p:spPr>
          <a:xfrm>
            <a:off x="1021680" y="1436760"/>
            <a:ext cx="814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o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43"/>
          <p:cNvSpPr/>
          <p:nvPr/>
        </p:nvSpPr>
        <p:spPr>
          <a:xfrm>
            <a:off x="1206720" y="1906560"/>
            <a:ext cx="299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GL_POINT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individual poi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44"/>
          <p:cNvSpPr/>
          <p:nvPr/>
        </p:nvSpPr>
        <p:spPr>
          <a:xfrm>
            <a:off x="1194480" y="2211480"/>
            <a:ext cx="6646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GL_LIN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pairs of vertices interpreted as individual line segm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46"/>
          <p:cNvSpPr/>
          <p:nvPr/>
        </p:nvSpPr>
        <p:spPr>
          <a:xfrm>
            <a:off x="1211400" y="2611440"/>
            <a:ext cx="539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GL_POLYG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boundary of a simple, 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convex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polyg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47"/>
          <p:cNvSpPr/>
          <p:nvPr/>
        </p:nvSpPr>
        <p:spPr>
          <a:xfrm>
            <a:off x="1193400" y="2975040"/>
            <a:ext cx="58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GL_TRIANGL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triples of vertices interpreted as triangl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49"/>
          <p:cNvSpPr/>
          <p:nvPr/>
        </p:nvSpPr>
        <p:spPr>
          <a:xfrm>
            <a:off x="1175040" y="3375000"/>
            <a:ext cx="6923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GL_QUAD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quadruples of vertices interpreted as four-sided polyg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51"/>
          <p:cNvSpPr/>
          <p:nvPr/>
        </p:nvSpPr>
        <p:spPr>
          <a:xfrm>
            <a:off x="1227600" y="3699000"/>
            <a:ext cx="517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GL_LINE_STR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series of connected line seg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52"/>
          <p:cNvSpPr/>
          <p:nvPr/>
        </p:nvSpPr>
        <p:spPr>
          <a:xfrm>
            <a:off x="1213920" y="3984480"/>
            <a:ext cx="64288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GL_LINE_LOO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same as above, with a segment added betwe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st and  first vertic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54"/>
          <p:cNvSpPr/>
          <p:nvPr/>
        </p:nvSpPr>
        <p:spPr>
          <a:xfrm>
            <a:off x="1170720" y="4556160"/>
            <a:ext cx="4663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GL_TRIANGLE_STR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linked strip of triang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55"/>
          <p:cNvSpPr/>
          <p:nvPr/>
        </p:nvSpPr>
        <p:spPr>
          <a:xfrm>
            <a:off x="1151280" y="4900680"/>
            <a:ext cx="4347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GL_TRIANGLE_FA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linked fan of triang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56"/>
          <p:cNvSpPr/>
          <p:nvPr/>
        </p:nvSpPr>
        <p:spPr>
          <a:xfrm>
            <a:off x="1162080" y="5205240"/>
            <a:ext cx="544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GL_QUAD_STR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linked strip of quadrilateral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:   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Group 3"/>
          <p:cNvGrpSpPr/>
          <p:nvPr/>
        </p:nvGrpSpPr>
        <p:grpSpPr>
          <a:xfrm>
            <a:off x="3886200" y="6477120"/>
            <a:ext cx="1523880" cy="368280"/>
            <a:chOff x="3886200" y="6477120"/>
            <a:chExt cx="1523880" cy="368280"/>
          </a:xfrm>
        </p:grpSpPr>
        <p:sp>
          <p:nvSpPr>
            <p:cNvPr id="112" name="Text Box 4"/>
            <p:cNvSpPr/>
            <p:nvPr/>
          </p:nvSpPr>
          <p:spPr>
            <a:xfrm>
              <a:off x="3962520" y="64771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        </a:t>
              </a: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: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Rectangle 5"/>
            <p:cNvSpPr/>
            <p:nvPr/>
          </p:nvSpPr>
          <p:spPr>
            <a:xfrm>
              <a:off x="3886200" y="6553080"/>
              <a:ext cx="7632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6"/>
            <p:cNvSpPr/>
            <p:nvPr/>
          </p:nvSpPr>
          <p:spPr>
            <a:xfrm>
              <a:off x="5334120" y="6553080"/>
              <a:ext cx="759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AutoShape 7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8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9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10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Group 11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120" name="Text Box 12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Drawing Geometric Model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Rectangle 13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Rectangle 14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Text Box 15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9D5F1B89-70A4-4240-9D25-333ABA1A874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16">
            <a:hlinkClick r:id="" action="ppaction://hlinkshowjump?jump=nextslide"/>
          </p:cNvPr>
          <p:cNvSpPr/>
          <p:nvPr/>
        </p:nvSpPr>
        <p:spPr>
          <a:xfrm>
            <a:off x="8001000" y="57913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3794"/>
                </a:moveTo>
                <a:lnTo>
                  <a:pt x="22441" y="10800"/>
                </a:lnTo>
                <a:lnTo>
                  <a:pt x="8428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8"/>
          <p:cNvSpPr/>
          <p:nvPr/>
        </p:nvSpPr>
        <p:spPr>
          <a:xfrm>
            <a:off x="630720" y="855720"/>
            <a:ext cx="4421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oints and Line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Group 26"/>
          <p:cNvGrpSpPr/>
          <p:nvPr/>
        </p:nvGrpSpPr>
        <p:grpSpPr>
          <a:xfrm>
            <a:off x="1127520" y="1444680"/>
            <a:ext cx="5817600" cy="1906920"/>
            <a:chOff x="1127520" y="1444680"/>
            <a:chExt cx="5817600" cy="1906920"/>
          </a:xfrm>
        </p:grpSpPr>
        <p:sp>
          <p:nvSpPr>
            <p:cNvPr id="127" name="Rectangle 20"/>
            <p:cNvSpPr/>
            <p:nvPr/>
          </p:nvSpPr>
          <p:spPr>
            <a:xfrm>
              <a:off x="1133280" y="1444680"/>
              <a:ext cx="3543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void glPointSize(GLfloat size);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21"/>
            <p:cNvSpPr/>
            <p:nvPr/>
          </p:nvSpPr>
          <p:spPr>
            <a:xfrm>
              <a:off x="1133280" y="1878120"/>
              <a:ext cx="3877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void glLineWidth(GLfloat width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Rectangle 22"/>
            <p:cNvSpPr/>
            <p:nvPr/>
          </p:nvSpPr>
          <p:spPr>
            <a:xfrm>
              <a:off x="1135080" y="2309760"/>
              <a:ext cx="2980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lLineStipple(1, 0x3F07);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Rectangle 23"/>
            <p:cNvSpPr/>
            <p:nvPr/>
          </p:nvSpPr>
          <p:spPr>
            <a:xfrm>
              <a:off x="1824840" y="2614680"/>
              <a:ext cx="3522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lEnable(GL_LINE_STIPPLE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Rectangle 24"/>
            <p:cNvSpPr/>
            <p:nvPr/>
          </p:nvSpPr>
          <p:spPr>
            <a:xfrm>
              <a:off x="1127520" y="3046320"/>
              <a:ext cx="581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void glLineStipple(GLint factor, Glushort pattern);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Text Box 27"/>
          <p:cNvSpPr/>
          <p:nvPr/>
        </p:nvSpPr>
        <p:spPr>
          <a:xfrm>
            <a:off x="2305080" y="4019400"/>
            <a:ext cx="2063880" cy="4597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tippled 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:   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7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8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10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Group 11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140" name="Text Box 12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Drawing Geometric Model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Rectangle 13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14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Text Box 15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D8FE1097-8FF9-4F81-A6DE-9F7BFF46A0D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16">
            <a:hlinkClick r:id="" action="ppaction://hlinkshowjump?jump=nextslide"/>
          </p:cNvPr>
          <p:cNvSpPr/>
          <p:nvPr/>
        </p:nvSpPr>
        <p:spPr>
          <a:xfrm>
            <a:off x="8001000" y="57913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3794"/>
                </a:moveTo>
                <a:lnTo>
                  <a:pt x="22441" y="10800"/>
                </a:lnTo>
                <a:lnTo>
                  <a:pt x="8428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29"/>
          <p:cNvSpPr/>
          <p:nvPr/>
        </p:nvSpPr>
        <p:spPr>
          <a:xfrm>
            <a:off x="702720" y="631800"/>
            <a:ext cx="4296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SPECIFYING A COL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32"/>
          <p:cNvSpPr/>
          <p:nvPr/>
        </p:nvSpPr>
        <p:spPr>
          <a:xfrm>
            <a:off x="1141920" y="1630440"/>
            <a:ext cx="24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Color3f(0.0, 0.0, 0.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33"/>
          <p:cNvSpPr/>
          <p:nvPr/>
        </p:nvSpPr>
        <p:spPr>
          <a:xfrm>
            <a:off x="1142640" y="1873080"/>
            <a:ext cx="1791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aw_object(A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34"/>
          <p:cNvSpPr/>
          <p:nvPr/>
        </p:nvSpPr>
        <p:spPr>
          <a:xfrm>
            <a:off x="1142640" y="2114640"/>
            <a:ext cx="1791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aw_object(B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35"/>
          <p:cNvSpPr/>
          <p:nvPr/>
        </p:nvSpPr>
        <p:spPr>
          <a:xfrm>
            <a:off x="1136880" y="2357280"/>
            <a:ext cx="378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Color3f(1.0, 0.0, 0.0);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37"/>
          <p:cNvSpPr/>
          <p:nvPr/>
        </p:nvSpPr>
        <p:spPr>
          <a:xfrm>
            <a:off x="1156680" y="2638440"/>
            <a:ext cx="172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aw_object(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38"/>
          <p:cNvSpPr/>
          <p:nvPr/>
        </p:nvSpPr>
        <p:spPr>
          <a:xfrm>
            <a:off x="1134720" y="3463920"/>
            <a:ext cx="4944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Color3f(0.0, 0.0, 0.0);                             blac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39"/>
          <p:cNvSpPr/>
          <p:nvPr/>
        </p:nvSpPr>
        <p:spPr>
          <a:xfrm>
            <a:off x="1134720" y="3705120"/>
            <a:ext cx="4716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Color3f(1.0, 0.0, 0.0);                             r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40"/>
          <p:cNvSpPr/>
          <p:nvPr/>
        </p:nvSpPr>
        <p:spPr>
          <a:xfrm>
            <a:off x="1134720" y="3948120"/>
            <a:ext cx="4982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Color3f(0.0, 1.0, 0.0);                             gre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41"/>
          <p:cNvSpPr/>
          <p:nvPr/>
        </p:nvSpPr>
        <p:spPr>
          <a:xfrm>
            <a:off x="1133640" y="4191120"/>
            <a:ext cx="5060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Color3f(1.0, 1.0, 0.0);                             yellow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42"/>
          <p:cNvSpPr/>
          <p:nvPr/>
        </p:nvSpPr>
        <p:spPr>
          <a:xfrm>
            <a:off x="1133640" y="4430880"/>
            <a:ext cx="4831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Color3f(0.0, 0.0, 1.0);                             blu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43"/>
          <p:cNvSpPr/>
          <p:nvPr/>
        </p:nvSpPr>
        <p:spPr>
          <a:xfrm>
            <a:off x="1135080" y="4675320"/>
            <a:ext cx="5299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Color3f(1.0, 0.0, 1.0);                             magen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44"/>
          <p:cNvSpPr/>
          <p:nvPr/>
        </p:nvSpPr>
        <p:spPr>
          <a:xfrm>
            <a:off x="1134720" y="4917960"/>
            <a:ext cx="4880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Color3f(0.0, 1.0, 1.0);                             cy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45"/>
          <p:cNvSpPr/>
          <p:nvPr/>
        </p:nvSpPr>
        <p:spPr>
          <a:xfrm>
            <a:off x="1134000" y="5159520"/>
            <a:ext cx="488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Color3f(1.0, 1.0, 1.0);                             wh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46"/>
          <p:cNvSpPr/>
          <p:nvPr/>
        </p:nvSpPr>
        <p:spPr>
          <a:xfrm>
            <a:off x="1143000" y="564660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:   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Group 3"/>
          <p:cNvGrpSpPr/>
          <p:nvPr/>
        </p:nvGrpSpPr>
        <p:grpSpPr>
          <a:xfrm>
            <a:off x="3886200" y="6477120"/>
            <a:ext cx="1523880" cy="368280"/>
            <a:chOff x="3886200" y="6477120"/>
            <a:chExt cx="1523880" cy="368280"/>
          </a:xfrm>
        </p:grpSpPr>
        <p:sp>
          <p:nvSpPr>
            <p:cNvPr id="163" name="Text Box 4"/>
            <p:cNvSpPr/>
            <p:nvPr/>
          </p:nvSpPr>
          <p:spPr>
            <a:xfrm>
              <a:off x="3962520" y="64771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        </a:t>
              </a: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: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Rectangle 5"/>
            <p:cNvSpPr/>
            <p:nvPr/>
          </p:nvSpPr>
          <p:spPr>
            <a:xfrm>
              <a:off x="3886200" y="6553080"/>
              <a:ext cx="7632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Rectangle 6"/>
            <p:cNvSpPr/>
            <p:nvPr/>
          </p:nvSpPr>
          <p:spPr>
            <a:xfrm>
              <a:off x="5334120" y="6553080"/>
              <a:ext cx="759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AutoShape 7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8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9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AutoShape 10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Group 11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171" name="Text Box 12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Drawing Geometric Model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Rectangle 13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Rectangle 14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Text Box 15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A1B2BDAE-431B-425C-846B-443FC4EACD7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16">
            <a:hlinkClick r:id="" action="ppaction://hlinkshowjump?jump=nextslide"/>
          </p:cNvPr>
          <p:cNvSpPr/>
          <p:nvPr/>
        </p:nvSpPr>
        <p:spPr>
          <a:xfrm>
            <a:off x="8001000" y="57913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3794"/>
                </a:moveTo>
                <a:lnTo>
                  <a:pt x="22441" y="10800"/>
                </a:lnTo>
                <a:lnTo>
                  <a:pt x="8428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36"/>
          <p:cNvSpPr/>
          <p:nvPr/>
        </p:nvSpPr>
        <p:spPr>
          <a:xfrm>
            <a:off x="1024560" y="574560"/>
            <a:ext cx="41155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glFlush() and glFinish(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44"/>
          <p:cNvSpPr/>
          <p:nvPr/>
        </p:nvSpPr>
        <p:spPr>
          <a:xfrm>
            <a:off x="1320840" y="1220760"/>
            <a:ext cx="65977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pplication main program issues graphics (drawing) command, other hardware components do transformations, lighting, and scan-convers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49"/>
          <p:cNvSpPr/>
          <p:nvPr/>
        </p:nvSpPr>
        <p:spPr>
          <a:xfrm>
            <a:off x="1344600" y="2514600"/>
            <a:ext cx="715644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pplication might be running on more than one machines: the main program on the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clie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 the drawing on the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erv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which is connected by a network to the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computr1"/>
          <p:cNvSpPr/>
          <p:nvPr/>
        </p:nvSpPr>
        <p:spPr>
          <a:xfrm>
            <a:off x="5670720" y="4164120"/>
            <a:ext cx="1809720" cy="1809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Freeform 58"/>
          <p:cNvSpPr/>
          <p:nvPr/>
        </p:nvSpPr>
        <p:spPr>
          <a:xfrm>
            <a:off x="3556080" y="5600880"/>
            <a:ext cx="2119320" cy="2174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59"/>
          <p:cNvSpPr/>
          <p:nvPr/>
        </p:nvSpPr>
        <p:spPr>
          <a:xfrm>
            <a:off x="4102920" y="511812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computr2"/>
          <p:cNvSpPr/>
          <p:nvPr/>
        </p:nvSpPr>
        <p:spPr>
          <a:xfrm>
            <a:off x="1968480" y="4194000"/>
            <a:ext cx="1809720" cy="18100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61" descr=""/>
          <p:cNvPicPr/>
          <p:nvPr/>
        </p:nvPicPr>
        <p:blipFill>
          <a:blip r:embed="rId1"/>
          <a:stretch/>
        </p:blipFill>
        <p:spPr>
          <a:xfrm>
            <a:off x="326880" y="4257720"/>
            <a:ext cx="1812960" cy="1498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:   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Group 3"/>
          <p:cNvGrpSpPr/>
          <p:nvPr/>
        </p:nvGrpSpPr>
        <p:grpSpPr>
          <a:xfrm>
            <a:off x="3886200" y="6477120"/>
            <a:ext cx="1523880" cy="368280"/>
            <a:chOff x="3886200" y="6477120"/>
            <a:chExt cx="1523880" cy="368280"/>
          </a:xfrm>
        </p:grpSpPr>
        <p:sp>
          <p:nvSpPr>
            <p:cNvPr id="187" name="Text Box 4"/>
            <p:cNvSpPr/>
            <p:nvPr/>
          </p:nvSpPr>
          <p:spPr>
            <a:xfrm>
              <a:off x="3962520" y="64771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        </a:t>
              </a: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: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5"/>
            <p:cNvSpPr/>
            <p:nvPr/>
          </p:nvSpPr>
          <p:spPr>
            <a:xfrm>
              <a:off x="3886200" y="6553080"/>
              <a:ext cx="7632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Rectangle 6"/>
            <p:cNvSpPr/>
            <p:nvPr/>
          </p:nvSpPr>
          <p:spPr>
            <a:xfrm>
              <a:off x="5334120" y="6553080"/>
              <a:ext cx="759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AutoShape 7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8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9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10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Group 11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195" name="Text Box 12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Drawing Geometric Model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Rectangle 13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Rectangle 14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Text Box 15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15567595-05CC-42FD-8407-0B0872579D9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16">
            <a:hlinkClick r:id="" action="ppaction://hlinkshowjump?jump=nextslide"/>
          </p:cNvPr>
          <p:cNvSpPr/>
          <p:nvPr/>
        </p:nvSpPr>
        <p:spPr>
          <a:xfrm>
            <a:off x="8001000" y="57913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3794"/>
                </a:moveTo>
                <a:lnTo>
                  <a:pt x="22441" y="10800"/>
                </a:lnTo>
                <a:lnTo>
                  <a:pt x="8428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32"/>
          <p:cNvSpPr/>
          <p:nvPr/>
        </p:nvSpPr>
        <p:spPr>
          <a:xfrm>
            <a:off x="936720" y="746280"/>
            <a:ext cx="7065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glFlush(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ces the client to send the network pa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40"/>
          <p:cNvSpPr/>
          <p:nvPr/>
        </p:nvSpPr>
        <p:spPr>
          <a:xfrm>
            <a:off x="942840" y="1476360"/>
            <a:ext cx="74692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ands like swapping buffers in double-buffer mo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utomatically flush  pending commands on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twork 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41"/>
          <p:cNvSpPr/>
          <p:nvPr/>
        </p:nvSpPr>
        <p:spPr>
          <a:xfrm>
            <a:off x="932040" y="2743200"/>
            <a:ext cx="76183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glFinish(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flushes the network as glFlush() does a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its for notification from the graphics hardware or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twork indicating that the drawing is comp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42"/>
          <p:cNvSpPr/>
          <p:nvPr/>
        </p:nvSpPr>
        <p:spPr>
          <a:xfrm>
            <a:off x="1006560" y="4199040"/>
            <a:ext cx="7886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lFinish() can be used to guarantee execution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:   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Group 3"/>
          <p:cNvGrpSpPr/>
          <p:nvPr/>
        </p:nvGrpSpPr>
        <p:grpSpPr>
          <a:xfrm>
            <a:off x="3886200" y="6477120"/>
            <a:ext cx="1523880" cy="368280"/>
            <a:chOff x="3886200" y="6477120"/>
            <a:chExt cx="1523880" cy="368280"/>
          </a:xfrm>
        </p:grpSpPr>
        <p:sp>
          <p:nvSpPr>
            <p:cNvPr id="207" name="Text Box 4"/>
            <p:cNvSpPr/>
            <p:nvPr/>
          </p:nvSpPr>
          <p:spPr>
            <a:xfrm>
              <a:off x="3962520" y="64771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        </a:t>
              </a: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: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Rectangle 5"/>
            <p:cNvSpPr/>
            <p:nvPr/>
          </p:nvSpPr>
          <p:spPr>
            <a:xfrm>
              <a:off x="3886200" y="6553080"/>
              <a:ext cx="7632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Rectangle 6"/>
            <p:cNvSpPr/>
            <p:nvPr/>
          </p:nvSpPr>
          <p:spPr>
            <a:xfrm>
              <a:off x="5334120" y="6553080"/>
              <a:ext cx="759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AutoShape 7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AutoShape 8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AutoShape 9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AutoShape 10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Group 11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215" name="Text Box 12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Drawing Geometric Model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Rectangle 13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Rectangle 14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Text Box 15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229586D2-E76F-45B5-89C8-089C2B2D293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AutoShape 16">
            <a:hlinkClick r:id="" action="ppaction://hlinkshowjump?jump=nextslide"/>
          </p:cNvPr>
          <p:cNvSpPr/>
          <p:nvPr/>
        </p:nvSpPr>
        <p:spPr>
          <a:xfrm>
            <a:off x="8001000" y="57913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3794"/>
                </a:moveTo>
                <a:lnTo>
                  <a:pt x="22441" y="10800"/>
                </a:lnTo>
                <a:lnTo>
                  <a:pt x="8428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17"/>
          <p:cNvSpPr/>
          <p:nvPr/>
        </p:nvSpPr>
        <p:spPr>
          <a:xfrm>
            <a:off x="625680" y="379440"/>
            <a:ext cx="5540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DEPTH BUFFER (Z-BUFF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19"/>
          <p:cNvSpPr/>
          <p:nvPr/>
        </p:nvSpPr>
        <p:spPr>
          <a:xfrm>
            <a:off x="1127160" y="1704960"/>
            <a:ext cx="317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Enable(GL_DEPTH_TEST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20"/>
          <p:cNvSpPr/>
          <p:nvPr/>
        </p:nvSpPr>
        <p:spPr>
          <a:xfrm>
            <a:off x="1127520" y="1965240"/>
            <a:ext cx="256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.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21"/>
          <p:cNvSpPr/>
          <p:nvPr/>
        </p:nvSpPr>
        <p:spPr>
          <a:xfrm>
            <a:off x="1112400" y="2674800"/>
            <a:ext cx="1132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(1)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22"/>
          <p:cNvSpPr/>
          <p:nvPr/>
        </p:nvSpPr>
        <p:spPr>
          <a:xfrm>
            <a:off x="1111680" y="2965320"/>
            <a:ext cx="7038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Clear(GL_COLOR_BUFFER_BIT | GL_DEPTH_BUFFER_BIT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25"/>
          <p:cNvSpPr/>
          <p:nvPr/>
        </p:nvSpPr>
        <p:spPr>
          <a:xfrm>
            <a:off x="1112400" y="3262320"/>
            <a:ext cx="2503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aw_3d_object_A(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26"/>
          <p:cNvSpPr/>
          <p:nvPr/>
        </p:nvSpPr>
        <p:spPr>
          <a:xfrm>
            <a:off x="1112400" y="3522600"/>
            <a:ext cx="2503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aw_3d_object_B(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27"/>
          <p:cNvSpPr/>
          <p:nvPr/>
        </p:nvSpPr>
        <p:spPr>
          <a:xfrm>
            <a:off x="1112760" y="3781440"/>
            <a:ext cx="8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37"/>
          <p:cNvSpPr/>
          <p:nvPr/>
        </p:nvSpPr>
        <p:spPr>
          <a:xfrm>
            <a:off x="1914480" y="4602240"/>
            <a:ext cx="1916280" cy="15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lor 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38"/>
          <p:cNvSpPr/>
          <p:nvPr/>
        </p:nvSpPr>
        <p:spPr>
          <a:xfrm>
            <a:off x="4417920" y="4595760"/>
            <a:ext cx="1901880" cy="1495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pth 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42"/>
          <p:cNvSpPr/>
          <p:nvPr/>
        </p:nvSpPr>
        <p:spPr>
          <a:xfrm>
            <a:off x="1118160" y="1297080"/>
            <a:ext cx="5339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ClearColor(0.0, 0.0, 0.0, 0.0); // RGBA, A=&gt;alp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:   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Group 2"/>
          <p:cNvGrpSpPr/>
          <p:nvPr/>
        </p:nvGrpSpPr>
        <p:grpSpPr>
          <a:xfrm>
            <a:off x="8381880" y="5867280"/>
            <a:ext cx="533520" cy="762120"/>
            <a:chOff x="8381880" y="5867280"/>
            <a:chExt cx="533520" cy="762120"/>
          </a:xfrm>
        </p:grpSpPr>
        <p:sp>
          <p:nvSpPr>
            <p:cNvPr id="233" name="AutoShape 3">
              <a:hlinkClick r:id="" action="ppaction://hlinkshowjump?jump=nextslide"/>
            </p:cNvPr>
            <p:cNvSpPr/>
            <p:nvPr/>
          </p:nvSpPr>
          <p:spPr>
            <a:xfrm>
              <a:off x="8381880" y="6248520"/>
              <a:ext cx="533520" cy="380880"/>
            </a:xfrm>
            <a:custGeom>
              <a:avLst/>
              <a:gdLst>
                <a:gd name="textAreaLeft" fmla="*/ 24480 w 533520"/>
                <a:gd name="textAreaRight" fmla="*/ 509040 w 53352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30248" h="21600">
                  <a:moveTo>
                    <a:pt x="0" y="0"/>
                  </a:moveTo>
                  <a:lnTo>
                    <a:pt x="30248" y="0"/>
                  </a:lnTo>
                  <a:lnTo>
                    <a:pt x="30248" y="21600"/>
                  </a:lnTo>
                  <a:lnTo>
                    <a:pt x="0" y="21600"/>
                  </a:lnTo>
                  <a:close/>
                </a:path>
                <a:path fill="lightenLess" w="30248" h="21600">
                  <a:moveTo>
                    <a:pt x="0" y="0"/>
                  </a:moveTo>
                  <a:lnTo>
                    <a:pt x="30248" y="0"/>
                  </a:lnTo>
                  <a:lnTo>
                    <a:pt x="28848" y="1400"/>
                  </a:lnTo>
                  <a:lnTo>
                    <a:pt x="1400" y="1400"/>
                  </a:lnTo>
                  <a:close/>
                </a:path>
                <a:path fill="darken" w="30248" h="21600">
                  <a:moveTo>
                    <a:pt x="30248" y="0"/>
                  </a:moveTo>
                  <a:lnTo>
                    <a:pt x="30248" y="21600"/>
                  </a:lnTo>
                  <a:lnTo>
                    <a:pt x="28848" y="20200"/>
                  </a:lnTo>
                  <a:lnTo>
                    <a:pt x="28848" y="1400"/>
                  </a:lnTo>
                  <a:close/>
                </a:path>
                <a:path fill="darkenLess" w="30248" h="21600">
                  <a:moveTo>
                    <a:pt x="3024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848" y="20200"/>
                  </a:lnTo>
                  <a:close/>
                </a:path>
                <a:path fill="lighten" w="3024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0248" h="21600">
                  <a:moveTo>
                    <a:pt x="8118" y="3794"/>
                  </a:moveTo>
                  <a:lnTo>
                    <a:pt x="22131" y="10800"/>
                  </a:lnTo>
                  <a:lnTo>
                    <a:pt x="8118" y="1780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Text Box 4"/>
            <p:cNvSpPr/>
            <p:nvPr/>
          </p:nvSpPr>
          <p:spPr>
            <a:xfrm>
              <a:off x="8458200" y="58672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7944ACE7-12F0-4836-BE0A-5BA1EAA15097}" type="slidenum"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&lt;number&gt;</a:t>
              </a:fld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AutoShape 5">
            <a:hlinkClick r:id="" action="ppaction://hlinkshowjump?jump=previousslide"/>
          </p:cNvPr>
          <p:cNvSpPr/>
          <p:nvPr/>
        </p:nvSpPr>
        <p:spPr>
          <a:xfrm>
            <a:off x="7772400" y="62485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1064880" y="457200"/>
            <a:ext cx="2628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learing the buff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30"/>
          <p:cNvSpPr/>
          <p:nvPr/>
        </p:nvSpPr>
        <p:spPr>
          <a:xfrm>
            <a:off x="1360440" y="1673280"/>
            <a:ext cx="693108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epthBuffer(XMAX, YMAX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lor frameBuffer(XMAX, YMAX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Clear(GL_COLOR_BUFFER_BIT | GL_DEPTH_BUFFER_BIT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y=0; y&lt;YMAX; y++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x=0; x&lt;XMAX; x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raw_frameBuffer(x,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Clear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raw_depthBuffer (x,y, back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Back_Clipping_Pl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34"/>
          <p:cNvSpPr/>
          <p:nvPr/>
        </p:nvSpPr>
        <p:spPr>
          <a:xfrm flipH="1">
            <a:off x="4954680" y="1243080"/>
            <a:ext cx="3611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35"/>
          <p:cNvSpPr/>
          <p:nvPr/>
        </p:nvSpPr>
        <p:spPr>
          <a:xfrm flipH="1" flipV="1">
            <a:off x="5753160" y="242640"/>
            <a:ext cx="14400" cy="142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36"/>
          <p:cNvSpPr/>
          <p:nvPr/>
        </p:nvSpPr>
        <p:spPr>
          <a:xfrm>
            <a:off x="4660560" y="961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37"/>
          <p:cNvSpPr/>
          <p:nvPr/>
        </p:nvSpPr>
        <p:spPr>
          <a:xfrm>
            <a:off x="6407280" y="909720"/>
            <a:ext cx="449280" cy="552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38"/>
          <p:cNvSpPr/>
          <p:nvPr/>
        </p:nvSpPr>
        <p:spPr>
          <a:xfrm>
            <a:off x="7074000" y="808200"/>
            <a:ext cx="188640" cy="288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39"/>
          <p:cNvSpPr/>
          <p:nvPr/>
        </p:nvSpPr>
        <p:spPr>
          <a:xfrm>
            <a:off x="7728120" y="1527120"/>
            <a:ext cx="217440" cy="262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40"/>
          <p:cNvSpPr/>
          <p:nvPr/>
        </p:nvSpPr>
        <p:spPr>
          <a:xfrm>
            <a:off x="7466040" y="1069920"/>
            <a:ext cx="203040" cy="290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Oval 41"/>
          <p:cNvSpPr/>
          <p:nvPr/>
        </p:nvSpPr>
        <p:spPr>
          <a:xfrm>
            <a:off x="5622840" y="1098720"/>
            <a:ext cx="276480" cy="245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Oval 42"/>
          <p:cNvSpPr/>
          <p:nvPr/>
        </p:nvSpPr>
        <p:spPr>
          <a:xfrm>
            <a:off x="5811840" y="1171440"/>
            <a:ext cx="88920" cy="101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43"/>
          <p:cNvSpPr/>
          <p:nvPr/>
        </p:nvSpPr>
        <p:spPr>
          <a:xfrm>
            <a:off x="5608800" y="1025640"/>
            <a:ext cx="42840" cy="8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44"/>
          <p:cNvSpPr/>
          <p:nvPr/>
        </p:nvSpPr>
        <p:spPr>
          <a:xfrm flipH="1">
            <a:off x="5870520" y="982800"/>
            <a:ext cx="1159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45"/>
          <p:cNvSpPr/>
          <p:nvPr/>
        </p:nvSpPr>
        <p:spPr>
          <a:xfrm>
            <a:off x="5681520" y="954000"/>
            <a:ext cx="716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46"/>
          <p:cNvSpPr/>
          <p:nvPr/>
        </p:nvSpPr>
        <p:spPr>
          <a:xfrm>
            <a:off x="6218280" y="488880"/>
            <a:ext cx="1898640" cy="14670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47"/>
          <p:cNvSpPr/>
          <p:nvPr/>
        </p:nvSpPr>
        <p:spPr>
          <a:xfrm>
            <a:off x="5767560" y="692280"/>
            <a:ext cx="2336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48"/>
          <p:cNvSpPr/>
          <p:nvPr/>
        </p:nvSpPr>
        <p:spPr>
          <a:xfrm>
            <a:off x="8160120" y="484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5T07:43:01Z</dcterms:created>
  <dc:creator>Professor Jim X. CHEN</dc:creator>
  <dc:description/>
  <dc:language>en-US</dc:language>
  <cp:lastModifiedBy>jchen</cp:lastModifiedBy>
  <dcterms:modified xsi:type="dcterms:W3CDTF">2008-02-06T23:03:35Z</dcterms:modified>
  <cp:revision>170</cp:revision>
  <dc:subject/>
  <dc:title>Guide to 3D Graphics Tools</dc:title>
</cp:coreProperties>
</file>