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F69-5066-403B-BF6F-BDAC240C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2EA-48EE-4448-A088-C7EA3C77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535-BDA8-458C-998B-DA435E8F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FA8-9FDE-41BC-BDFF-29758820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746-56C8-4087-AED8-AC25AB0D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678-2AD3-4A87-B56F-DA85E77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87F-65F3-40AF-B8CE-C210074F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37E-EB90-4439-980F-D2EB66F3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F6A-C72E-4A79-A4D8-0E45464C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010-124B-4AEA-9F13-06E71718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4B9-F4AF-4F91-8AE6-4BAAA7EC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093-AA35-4A0B-814B-32E3091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5BF4-8FE8-47CD-AEB6-9C7D6205D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1" TargetMode="External"/><Relationship Id="rId2" Type="http://schemas.microsoft.com/office/2007/relationships/media" Target="file:///tmp/home/.config/libreoffice/4/user/gallery/Embedded%20Sound%201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2" TargetMode="External"/><Relationship Id="rId2" Type="http://schemas.microsoft.com/office/2007/relationships/media" Target="file:///tmp/home/.config/libreoffice/4/user/gallery/Embedded%20Sound%202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74200" y="6388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 blah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74200" y="6388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50:24Z</dcterms:created>
  <dc:creator>Douglas Lyon</dc:creator>
  <dc:description/>
  <dc:language>en-US</dc:language>
  <cp:lastModifiedBy>Douglas Lyon</cp:lastModifiedBy>
  <dcterms:modified xsi:type="dcterms:W3CDTF">2011-01-28T11:53:43Z</dcterms:modified>
  <cp:revision>1</cp:revision>
  <dc:subject/>
  <dc:title>Test</dc:title>
</cp:coreProperties>
</file>