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8.wmf" ContentType="image/x-wmf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5.wmf" ContentType="image/x-wmf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72288" cy="9158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E0DE-E044-4EE0-9318-27794519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B70-8B23-4FA5-AC64-FBA8040F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B7F6-D5C9-4210-8644-31CB4CDC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B411-E316-460C-814A-73C24A6E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C8EE-A119-49C9-AE98-5BDBAE38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7F9-9341-48E2-87BC-8626C07A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EA7A-BDE6-4971-B2C0-42515960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DA3C-3A57-49FF-821C-F0D92DC0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473-E7A3-42A2-A5BE-E51ABB02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567-8F39-4FB2-94FE-86756EC5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A8AA-40A1-41BC-90BE-5FC79CBE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4F2E-7971-4F4B-B579-CAC0FDB7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1447-8ADA-4B21-AD7D-35DEBCC4D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cs.princeton.edu/~min/cs426/classes/bezier.html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8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98960" y="3811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13080" y="3684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03880" y="3811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18000" y="3684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3811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3800" y="3684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4240" y="3811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3684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523880"/>
            <a:ext cx="7086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EPRESENTING CURVE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3657600"/>
            <a:ext cx="198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zier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EF86-F462-434D-9DE2-8962F3CFCF55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360" y="457200"/>
            <a:ext cx="522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ARAMETRIC CUBIC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34000" y="1141560"/>
            <a:ext cx="661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general, a parametric polynomial is written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32920" y="2019240"/>
            <a:ext cx="6387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metric cubics are the lowest-degree cur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3400" y="2324160"/>
            <a:ext cx="589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are nonplanar in 3D; generated from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4120" y="2629080"/>
            <a:ext cx="5535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et of math functions or data poi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50120" y="5183280"/>
            <a:ext cx="233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re the curv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5181480"/>
            <a:ext cx="3657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Q(t) = [x(t), y(t), z(t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3920" y="5638680"/>
            <a:ext cx="577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Q/dt = Q’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the parametric tangen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72840" y="546408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24440" y="15588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06640" y="1773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31200" y="15825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76320" y="158256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20080" y="15825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68440" y="158256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85040" y="15825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66880" y="158256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1040" y="158256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87960" y="15825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27680" y="15825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75440" y="15476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38680" y="15476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7200" y="15476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65640" y="15476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63720" y="1547640"/>
            <a:ext cx="2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12240" y="15588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99480" y="1773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77400" y="1773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39200" y="1773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4160" y="158256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86080" y="158256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600200" y="3200400"/>
                <a:ext cx="3124080" cy="19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t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t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029200" y="3962520"/>
                <a:ext cx="8380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943600" y="4038480"/>
                <a:ext cx="99072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4691-3C89-489B-8A06-AF5016703858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34720" y="709560"/>
            <a:ext cx="627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ity condition -- parametric continuit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1219320"/>
            <a:ext cx="702324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Dotum"/>
              </a:rPr>
              <a:t>Zero-order parametric continuity, 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Dotum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Dotum"/>
              </a:rPr>
              <a:t>, means simply that the curves meet. 1st-order parametric continuity, 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Dotum"/>
              </a:rPr>
              <a:t>,  means that the 1st derivatives for two successive curve sections are equal at their joining poi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Dotum"/>
              </a:rPr>
              <a:t>Second-order parametric continuity, 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Dotum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Dotum"/>
              </a:rPr>
              <a:t>, means that both the first and second parametric derivatives of the two curve sections are the same at the intersec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895480" y="2666880"/>
                <a:ext cx="251460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024360" y="4648320"/>
                <a:ext cx="25621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5173-484A-40EB-8890-F53B32021E87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131840" y="3963960"/>
            <a:ext cx="6935400" cy="2056680"/>
            <a:chOff x="1131840" y="3963960"/>
            <a:chExt cx="6935400" cy="2056680"/>
          </a:xfrm>
        </p:grpSpPr>
        <p:sp>
          <p:nvSpPr>
            <p:cNvPr id="152" name=""/>
            <p:cNvSpPr/>
            <p:nvPr/>
          </p:nvSpPr>
          <p:spPr>
            <a:xfrm>
              <a:off x="1131840" y="3963960"/>
              <a:ext cx="6145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blems: a particle travels in a straight lin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61560" y="4344840"/>
              <a:ext cx="5375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 has distinct jumps in velocity -- not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38520" y="42814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70640" y="4344840"/>
              <a:ext cx="669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bu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71640" y="4738680"/>
              <a:ext cx="467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curve is smooth; conversely, a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14920" y="4662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48840" y="4738680"/>
              <a:ext cx="1415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rve c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69480" y="5043600"/>
              <a:ext cx="532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ave a kink in it when the velocity of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95760" y="5349960"/>
              <a:ext cx="6171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article goes to zero where it changes direct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77040" y="5654520"/>
              <a:ext cx="265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 starts up agai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3124080" cy="1741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533520" y="1066680"/>
            <a:ext cx="4114800" cy="248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131F-E590-4661-BD97-BD5826B6CAE2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34360" y="709560"/>
            <a:ext cx="610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ity condition -- geometric continuit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1219320"/>
            <a:ext cx="702324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Dotum"/>
              </a:rPr>
              <a:t>Zero-ord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met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Dotum"/>
              </a:rPr>
              <a:t>continuity, 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Dotum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Dotum"/>
              </a:rPr>
              <a:t>, means simply that the curves meet. 1st-ord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met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Dotum"/>
              </a:rPr>
              <a:t>continuity, 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Dotum"/>
              </a:rPr>
              <a:t>,  means that the 1st derivatives for two successive curve sections are proportional at their joining point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at is, the tangent changes continuously; the directions (but not necessarily the magnitudes) of the two segments’ tangent vectors are equal at a join poin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Dotum"/>
              </a:rPr>
              <a:t>Second-ord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met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Dotum"/>
              </a:rPr>
              <a:t>continuity, 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Dotum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Dotum"/>
              </a:rPr>
              <a:t>, means that both the first and second parametric derivatives of the two curve sections are proportional at the intersec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835360" y="3451320"/>
                <a:ext cx="26352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Q</m:t>
                        </m:r>
                      </m:e>
                      <m:sup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952720" y="5432400"/>
                <a:ext cx="27068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Q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8E5B-6028-486D-8EF4-A8EDF0B270DE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000" y="1233360"/>
            <a:ext cx="6917400" cy="1434600"/>
            <a:chOff x="990000" y="1233360"/>
            <a:chExt cx="6917400" cy="1434600"/>
          </a:xfrm>
        </p:grpSpPr>
        <p:sp>
          <p:nvSpPr>
            <p:cNvPr id="175" name=""/>
            <p:cNvSpPr/>
            <p:nvPr/>
          </p:nvSpPr>
          <p:spPr>
            <a:xfrm>
              <a:off x="990000" y="1333440"/>
              <a:ext cx="188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 general,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41480" y="1233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53080" y="1309680"/>
              <a:ext cx="1325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mplies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76800" y="1233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03880" y="1309680"/>
              <a:ext cx="1381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but if a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75480" y="1233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01840" y="1309680"/>
              <a:ext cx="1398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rve h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21240" y="1614600"/>
              <a:ext cx="6086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kink because its derivative goes to zero, the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22680" y="1996920"/>
              <a:ext cx="3027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is curve will not be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48120" y="19191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61160" y="1996920"/>
              <a:ext cx="2416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since the tang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23040" y="2301840"/>
              <a:ext cx="5950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rection changes discontinuously at the kink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971800" y="3429000"/>
            <a:ext cx="3124080" cy="174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ine seg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600200" y="3200400"/>
            <a:ext cx="3429000" cy="12398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799880" y="556272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nding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16480" y="19051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metric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19160" y="2286000"/>
            <a:ext cx="1523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190760" y="228600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3352680" y="457164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4495320" y="449532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333A-8F5D-43B3-B287-37BC75B8D097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3200" y="380880"/>
            <a:ext cx="6323400" cy="5805720"/>
            <a:chOff x="763200" y="380880"/>
            <a:chExt cx="6323400" cy="5805720"/>
          </a:xfrm>
        </p:grpSpPr>
        <p:sp>
          <p:nvSpPr>
            <p:cNvPr id="200" name=""/>
            <p:cNvSpPr/>
            <p:nvPr/>
          </p:nvSpPr>
          <p:spPr>
            <a:xfrm>
              <a:off x="763200" y="380880"/>
              <a:ext cx="2434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Hermite Curv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54160" y="1116000"/>
              <a:ext cx="58482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straints on the endpoints 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and 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74520" y="1484280"/>
              <a:ext cx="3966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ngent vectors at endpoints 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41720" y="1611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59440" y="1484280"/>
              <a:ext cx="863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 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19480" y="1611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55560" y="14842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4320" y="3886200"/>
              <a:ext cx="2318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 can easily arrive a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1828800" y="1981080"/>
                  <a:ext cx="3200400" cy="166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  <m:e>
                                <m:r>
                                  <m:t xml:space="preserve">t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1905120" y="4419720"/>
                  <a:ext cx="5181480" cy="17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0" name="" descr="Hermite Curve in action"/>
          <p:cNvPicPr/>
          <p:nvPr/>
        </p:nvPicPr>
        <p:blipFill>
          <a:blip r:embed="rId1"/>
          <a:stretch/>
        </p:blipFill>
        <p:spPr>
          <a:xfrm>
            <a:off x="5791320" y="2133720"/>
            <a:ext cx="2666880" cy="190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B005-EF4F-405D-86FF-0979C39F45AB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3800" y="457200"/>
            <a:ext cx="603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anding the product gives the Hermite blending function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2520" y="3124080"/>
            <a:ext cx="749844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olynomials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) for k=0, 1, 2, 3 and referred to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ending functions because they blend the bound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raint values to obtain each coordinate pos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ong the curv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371600" y="1371600"/>
                <a:ext cx="60199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743200" y="2362320"/>
                <a:ext cx="3600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mite blending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2732040" cy="2895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93960" y="4572000"/>
            <a:ext cx="744516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=0, only the function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nonzero. As as t beco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ater than zero, all other blending functions begin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e an influe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ying the magnitude of the tangent v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0" r="0" b="3911"/>
          <a:stretch/>
        </p:blipFill>
        <p:spPr>
          <a:xfrm>
            <a:off x="2438280" y="1828800"/>
            <a:ext cx="40388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058760" y="5105520"/>
            <a:ext cx="7391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directions of the tangent vectors are fixed,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nger the vectors, the greater their effect on the curv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5A5F-1D17-4662-8A30-F792252A175B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720" y="304920"/>
            <a:ext cx="58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CONIC SECTIONS (2D &amp; 2ND DEGR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43200" y="2438280"/>
            <a:ext cx="4371840" cy="344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828800" y="1219320"/>
          <a:ext cx="6095880" cy="822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The General Equation for a Conic Section: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Bxy + Cy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Dx + Ey + F 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mite basis matr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314880" y="2057400"/>
            <a:ext cx="2514600" cy="369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581280" y="2743200"/>
            <a:ext cx="1981440" cy="14716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705040" y="4648320"/>
            <a:ext cx="3733920" cy="143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ying the direction of the tangent v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25521" r="0" b="0"/>
          <a:stretch/>
        </p:blipFill>
        <p:spPr>
          <a:xfrm>
            <a:off x="2209680" y="2362320"/>
            <a:ext cx="4876920" cy="35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taining geometric continuity G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0" t="0" r="0" b="74491"/>
          <a:stretch/>
        </p:blipFill>
        <p:spPr>
          <a:xfrm>
            <a:off x="914400" y="1905120"/>
            <a:ext cx="4876920" cy="12189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361240" y="3276720"/>
            <a:ext cx="39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arametric continuity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0" t="0" r="0" b="3624"/>
          <a:stretch/>
        </p:blipFill>
        <p:spPr>
          <a:xfrm>
            <a:off x="533520" y="3962520"/>
            <a:ext cx="2819160" cy="2266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3657600" y="3962520"/>
            <a:ext cx="4419720" cy="230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mite basis matr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314880" y="2057400"/>
            <a:ext cx="2514600" cy="369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581280" y="2743200"/>
            <a:ext cx="1981440" cy="14716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2705040" y="4648320"/>
            <a:ext cx="3733920" cy="143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FBDB-DE6C-4138-A4C2-C455CB5C7239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1143000"/>
            <a:ext cx="198144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zier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2971800"/>
            <a:ext cx="792504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cs.princeton.edu/~min/cs426/classes/bezier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AA9A-C83D-41EF-BF9C-5A8E8A99866B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80880" y="304920"/>
            <a:ext cx="8382240" cy="5734080"/>
            <a:chOff x="380880" y="304920"/>
            <a:chExt cx="8382240" cy="5734080"/>
          </a:xfrm>
        </p:grpSpPr>
        <p:sp>
          <p:nvSpPr>
            <p:cNvPr id="248" name=""/>
            <p:cNvSpPr/>
            <p:nvPr/>
          </p:nvSpPr>
          <p:spPr>
            <a:xfrm>
              <a:off x="1214280" y="3962520"/>
              <a:ext cx="216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e can easily arrive a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1447920" y="2286000"/>
                  <a:ext cx="6489720" cy="166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  <m:e>
                                <m:r>
                                  <m:t xml:space="preserve">t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U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</m:m>
                        </m:e>
                      </m:d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1523880" y="4343400"/>
                  <a:ext cx="5559480" cy="169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51" name=""/>
            <p:cNvSpPr/>
            <p:nvPr/>
          </p:nvSpPr>
          <p:spPr>
            <a:xfrm>
              <a:off x="380880" y="3049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Times New Roman"/>
                </a:rPr>
                <a:t>Bezier Curv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8080" y="990720"/>
              <a:ext cx="792504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1=3(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4=3(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the Bezier curve interpolates the two end control points and approximates the other two. (Multiplay by 3 to have a constant velocity from 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 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6248520" y="304920"/>
            <a:ext cx="198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zier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4AA1-5C2A-470E-847B-769155A8A4C0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77280" y="457200"/>
            <a:ext cx="8162640" cy="4907520"/>
            <a:chOff x="377280" y="457200"/>
            <a:chExt cx="8162640" cy="4907520"/>
          </a:xfrm>
        </p:grpSpPr>
        <p:sp>
          <p:nvSpPr>
            <p:cNvPr id="258" name=""/>
            <p:cNvSpPr/>
            <p:nvPr/>
          </p:nvSpPr>
          <p:spPr>
            <a:xfrm>
              <a:off x="453240" y="457200"/>
              <a:ext cx="71996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curve is cotangent to the control polygon at thes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dpoint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377280" y="1371600"/>
              <a:ext cx="8162640" cy="3993120"/>
              <a:chOff x="377280" y="1371600"/>
              <a:chExt cx="8162640" cy="3993120"/>
            </a:xfrm>
          </p:grpSpPr>
          <p:sp>
            <p:nvSpPr>
              <p:cNvPr id="260" name=""/>
              <p:cNvSpPr/>
              <p:nvPr/>
            </p:nvSpPr>
            <p:spPr>
              <a:xfrm>
                <a:off x="377280" y="1371600"/>
                <a:ext cx="7301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xpanding the product gives the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ernstein polynomia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3240" y="2514600"/>
                <a:ext cx="791136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he sum of the 4 blending polynomials is everywhere unity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nd that each polynomial is everywhere nonegative: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937800" y="3429000"/>
                <a:ext cx="69501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(t) is just a weighted average of the four control points -- each curv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egment is completely contained in the convex hull of the 4 control point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2880" y="4267080"/>
                <a:ext cx="808704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he convex-hull property holds for all cubics defined by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eighted sums of control points if the blending functions ar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onnegative &amp; sum to one.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4" name=""/>
                  <p:cNvSpPr txBox="1"/>
                  <p:nvPr/>
                </p:nvSpPr>
                <p:spPr>
                  <a:xfrm>
                    <a:off x="990360" y="1981080"/>
                    <a:ext cx="5562720" cy="45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ézier curve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vex hul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of 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ariance under affine transfor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486400" y="2057400"/>
            <a:ext cx="3352680" cy="13525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095880" y="4114800"/>
            <a:ext cx="2133720" cy="8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65E8-910F-4638-B5AC-86D6F6CA916F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87600" y="380880"/>
            <a:ext cx="8075520" cy="5911920"/>
            <a:chOff x="687600" y="380880"/>
            <a:chExt cx="8075520" cy="5911920"/>
          </a:xfrm>
        </p:grpSpPr>
        <p:sp>
          <p:nvSpPr>
            <p:cNvPr id="273" name=""/>
            <p:cNvSpPr/>
            <p:nvPr/>
          </p:nvSpPr>
          <p:spPr>
            <a:xfrm>
              <a:off x="687600" y="380880"/>
              <a:ext cx="498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Bézier Curves of General Degre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39040" y="990720"/>
              <a:ext cx="75441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iven n+1 control-point positions, we can blend them 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duce the following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40120" y="3735360"/>
              <a:ext cx="158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 know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35440" y="4535640"/>
              <a:ext cx="341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binomial coefficien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66200" y="5105520"/>
              <a:ext cx="60447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s a closed form representation for an entry i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ascal’s triangle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1295280" y="1905120"/>
                  <a:ext cx="2362320" cy="78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ez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  <m:r>
                                <m:t xml:space="preserve">,</m:t>
                              </m:r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3886200" y="2133720"/>
                  <a:ext cx="99072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≤</m:t>
                      </m:r>
                      <m:r>
                        <m:t xml:space="preserve">t</m:t>
                      </m:r>
                      <m:r>
                        <m:t xml:space="preserve">≤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"/>
            <p:cNvSpPr/>
            <p:nvPr/>
          </p:nvSpPr>
          <p:spPr>
            <a:xfrm>
              <a:off x="5105520" y="213372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ere the Bernstein function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1295280" y="2819520"/>
                  <a:ext cx="312444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Bez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k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2819520" y="3581280"/>
                  <a:ext cx="3200400" cy="8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C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4724280" y="4495680"/>
                  <a:ext cx="15242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!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  <m:r>
                            <m:t xml:space="preserve">!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2057400" y="5943600"/>
                  <a:ext cx="373392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ernstein polynomia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724640" cy="444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A76D-D3A5-423E-AF23-D17ECA9FC6D7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0720" y="304920"/>
            <a:ext cx="58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CONIC SECTIONS (2D &amp; 2ND DEGR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1760" y="1294200"/>
            <a:ext cx="79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The type of section can be found from the sign of: B</a:t>
            </a:r>
            <a:r>
              <a:rPr b="1" lang="en-US" sz="2400" spc="-1" strike="noStrike" baseline="30000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- 4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09480" y="2013120"/>
          <a:ext cx="7658280" cy="3288960"/>
        </p:xfrm>
        <a:graphic>
          <a:graphicData uri="http://schemas.openxmlformats.org/drawingml/2006/table">
            <a:tbl>
              <a:tblPr/>
              <a:tblGrid>
                <a:gridCol w="2106720"/>
                <a:gridCol w="55515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B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4AC is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n the curve is a...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ipse, circle, point or no curve.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bola, 2 parallel lines, 1 line or no curve.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erbola or 2 intersecting lines.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ernstein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281320" y="990720"/>
            <a:ext cx="4581360" cy="55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4D1F-0E2B-418E-95CC-93B149508D1C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832680" y="380880"/>
            <a:ext cx="7329240" cy="5547960"/>
            <a:chOff x="832680" y="380880"/>
            <a:chExt cx="7329240" cy="5547960"/>
          </a:xfrm>
        </p:grpSpPr>
        <p:sp>
          <p:nvSpPr>
            <p:cNvPr id="293" name=""/>
            <p:cNvSpPr/>
            <p:nvPr/>
          </p:nvSpPr>
          <p:spPr>
            <a:xfrm>
              <a:off x="832680" y="380880"/>
              <a:ext cx="4913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 can define recursive calcul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32680" y="4038480"/>
              <a:ext cx="7329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 important characteristic of the Bernstein function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s 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artition of unity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90760" y="443376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87840" y="5562720"/>
              <a:ext cx="555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a key to understanding Bézier curve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1219320" y="2057400"/>
              <a:ext cx="6486480" cy="20383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1219320" y="990720"/>
                  <a:ext cx="502920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Bez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Bez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Bez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447920" y="1676520"/>
                  <a:ext cx="685800" cy="28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Where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2209680" y="1676520"/>
                  <a:ext cx="914400" cy="26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≤</m:t>
                      </m:r>
                      <m:r>
                        <m:t xml:space="preserve">k</m:t>
                      </m:r>
                      <m:r>
                        <m:t xml:space="preserve">≤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1" name=""/>
                <p:cNvSpPr txBox="1"/>
                <p:nvPr/>
              </p:nvSpPr>
              <p:spPr>
                <a:xfrm>
                  <a:off x="1828800" y="4876920"/>
                  <a:ext cx="167652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ez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  <m:r>
                                <m:t xml:space="preserve">,</m:t>
                              </m:r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5D9B-F3FA-4973-8E2A-819E9B03BE5E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543800" cy="588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095D-4864-4459-A627-DCC42F9973EF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910440" y="457200"/>
            <a:ext cx="7092000" cy="5461920"/>
            <a:chOff x="910440" y="457200"/>
            <a:chExt cx="7092000" cy="5461920"/>
          </a:xfrm>
        </p:grpSpPr>
        <p:sp>
          <p:nvSpPr>
            <p:cNvPr id="310" name=""/>
            <p:cNvSpPr/>
            <p:nvPr/>
          </p:nvSpPr>
          <p:spPr>
            <a:xfrm>
              <a:off x="914040" y="457200"/>
              <a:ext cx="3007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Subdivide of the Cu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10440" y="2514600"/>
              <a:ext cx="455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The Derivative of the Bézier Cu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34360" y="3900600"/>
              <a:ext cx="572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 less term in the derivative than in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84960" y="4205160"/>
              <a:ext cx="5925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riginal function; the degree of the Bernstei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79920" y="4510080"/>
              <a:ext cx="3079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lynomials is one les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34000" y="4941720"/>
              <a:ext cx="628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control points for the derivative curve a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69120" y="5248440"/>
              <a:ext cx="5817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ccessive differences of the original curve’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87480" y="5553000"/>
              <a:ext cx="1882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rol poin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1295280" y="990720"/>
              <a:ext cx="6305760" cy="14000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1219320" y="2971800"/>
                  <a:ext cx="251460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ez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  <m:r>
                                <m:t xml:space="preserve">,</m:t>
                              </m:r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4267080" y="2971800"/>
                  <a:ext cx="373536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)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ez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  <m:r>
                                <m:t xml:space="preserve">,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2F5D-7AD0-4223-8990-C1FC2F84BD14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81960" y="457200"/>
            <a:ext cx="7814160" cy="5411160"/>
            <a:chOff x="381960" y="457200"/>
            <a:chExt cx="7814160" cy="5411160"/>
          </a:xfrm>
        </p:grpSpPr>
        <p:sp>
          <p:nvSpPr>
            <p:cNvPr id="325" name=""/>
            <p:cNvSpPr/>
            <p:nvPr/>
          </p:nvSpPr>
          <p:spPr>
            <a:xfrm>
              <a:off x="381960" y="457200"/>
              <a:ext cx="4237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Natual Cubic Spline Curv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4560" y="1116000"/>
              <a:ext cx="548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pline: a flexible strip used to produce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42160" y="1420920"/>
              <a:ext cx="555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oth curve through a designeated set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43960" y="1727280"/>
              <a:ext cx="95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int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5280" y="2158920"/>
              <a:ext cx="5937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natual cubic spline: cubic curve segment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43600" y="2463840"/>
              <a:ext cx="3170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rough the set of poi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1760" y="2984400"/>
              <a:ext cx="6188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continuity at the designeated control poi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01240" y="298440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5640" y="3416400"/>
              <a:ext cx="5736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iven n+1 control points, we have n curv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39640" y="3722760"/>
              <a:ext cx="505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ctions and 4n polynomial coeffici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6720" y="4154400"/>
              <a:ext cx="6504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 have 4n-2 equations to be satisfied by the 4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38560" y="4459320"/>
              <a:ext cx="5452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lynomial coefficients -- we need 2 mo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41080" y="4764240"/>
              <a:ext cx="44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ditions: add a little assum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8520" y="5181480"/>
              <a:ext cx="7437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sadvantages moving any one control point affects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39280" y="5502240"/>
              <a:ext cx="551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tire curve; the computation time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1625-84BE-483C-B728-691D2C391565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86160" y="533520"/>
            <a:ext cx="8011080" cy="5514840"/>
            <a:chOff x="686160" y="533520"/>
            <a:chExt cx="8011080" cy="5514840"/>
          </a:xfrm>
        </p:grpSpPr>
        <p:sp>
          <p:nvSpPr>
            <p:cNvPr id="344" name=""/>
            <p:cNvSpPr/>
            <p:nvPr/>
          </p:nvSpPr>
          <p:spPr>
            <a:xfrm>
              <a:off x="686160" y="533520"/>
              <a:ext cx="4763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Uniform Nonrational B-Spli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61640" y="1219320"/>
              <a:ext cx="7032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lynomial coefficients depend on just a few contro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ints. (local control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63080" y="2133720"/>
              <a:ext cx="76341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me continuity as natural splines but do not interpola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ir control point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17160" y="2971800"/>
              <a:ext cx="5862960" cy="723240"/>
              <a:chOff x="1217160" y="2971800"/>
              <a:chExt cx="5862960" cy="723240"/>
            </a:xfrm>
          </p:grpSpPr>
          <p:sp>
            <p:nvSpPr>
              <p:cNvPr id="348" name=""/>
              <p:cNvSpPr/>
              <p:nvPr/>
            </p:nvSpPr>
            <p:spPr>
              <a:xfrm>
                <a:off x="1217160" y="2971800"/>
                <a:ext cx="2801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+1 control points, 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002840" y="3149640"/>
                <a:ext cx="84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086000" y="2971800"/>
                <a:ext cx="720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, ..., 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825800" y="3149640"/>
                <a:ext cx="84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898880" y="2971800"/>
                <a:ext cx="4075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, 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277240" y="3035160"/>
                <a:ext cx="182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418360" y="2971800"/>
                <a:ext cx="16617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, m-2 cubic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99720" y="3278160"/>
                <a:ext cx="23065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urve segments 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200480" y="340524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326840" y="3278160"/>
                <a:ext cx="771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, ..., 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089680" y="3405240"/>
                <a:ext cx="201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291280" y="3278160"/>
                <a:ext cx="1386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. For m=4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1066680" y="3124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"/>
            <a:stretch/>
          </p:blipFill>
          <p:spPr>
            <a:xfrm>
              <a:off x="1219320" y="3886200"/>
              <a:ext cx="7191360" cy="216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4072-C918-435B-9C57-7F598D9E9EAF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14400" y="838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1600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2971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1440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5410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074600" y="735120"/>
            <a:ext cx="6993000" cy="5236920"/>
            <a:chOff x="1074600" y="735120"/>
            <a:chExt cx="6993000" cy="5236920"/>
          </a:xfrm>
        </p:grpSpPr>
        <p:sp>
          <p:nvSpPr>
            <p:cNvPr id="371" name=""/>
            <p:cNvSpPr/>
            <p:nvPr/>
          </p:nvSpPr>
          <p:spPr>
            <a:xfrm>
              <a:off x="1102680" y="735120"/>
              <a:ext cx="5883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isotropic constraint is needed to find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29880" y="1038600"/>
              <a:ext cx="2059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rve equ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98000" y="1468080"/>
              <a:ext cx="547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ach curve is defined on its own domain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88640" y="146808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58920" y="1468080"/>
              <a:ext cx="581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&lt;1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60400" y="1773000"/>
              <a:ext cx="6307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 can adjust the parameter (t=t+k) so that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63640" y="2076480"/>
              <a:ext cx="5424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arameter domains for the various curv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11520" y="2379960"/>
              <a:ext cx="3367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gments are sequential: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08400" y="25059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168520" y="237996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41680" y="2379960"/>
              <a:ext cx="37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&lt;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01320" y="2505960"/>
              <a:ext cx="32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i+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29320" y="2872800"/>
              <a:ext cx="552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each i&gt;3, there is a joint point or kno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48240" y="3175920"/>
              <a:ext cx="1381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etween 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87800" y="331524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i-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55280" y="3175920"/>
              <a:ext cx="88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 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12440" y="33152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31520" y="3175920"/>
              <a:ext cx="3213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 the parameter value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489800" y="3302640"/>
              <a:ext cx="128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71560" y="3531600"/>
              <a:ext cx="532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niform -- the knots are spaced at equ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13320" y="3835080"/>
              <a:ext cx="299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ervals of paramet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65680" y="382248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00520" y="4264560"/>
              <a:ext cx="6258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nrational: not ratio of polynomials; rational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42040" y="4568040"/>
              <a:ext cx="5912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(t)=X(t)/W(t), y(t)=Y(t)/W(t), z(t)=Z(t)/W(t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66520" y="4871520"/>
              <a:ext cx="590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re defined as ratio of two cubic polynomia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74600" y="5302800"/>
              <a:ext cx="6297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 - “basis.” The spline is weighted sums of bas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69760" y="5605920"/>
              <a:ext cx="5647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ctions, in contrast to the natural splin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E60F-A95D-4EF1-B3AA-E79D9DCBCBA6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914400" y="735120"/>
            <a:ext cx="7108920" cy="5389560"/>
            <a:chOff x="914400" y="735120"/>
            <a:chExt cx="7108920" cy="5389560"/>
          </a:xfrm>
        </p:grpSpPr>
        <p:pic>
          <p:nvPicPr>
            <p:cNvPr id="402" name="" descr=""/>
            <p:cNvPicPr/>
            <p:nvPr/>
          </p:nvPicPr>
          <p:blipFill>
            <a:blip r:embed="rId2"/>
            <a:stretch/>
          </p:blipFill>
          <p:spPr>
            <a:xfrm>
              <a:off x="1114560" y="735120"/>
              <a:ext cx="690876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914400" y="838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14400" y="160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14400" y="2362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90720" y="5791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1371600" y="3352680"/>
                  <a:ext cx="5715000" cy="13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  <m:e>
                                <m:r>
                                  <m:t xml:space="preserve">t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s</m:t>
                          </m:r>
                        </m:sub>
                      </m:sSub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T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4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275D-F4E4-40F8-BE43-92CB8DECFCDC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915120" y="709560"/>
            <a:ext cx="7174800" cy="5285880"/>
            <a:chOff x="915120" y="709560"/>
            <a:chExt cx="7174800" cy="5285880"/>
          </a:xfrm>
        </p:grpSpPr>
        <p:sp>
          <p:nvSpPr>
            <p:cNvPr id="412" name=""/>
            <p:cNvSpPr/>
            <p:nvPr/>
          </p:nvSpPr>
          <p:spPr>
            <a:xfrm>
              <a:off x="1136520" y="709560"/>
              <a:ext cx="5883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iven knots, provided some additional info 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iven (tagent vectors at the 2 end knot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15120" y="1600200"/>
              <a:ext cx="5426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Nonuniform, Nonrational B-Spli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35080" y="2031840"/>
              <a:ext cx="5835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parameter interval between successiv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61920" y="2336760"/>
              <a:ext cx="4347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not values need not be uniform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138680" y="2768760"/>
              <a:ext cx="602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nonuniform knot-value sequence mean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77400" y="3073320"/>
              <a:ext cx="5865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at the blending functions are no longer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75960" y="3378240"/>
              <a:ext cx="369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me for each curve inter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36520" y="3811680"/>
              <a:ext cx="6167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vantages: continuity at selected join point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77760" y="4205160"/>
              <a:ext cx="2981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an be reduced from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12840" y="41292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34520" y="4205160"/>
              <a:ext cx="627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536800" y="41292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71080" y="4205160"/>
              <a:ext cx="627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73360" y="41292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94320" y="4205160"/>
              <a:ext cx="1695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none;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88560" y="4510080"/>
              <a:ext cx="494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sulting curve can be easily resha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720" y="5018040"/>
              <a:ext cx="569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the continuity is reduced to C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then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85320" y="5324400"/>
              <a:ext cx="5976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rve interpolates a control point without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20880" y="5629320"/>
              <a:ext cx="6078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ndesirable effect of uniform B-splines, whe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6AB2-137B-474E-96B7-F8AAE598BCBB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835200" y="304920"/>
            <a:ext cx="6882840" cy="5376240"/>
            <a:chOff x="835200" y="304920"/>
            <a:chExt cx="6882840" cy="5376240"/>
          </a:xfrm>
        </p:grpSpPr>
        <p:sp>
          <p:nvSpPr>
            <p:cNvPr id="435" name=""/>
            <p:cNvSpPr/>
            <p:nvPr/>
          </p:nvSpPr>
          <p:spPr>
            <a:xfrm>
              <a:off x="1523160" y="304920"/>
              <a:ext cx="518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curve segments on either side of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17760" y="633240"/>
              <a:ext cx="562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erpolated control point are straight l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35200" y="1064880"/>
              <a:ext cx="6073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rting &amp; ending points can be interpolat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19200" y="1371240"/>
              <a:ext cx="5850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actly without introducing linear segment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5200" y="1803240"/>
              <a:ext cx="6030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striction: knot sequence is nondecreasing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21360" y="2107800"/>
              <a:ext cx="5805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hich allows successive knot values equal: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22080" y="2412720"/>
              <a:ext cx="206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quence from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81280" y="25398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95040" y="2412720"/>
              <a:ext cx="50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04080" y="2539800"/>
              <a:ext cx="45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m+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72440" y="2412720"/>
              <a:ext cx="232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 The curve is no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520280" y="2781000"/>
              <a:ext cx="3731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fined outside the interval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245200" y="29080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71920" y="2781000"/>
              <a:ext cx="1305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rough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67920" y="2908080"/>
              <a:ext cx="45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m+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24400" y="27810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60040" y="3265200"/>
              <a:ext cx="17024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hen 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612160" y="3265200"/>
              <a:ext cx="4367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a multiple knot), curve seg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523160" y="3620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52120" y="37479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25200" y="3620880"/>
              <a:ext cx="552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s a single point, which provides the extr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19560" y="4065480"/>
              <a:ext cx="4868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lexibility of nonuniform B-splines;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24480" y="40017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51560" y="4065480"/>
              <a:ext cx="627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048440" y="40017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174800" y="4065480"/>
              <a:ext cx="543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4458960"/>
              <a:ext cx="194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extra knot,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67160" y="43830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93880" y="4458960"/>
              <a:ext cx="627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16320" y="43830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30080" y="4458960"/>
              <a:ext cx="2610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2 extra knots,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46920" y="43830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60320" y="4458960"/>
              <a:ext cx="407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18120" y="4763880"/>
              <a:ext cx="5979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 continuity for 3 extra knots (multiplicity 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9" name=""/>
                <p:cNvSpPr txBox="1"/>
                <p:nvPr/>
              </p:nvSpPr>
              <p:spPr>
                <a:xfrm>
                  <a:off x="1450800" y="5257440"/>
                  <a:ext cx="595476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sub>
                      </m:sSub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−</m:t>
                          </m:r>
                          <m:r>
                            <m:t xml:space="preserve">3,4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4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−</m:t>
                          </m:r>
                          <m:r>
                            <m:t xml:space="preserve">1,4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4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334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tesian equa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metrical equation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s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n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5880" y="2209680"/>
            <a:ext cx="2781360" cy="338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A963-FBE5-4D92-A3A7-B4A49F7DD732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534240" y="631800"/>
            <a:ext cx="7566120" cy="4890600"/>
            <a:chOff x="534240" y="631800"/>
            <a:chExt cx="7566120" cy="4890600"/>
          </a:xfrm>
        </p:grpSpPr>
        <p:sp>
          <p:nvSpPr>
            <p:cNvPr id="474" name=""/>
            <p:cNvSpPr/>
            <p:nvPr/>
          </p:nvSpPr>
          <p:spPr>
            <a:xfrm>
              <a:off x="534240" y="1469880"/>
              <a:ext cx="7566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Nonuniform, Rational Cubic Polynomial Curve Segm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07560" y="2028960"/>
              <a:ext cx="5770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neral rational cubic curves are ratios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593000" y="2333520"/>
              <a:ext cx="6075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lynomials: x(t) = X(t)/W(t), y(t) = Y(t)/W(t)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95160" y="2638440"/>
              <a:ext cx="530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(t) = Z(t)/W(t) whose control points a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98400" y="2944800"/>
              <a:ext cx="487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fined in homogeneous coordinate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7920" y="3376440"/>
              <a:ext cx="5904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lynomials can be Bezier, Hermite, or an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96600" y="3681360"/>
              <a:ext cx="5703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ther type. When they are B-Splines, call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02000" y="3986280"/>
              <a:ext cx="103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UR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10800" y="4417920"/>
              <a:ext cx="59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 can also think of the curve as existing i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95880" y="4724280"/>
              <a:ext cx="620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omogeneous space: Q(t) = [X(t) Y(t) Z(t) W(t)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12240" y="5156280"/>
              <a:ext cx="5733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seful for two reasons: 1) invariant und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993600" y="631800"/>
                  <a:ext cx="638208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4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</m:den>
                      </m:f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1,3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</m:den>
                      </m:f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EA6C-EED7-47BB-9D46-811278A6BFA9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063800" y="685800"/>
            <a:ext cx="6991920" cy="4100040"/>
            <a:chOff x="1063800" y="685800"/>
            <a:chExt cx="6991920" cy="4100040"/>
          </a:xfrm>
        </p:grpSpPr>
        <p:sp>
          <p:nvSpPr>
            <p:cNvPr id="490" name=""/>
            <p:cNvSpPr/>
            <p:nvPr/>
          </p:nvSpPr>
          <p:spPr>
            <a:xfrm>
              <a:off x="1823400" y="685800"/>
              <a:ext cx="543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erspective transformation of the contro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22320" y="1014480"/>
              <a:ext cx="613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ints (nonrational curves are invariant und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82800" y="1319040"/>
              <a:ext cx="520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ly rotation, scaling, and translations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31000" y="1828800"/>
              <a:ext cx="507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he alternative is first to generat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154240" y="2031840"/>
              <a:ext cx="5349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oints on the curve itself and then 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49200" y="2260440"/>
              <a:ext cx="548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pply the perspective transformation 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49200" y="2489040"/>
              <a:ext cx="548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ach point, a far less efficient 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063800" y="3198960"/>
              <a:ext cx="630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seful: 2) Unlike nonrationals, they can defi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747080" y="3503520"/>
              <a:ext cx="630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ecisely any of the conic sections. This is usefu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752120" y="3808440"/>
              <a:ext cx="603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 CAD, where general curves and surfaces 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47800" y="4114800"/>
              <a:ext cx="6188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ll as conics are needed. Both types of entiti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53920" y="4419720"/>
              <a:ext cx="379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an be defined with NURB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lip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334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tesian equa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metrical equation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s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n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781360" cy="338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abol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334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tesian equation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277164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yperbol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334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tesian equation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metrical equation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c(t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cos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n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781360" cy="338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B955-4F3C-48C5-A0CE-F2C7084BBD42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7520" y="609480"/>
            <a:ext cx="325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PARAMETRIC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34360" y="1141560"/>
            <a:ext cx="557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plicit for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y = f(x) is compu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2680" y="1446120"/>
            <a:ext cx="573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 f, and the pair of coordinates (x, 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4480" y="1752480"/>
            <a:ext cx="2966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weeps out the curve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35440" y="2184480"/>
            <a:ext cx="623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 parametric cur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x(t) and y(t).  As t vari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1240" y="2489040"/>
            <a:ext cx="6087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ordinates (x(t), y(t)) sweep out the cur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73520" y="2895480"/>
            <a:ext cx="384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(t) = sin(t), y(t) = cos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37600" y="3251160"/>
            <a:ext cx="603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GD (Computer Aided Geometric Desig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19080" y="3557520"/>
            <a:ext cx="5732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als primarily with polynomial or r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1600" y="3862440"/>
            <a:ext cx="5037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s, not trigonometric f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44640" y="4343400"/>
            <a:ext cx="534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(t) = 2t/(1+t*t), y(t)=(1-t*t)/(1+t*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37600" y="4624560"/>
            <a:ext cx="610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equations above yield circles, so how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19800" y="4929120"/>
            <a:ext cx="506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differ? It is the paramete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77AC-036B-4CD3-B3AA-94B04BCDA3FC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36880" y="2567160"/>
            <a:ext cx="5928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lope is given by the tangent line at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0880" y="2871720"/>
            <a:ext cx="6046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int (x’(t), y’(t)), which determines the sp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5920" y="3252960"/>
            <a:ext cx="3958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oint traces out the curv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39040" y="3786120"/>
            <a:ext cx="616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oves the point (x(t), y(t)) along the path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0520" y="4054320"/>
            <a:ext cx="587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urve; the point’s speed varies 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va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0520" y="4359240"/>
            <a:ext cx="4807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erivative vector changes in length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34360" y="1600200"/>
            <a:ext cx="624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o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the point (x(t), y(t)) is differen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9800" y="1905120"/>
            <a:ext cx="552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 if the paths (the circles)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0T18:19:22Z</dcterms:created>
  <dc:creator>Jim X. CHEN</dc:creator>
  <dc:description/>
  <dc:language>en-US</dc:language>
  <cp:lastModifiedBy>Jim X. Chen</cp:lastModifiedBy>
  <dcterms:modified xsi:type="dcterms:W3CDTF">2005-09-19T20:22:45Z</dcterms:modified>
  <cp:revision>86</cp:revision>
  <dc:subject/>
  <dc:title>No Slide Title</dc:title>
</cp:coreProperties>
</file>