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5.png" ContentType="image/png"/>
  <Override PartName="/ppt/media/image1.png" ContentType="image/png"/>
  <Override PartName="/ppt/media/WHOOSH.WAV" ContentType="audio/x-wav"/>
  <Override PartName="/ppt/media/TYPE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7667F9-3B95-4ACD-BD89-10C7277C2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BE1E73-7581-4101-B532-555769206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3D7-E773-42FF-AF23-455CEE0F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3BF-E63E-4F4D-87B0-DCA7C57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A88-5181-46E1-A882-0B146E18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625-AD2D-4A17-8AB0-60AE824A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C74-9D44-4220-9791-B9E9447D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C9A-CE99-4D66-8C95-EE93994C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E16-3E84-4503-8550-8B356AB4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622-ECB8-4C74-9062-A1EB3FA8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B87-6CD0-4692-A767-2DD7EE84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9DB-525F-4A9D-8739-14291300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84C-A64F-4336-A5B4-1798FC7B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3DC-AE5B-4969-AC9A-A8367AC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43D6-4486-417D-9E6D-0ED60915C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5362-6E26-4715-98FC-4CB28B64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BA131AE-31D0-441A-AB12-D99DE15EEE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28"/>
          <p:cNvGrpSpPr/>
          <p:nvPr/>
        </p:nvGrpSpPr>
        <p:grpSpPr>
          <a:xfrm>
            <a:off x="617400" y="1668600"/>
            <a:ext cx="568800" cy="1306440"/>
            <a:chOff x="617400" y="1668600"/>
            <a:chExt cx="568800" cy="1306440"/>
          </a:xfrm>
        </p:grpSpPr>
        <p:sp>
          <p:nvSpPr>
            <p:cNvPr id="58" name="Rectangle 29"/>
            <p:cNvSpPr/>
            <p:nvPr/>
          </p:nvSpPr>
          <p:spPr>
            <a:xfrm>
              <a:off x="617400" y="1668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30"/>
            <p:cNvSpPr/>
            <p:nvPr/>
          </p:nvSpPr>
          <p:spPr>
            <a:xfrm>
              <a:off x="629640" y="2000520"/>
              <a:ext cx="77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880560" y="2000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1022040" y="197496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629640" y="2305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630720" y="26100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WordArt 38"/>
          <p:cNvSpPr txBox="1"/>
          <p:nvPr/>
        </p:nvSpPr>
        <p:spPr>
          <a:xfrm>
            <a:off x="685800" y="1019160"/>
            <a:ext cx="758664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cc99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00005e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can-conversion and Clipping</a:t>
            </a:r>
            <a:endParaRPr b="0" lang="en-US" sz="2400" spc="1" strike="noStrike">
              <a:ln w="12600">
                <a:solidFill>
                  <a:srgbClr val="00cc99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00005e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s commands specify straight lines or other geometric primitives that ar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an-conver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o a set of discrete intensity pixels in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rame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r points in the frame buffer are sent to the corresponding pixels in the display device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video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rpose of this section is to understand how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rawing 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li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A graphics library func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ay be implemented qui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9B6F-AA0E-422E-91C5-3D3B1EDFB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W2: due before next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pentagon in a circle that rotates. You cannot use glBegin(GL_LINES). You should use glBegin(GL_POINTS) instead. You should implement your own line function that can be used to draw the pentagon. You may inherit my provided samp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3521160" y="3859200"/>
            <a:ext cx="1203120" cy="127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3551400" y="3890880"/>
            <a:ext cx="1145880" cy="11019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3E8E-360E-43E1-BB3E-E4583024D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3467D60-4660-4F9E-A626-CA6BDECD81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71"/>
          <p:cNvSpPr/>
          <p:nvPr/>
        </p:nvSpPr>
        <p:spPr>
          <a:xfrm>
            <a:off x="1104840" y="1471680"/>
            <a:ext cx="7228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3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ne: two adjacent curve sections have the same coordinate position at the boundary and the slopes at the boundary are equ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z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0 &lt;= t &lt;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nomials: useful in the design of object shapes, the specification of animation paths, and the graphing of data trends in a discrete set of data poi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6"/>
          <p:cNvSpPr/>
          <p:nvPr/>
        </p:nvSpPr>
        <p:spPr>
          <a:xfrm>
            <a:off x="2670120" y="723960"/>
            <a:ext cx="211788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77"/>
          <p:cNvSpPr/>
          <p:nvPr/>
        </p:nvSpPr>
        <p:spPr>
          <a:xfrm>
            <a:off x="3784680" y="878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78"/>
          <p:cNvSpPr/>
          <p:nvPr/>
        </p:nvSpPr>
        <p:spPr>
          <a:xfrm>
            <a:off x="4743360" y="668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79"/>
          <p:cNvSpPr/>
          <p:nvPr/>
        </p:nvSpPr>
        <p:spPr>
          <a:xfrm>
            <a:off x="2651040" y="1201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B7C0-A50D-4CE6-AF3D-C3C3C035B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4C500535-65B0-4B28-8AD7-AF33F74F85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1132560" y="844560"/>
            <a:ext cx="332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FILLING RECT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6"/>
          <p:cNvSpPr/>
          <p:nvPr/>
        </p:nvSpPr>
        <p:spPr>
          <a:xfrm>
            <a:off x="1585080" y="1276200"/>
            <a:ext cx="283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(y=ymin; y&lt;ymax; y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7"/>
          <p:cNvSpPr/>
          <p:nvPr/>
        </p:nvSpPr>
        <p:spPr>
          <a:xfrm>
            <a:off x="1585080" y="1504800"/>
            <a:ext cx="283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(x=xmin; x&lt;xmax; x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8"/>
          <p:cNvSpPr/>
          <p:nvPr/>
        </p:nvSpPr>
        <p:spPr>
          <a:xfrm>
            <a:off x="2043000" y="1733400"/>
            <a:ext cx="229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Pixel(x,y,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9"/>
          <p:cNvSpPr/>
          <p:nvPr/>
        </p:nvSpPr>
        <p:spPr>
          <a:xfrm>
            <a:off x="1135440" y="2698920"/>
            <a:ext cx="457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CAN-CONVERTING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0"/>
          <p:cNvSpPr/>
          <p:nvPr/>
        </p:nvSpPr>
        <p:spPr>
          <a:xfrm>
            <a:off x="1810080" y="3130560"/>
            <a:ext cx="574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intersections of the scan-line with all ed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2269080" y="3359160"/>
            <a:ext cx="164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1812960" y="3664080"/>
            <a:ext cx="454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t the intersections by increa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3"/>
          <p:cNvSpPr/>
          <p:nvPr/>
        </p:nvSpPr>
        <p:spPr>
          <a:xfrm>
            <a:off x="2270880" y="3892680"/>
            <a:ext cx="12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1810440" y="4199040"/>
            <a:ext cx="553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in all pixels between pairs of intersection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45"/>
          <p:cNvSpPr/>
          <p:nvPr/>
        </p:nvSpPr>
        <p:spPr>
          <a:xfrm>
            <a:off x="2265480" y="4427640"/>
            <a:ext cx="562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e interior to the polygon, using the odd-parity r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6"/>
          <p:cNvSpPr/>
          <p:nvPr/>
        </p:nvSpPr>
        <p:spPr>
          <a:xfrm>
            <a:off x="2267640" y="4656240"/>
            <a:ext cx="473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etermine that a point is inside a reg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0"/>
          <p:cNvSpPr/>
          <p:nvPr/>
        </p:nvSpPr>
        <p:spPr>
          <a:xfrm>
            <a:off x="1490760" y="3233880"/>
            <a:ext cx="15228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1"/>
          <p:cNvSpPr/>
          <p:nvPr/>
        </p:nvSpPr>
        <p:spPr>
          <a:xfrm>
            <a:off x="1490760" y="3747960"/>
            <a:ext cx="15228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2"/>
          <p:cNvSpPr/>
          <p:nvPr/>
        </p:nvSpPr>
        <p:spPr>
          <a:xfrm>
            <a:off x="1490760" y="4243320"/>
            <a:ext cx="15228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C1B9-A4EC-462F-AE11-4EC582822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7BD3241-58D3-492D-91E7-12152DF4EA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9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72"/>
          <p:cNvSpPr/>
          <p:nvPr/>
        </p:nvSpPr>
        <p:spPr>
          <a:xfrm>
            <a:off x="646200" y="411120"/>
            <a:ext cx="8156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an-line algorithm for filling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edge table)  -- all edges sorted by the small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ords;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active-edge table) corresponds to the current sca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74" descr=""/>
          <p:cNvPicPr/>
          <p:nvPr/>
        </p:nvPicPr>
        <p:blipFill>
          <a:blip r:embed="rId1"/>
          <a:stretch/>
        </p:blipFill>
        <p:spPr>
          <a:xfrm>
            <a:off x="1001880" y="-333360"/>
            <a:ext cx="7111800" cy="749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EFCF-345B-47B9-907D-E504F9E91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B327053-2683-40FF-A955-A962E818B8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9"/>
          <p:cNvSpPr/>
          <p:nvPr/>
        </p:nvSpPr>
        <p:spPr>
          <a:xfrm>
            <a:off x="971640" y="1308240"/>
            <a:ext cx="7170480" cy="37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smalle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has an entry in the 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ize the AET to be empty. Repeat until the AET and ET are emp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 from ET bucke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o AET those edges whos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m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rt the AET o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l-in desired pixel values on scan-lin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y using pairs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ord. From the A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remen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y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move from the AET those entries tha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=y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non-vertical edge remaining in the AET, updat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or the new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= x + 1/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55AD-457F-40EB-877E-5D7F63017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E16EC61-7FE7-4708-81FC-D05423022F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9"/>
          <p:cNvSpPr/>
          <p:nvPr/>
        </p:nvSpPr>
        <p:spPr>
          <a:xfrm>
            <a:off x="1292400" y="1187280"/>
            <a:ext cx="6438600" cy="62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conv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gon means that all the angles inside the polygon formed by the edges are smaller than 180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polygon is not convex, it i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conc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vex polygons can be scan-converted faster than concave polyg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GL draw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gon with the following comma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lBegin(GL_POLYG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a list of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1159200" y="63972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OpenG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6C4B-0DA8-4D20-AF0F-2F03E4417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4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3D8D608-1AD0-4E61-B12C-69E38088D8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1292400" y="1611360"/>
            <a:ext cx="643860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mplement funct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yTriangle(double V[3][2]), myTriangle(double X[3], double Y[3]) and myTriangle(double x1, double y1, double x2, double y2, double x3, double y3) for J1_3_Triangle.java. You cannot use OpenGL functions such 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Begin(GL_TRIANGLES) to draw the triangle directl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e random vertices and draw triang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169280" y="43956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SimSun"/>
              </a:rPr>
              <a:t>HW3: 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CCC5-F314-4C63-9608-AAA655C18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026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102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102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102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03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031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2B3294B-5B0C-4488-9190-A760E02EC7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1032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3"/>
          <p:cNvSpPr/>
          <p:nvPr/>
        </p:nvSpPr>
        <p:spPr>
          <a:xfrm>
            <a:off x="1046880" y="496800"/>
            <a:ext cx="2100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CHARACT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034"/>
          <p:cNvSpPr/>
          <p:nvPr/>
        </p:nvSpPr>
        <p:spPr>
          <a:xfrm>
            <a:off x="1035000" y="1168560"/>
            <a:ext cx="694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haracters are polygons. However, they are used very ofte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035"/>
          <p:cNvSpPr/>
          <p:nvPr/>
        </p:nvSpPr>
        <p:spPr>
          <a:xfrm>
            <a:off x="1256760" y="2046240"/>
            <a:ext cx="6546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ype-face, font: the overall design style for a se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36"/>
          <p:cNvSpPr/>
          <p:nvPr/>
        </p:nvSpPr>
        <p:spPr>
          <a:xfrm>
            <a:off x="1953000" y="2365200"/>
            <a:ext cx="6112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 characters, Courier, Helvetica, Times, etc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37"/>
          <p:cNvSpPr/>
          <p:nvPr/>
        </p:nvSpPr>
        <p:spPr>
          <a:xfrm>
            <a:off x="1056600" y="2819520"/>
            <a:ext cx="4865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n represent the character shap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38"/>
          <p:cNvSpPr/>
          <p:nvPr/>
        </p:nvSpPr>
        <p:spPr>
          <a:xfrm>
            <a:off x="1776960" y="3139920"/>
            <a:ext cx="573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y rectangular grid patterns (</a:t>
            </a:r>
            <a:r>
              <a:rPr b="1" lang="en-US" sz="2500" spc="-1" strike="noStrike">
                <a:solidFill>
                  <a:srgbClr val="0000cc"/>
                </a:solidFill>
                <a:latin typeface="Times New Roman"/>
              </a:rPr>
              <a:t>bitmap fo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039"/>
          <p:cNvSpPr/>
          <p:nvPr/>
        </p:nvSpPr>
        <p:spPr>
          <a:xfrm>
            <a:off x="1055880" y="3594240"/>
            <a:ext cx="403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describe character shap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040"/>
          <p:cNvSpPr/>
          <p:nvPr/>
        </p:nvSpPr>
        <p:spPr>
          <a:xfrm>
            <a:off x="1776960" y="3914640"/>
            <a:ext cx="664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y lines and curves, as in Postscript (</a:t>
            </a:r>
            <a:r>
              <a:rPr b="1" lang="en-US" sz="2500" spc="-1" strike="noStrike">
                <a:solidFill>
                  <a:srgbClr val="0000cc"/>
                </a:solidFill>
                <a:latin typeface="Times New Roman"/>
              </a:rPr>
              <a:t>outline fo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041"/>
          <p:cNvSpPr/>
          <p:nvPr/>
        </p:nvSpPr>
        <p:spPr>
          <a:xfrm>
            <a:off x="1278000" y="4687920"/>
            <a:ext cx="642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itmap fonts require more space, because each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42"/>
          <p:cNvSpPr/>
          <p:nvPr/>
        </p:nvSpPr>
        <p:spPr>
          <a:xfrm>
            <a:off x="1779480" y="5008680"/>
            <a:ext cx="547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ariation (size or format) must be stor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43"/>
          <p:cNvSpPr/>
          <p:nvPr/>
        </p:nvSpPr>
        <p:spPr>
          <a:xfrm>
            <a:off x="709560" y="1303200"/>
            <a:ext cx="133560" cy="114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044"/>
          <p:cNvSpPr/>
          <p:nvPr/>
        </p:nvSpPr>
        <p:spPr>
          <a:xfrm>
            <a:off x="723960" y="2209680"/>
            <a:ext cx="133200" cy="114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45"/>
          <p:cNvSpPr/>
          <p:nvPr/>
        </p:nvSpPr>
        <p:spPr>
          <a:xfrm>
            <a:off x="762120" y="2933640"/>
            <a:ext cx="133200" cy="114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46"/>
          <p:cNvSpPr/>
          <p:nvPr/>
        </p:nvSpPr>
        <p:spPr>
          <a:xfrm>
            <a:off x="743040" y="3714840"/>
            <a:ext cx="133200" cy="114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047"/>
          <p:cNvSpPr/>
          <p:nvPr/>
        </p:nvSpPr>
        <p:spPr>
          <a:xfrm>
            <a:off x="781200" y="4819680"/>
            <a:ext cx="133200" cy="114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048"/>
          <p:cNvSpPr/>
          <p:nvPr/>
        </p:nvSpPr>
        <p:spPr>
          <a:xfrm>
            <a:off x="7683480" y="2832120"/>
            <a:ext cx="1295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Bit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049"/>
          <p:cNvSpPr/>
          <p:nvPr/>
        </p:nvSpPr>
        <p:spPr>
          <a:xfrm>
            <a:off x="0" y="4259160"/>
            <a:ext cx="1295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6E22-641A-4728-A436-2A8DBB72F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562104F-50B0-4399-88FE-781E578523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052640" y="423720"/>
            <a:ext cx="76388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utline fonts require more time to produce, because they must be scan conver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1150560" y="1560600"/>
            <a:ext cx="5949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mall bitmaps do not scale well. Differ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1158840" y="1887480"/>
            <a:ext cx="5755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itmaps (sizes and typefaces) are def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666720" y="552600"/>
            <a:ext cx="304920" cy="190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638280" y="1631880"/>
            <a:ext cx="304560" cy="190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963720" y="2789280"/>
            <a:ext cx="786600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ing fonts is platform dependent. GLUT provides a simple platform independent subset of font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X provides font functions and interfaces between OpenGL and the X window system. WGL is the equivalent of GLX on the Microsoft Windows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617400" y="2887560"/>
            <a:ext cx="189000" cy="1904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6"/>
          <p:cNvSpPr/>
          <p:nvPr/>
        </p:nvSpPr>
        <p:spPr>
          <a:xfrm>
            <a:off x="638280" y="3909960"/>
            <a:ext cx="188640" cy="1904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F8FA-747B-4E55-82CE-786C10E28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0E86C4F4-9E4B-48FB-9C06-904FDFB1D0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9"/>
          <p:cNvGrpSpPr/>
          <p:nvPr/>
        </p:nvGrpSpPr>
        <p:grpSpPr>
          <a:xfrm>
            <a:off x="3409560" y="914400"/>
            <a:ext cx="3657600" cy="1886040"/>
            <a:chOff x="3409560" y="914400"/>
            <a:chExt cx="3657600" cy="1886040"/>
          </a:xfrm>
        </p:grpSpPr>
        <p:sp>
          <p:nvSpPr>
            <p:cNvPr id="436" name="Rectangle 10"/>
            <p:cNvSpPr/>
            <p:nvPr/>
          </p:nvSpPr>
          <p:spPr>
            <a:xfrm>
              <a:off x="3849480" y="1201680"/>
              <a:ext cx="2747160" cy="1390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1"/>
            <p:cNvSpPr/>
            <p:nvPr/>
          </p:nvSpPr>
          <p:spPr>
            <a:xfrm flipH="1">
              <a:off x="3409560" y="1201680"/>
              <a:ext cx="4395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2"/>
            <p:cNvSpPr/>
            <p:nvPr/>
          </p:nvSpPr>
          <p:spPr>
            <a:xfrm>
              <a:off x="6596640" y="1201680"/>
              <a:ext cx="470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3"/>
            <p:cNvSpPr/>
            <p:nvPr/>
          </p:nvSpPr>
          <p:spPr>
            <a:xfrm flipV="1">
              <a:off x="3849480" y="993600"/>
              <a:ext cx="0" cy="223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4"/>
            <p:cNvSpPr/>
            <p:nvPr/>
          </p:nvSpPr>
          <p:spPr>
            <a:xfrm>
              <a:off x="3849480" y="2592360"/>
              <a:ext cx="0" cy="19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5"/>
            <p:cNvSpPr/>
            <p:nvPr/>
          </p:nvSpPr>
          <p:spPr>
            <a:xfrm flipH="1">
              <a:off x="3472560" y="259236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6"/>
            <p:cNvSpPr/>
            <p:nvPr/>
          </p:nvSpPr>
          <p:spPr>
            <a:xfrm>
              <a:off x="6612480" y="259236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7"/>
            <p:cNvSpPr/>
            <p:nvPr/>
          </p:nvSpPr>
          <p:spPr>
            <a:xfrm>
              <a:off x="6596640" y="259236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8"/>
            <p:cNvSpPr/>
            <p:nvPr/>
          </p:nvSpPr>
          <p:spPr>
            <a:xfrm flipV="1">
              <a:off x="6596640" y="102600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9"/>
            <p:cNvSpPr/>
            <p:nvPr/>
          </p:nvSpPr>
          <p:spPr>
            <a:xfrm flipH="1">
              <a:off x="3488040" y="914400"/>
              <a:ext cx="156960" cy="5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0"/>
            <p:cNvSpPr/>
            <p:nvPr/>
          </p:nvSpPr>
          <p:spPr>
            <a:xfrm flipH="1">
              <a:off x="4508640" y="930240"/>
              <a:ext cx="219600" cy="63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1"/>
            <p:cNvSpPr/>
            <p:nvPr/>
          </p:nvSpPr>
          <p:spPr>
            <a:xfrm flipH="1">
              <a:off x="4634280" y="1681560"/>
              <a:ext cx="54936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2"/>
            <p:cNvSpPr/>
            <p:nvPr/>
          </p:nvSpPr>
          <p:spPr>
            <a:xfrm flipH="1">
              <a:off x="4791240" y="1633320"/>
              <a:ext cx="2056320" cy="10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3"/>
            <p:cNvSpPr/>
            <p:nvPr/>
          </p:nvSpPr>
          <p:spPr>
            <a:xfrm flipH="1">
              <a:off x="6471000" y="2368800"/>
              <a:ext cx="5176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24"/>
          <p:cNvSpPr/>
          <p:nvPr/>
        </p:nvSpPr>
        <p:spPr>
          <a:xfrm>
            <a:off x="1053000" y="647640"/>
            <a:ext cx="1564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a50021"/>
                </a:solidFill>
                <a:latin typeface="Times New Roman"/>
              </a:rPr>
              <a:t>CLIPP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5"/>
          <p:cNvSpPr/>
          <p:nvPr/>
        </p:nvSpPr>
        <p:spPr>
          <a:xfrm>
            <a:off x="1239120" y="3013200"/>
            <a:ext cx="539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Cohen-Sutherland Line-Clipp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6"/>
          <p:cNvSpPr/>
          <p:nvPr/>
        </p:nvSpPr>
        <p:spPr>
          <a:xfrm>
            <a:off x="2002680" y="3341520"/>
            <a:ext cx="1663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7"/>
          <p:cNvSpPr/>
          <p:nvPr/>
        </p:nvSpPr>
        <p:spPr>
          <a:xfrm>
            <a:off x="1438920" y="3873600"/>
            <a:ext cx="671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line segment can be neither trivially accepted 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8"/>
          <p:cNvSpPr/>
          <p:nvPr/>
        </p:nvSpPr>
        <p:spPr>
          <a:xfrm>
            <a:off x="1438560" y="4119480"/>
            <a:ext cx="700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ed, it is divided into two segments at a clip edge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9"/>
          <p:cNvSpPr/>
          <p:nvPr/>
        </p:nvSpPr>
        <p:spPr>
          <a:xfrm>
            <a:off x="1440720" y="4367160"/>
            <a:ext cx="513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one segment can be trivially rejec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0"/>
          <p:cNvSpPr/>
          <p:nvPr/>
        </p:nvSpPr>
        <p:spPr>
          <a:xfrm>
            <a:off x="1166400" y="5000760"/>
            <a:ext cx="6349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Sutherland Hodgman Polygon-Clipp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1"/>
          <p:cNvSpPr/>
          <p:nvPr/>
        </p:nvSpPr>
        <p:spPr>
          <a:xfrm>
            <a:off x="1912320" y="5329080"/>
            <a:ext cx="1663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32"/>
          <p:cNvSpPr/>
          <p:nvPr/>
        </p:nvSpPr>
        <p:spPr>
          <a:xfrm>
            <a:off x="876240" y="3124080"/>
            <a:ext cx="133560" cy="1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33"/>
          <p:cNvSpPr/>
          <p:nvPr/>
        </p:nvSpPr>
        <p:spPr>
          <a:xfrm>
            <a:off x="847800" y="5111640"/>
            <a:ext cx="133200" cy="1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604A-61FF-49AC-A8F7-583C05893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77"/>
          <p:cNvSpPr/>
          <p:nvPr/>
        </p:nvSpPr>
        <p:spPr>
          <a:xfrm>
            <a:off x="4241880" y="3684600"/>
            <a:ext cx="430200" cy="428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76"/>
          <p:cNvSpPr/>
          <p:nvPr/>
        </p:nvSpPr>
        <p:spPr>
          <a:xfrm>
            <a:off x="4924440" y="3699000"/>
            <a:ext cx="430200" cy="428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63"/>
          <p:cNvSpPr/>
          <p:nvPr/>
        </p:nvSpPr>
        <p:spPr>
          <a:xfrm>
            <a:off x="6281640" y="3083040"/>
            <a:ext cx="430200" cy="428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C96AF8F-D8B6-4E10-9D5D-ADE655E9DD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1021680" y="642960"/>
            <a:ext cx="513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SCAN CONVERT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4"/>
          <p:cNvGrpSpPr/>
          <p:nvPr/>
        </p:nvGrpSpPr>
        <p:grpSpPr>
          <a:xfrm>
            <a:off x="1024560" y="1463760"/>
            <a:ext cx="6122160" cy="876960"/>
            <a:chOff x="1024560" y="1463760"/>
            <a:chExt cx="6122160" cy="876960"/>
          </a:xfrm>
        </p:grpSpPr>
        <p:sp>
          <p:nvSpPr>
            <p:cNvPr id="80" name="Rectangle 39"/>
            <p:cNvSpPr/>
            <p:nvPr/>
          </p:nvSpPr>
          <p:spPr>
            <a:xfrm>
              <a:off x="1024560" y="1463760"/>
              <a:ext cx="612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now, we consider only 1-pixel width 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0"/>
            <p:cNvSpPr/>
            <p:nvPr/>
          </p:nvSpPr>
          <p:spPr>
            <a:xfrm>
              <a:off x="1255680" y="17848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1"/>
            <p:cNvSpPr/>
            <p:nvPr/>
          </p:nvSpPr>
          <p:spPr>
            <a:xfrm>
              <a:off x="6513480" y="17848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42"/>
            <p:cNvSpPr/>
            <p:nvPr/>
          </p:nvSpPr>
          <p:spPr>
            <a:xfrm>
              <a:off x="2754000" y="19746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45"/>
          <p:cNvSpPr/>
          <p:nvPr/>
        </p:nvSpPr>
        <p:spPr>
          <a:xfrm>
            <a:off x="1701720" y="2666880"/>
            <a:ext cx="5410440" cy="2971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6"/>
          <p:cNvSpPr/>
          <p:nvPr/>
        </p:nvSpPr>
        <p:spPr>
          <a:xfrm>
            <a:off x="23875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48"/>
          <p:cNvSpPr/>
          <p:nvPr/>
        </p:nvSpPr>
        <p:spPr>
          <a:xfrm>
            <a:off x="30733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9"/>
          <p:cNvSpPr/>
          <p:nvPr/>
        </p:nvSpPr>
        <p:spPr>
          <a:xfrm>
            <a:off x="37591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44449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1"/>
          <p:cNvSpPr/>
          <p:nvPr/>
        </p:nvSpPr>
        <p:spPr>
          <a:xfrm>
            <a:off x="51307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2"/>
          <p:cNvSpPr/>
          <p:nvPr/>
        </p:nvSpPr>
        <p:spPr>
          <a:xfrm>
            <a:off x="58165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3"/>
          <p:cNvSpPr/>
          <p:nvPr/>
        </p:nvSpPr>
        <p:spPr>
          <a:xfrm>
            <a:off x="65023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4"/>
          <p:cNvSpPr/>
          <p:nvPr/>
        </p:nvSpPr>
        <p:spPr>
          <a:xfrm>
            <a:off x="1701720" y="32767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1701720" y="38862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6"/>
          <p:cNvSpPr/>
          <p:nvPr/>
        </p:nvSpPr>
        <p:spPr>
          <a:xfrm>
            <a:off x="1701720" y="449568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7"/>
          <p:cNvSpPr/>
          <p:nvPr/>
        </p:nvSpPr>
        <p:spPr>
          <a:xfrm>
            <a:off x="1701720" y="51055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8"/>
          <p:cNvSpPr/>
          <p:nvPr/>
        </p:nvSpPr>
        <p:spPr>
          <a:xfrm flipV="1">
            <a:off x="3068640" y="3290760"/>
            <a:ext cx="3414600" cy="119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4"/>
          <p:cNvSpPr/>
          <p:nvPr/>
        </p:nvSpPr>
        <p:spPr>
          <a:xfrm>
            <a:off x="3683160" y="3809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"/>
          <p:cNvSpPr/>
          <p:nvPr/>
        </p:nvSpPr>
        <p:spPr>
          <a:xfrm>
            <a:off x="3683160" y="4419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6"/>
          <p:cNvSpPr/>
          <p:nvPr/>
        </p:nvSpPr>
        <p:spPr>
          <a:xfrm>
            <a:off x="3378240" y="35053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7"/>
          <p:cNvSpPr/>
          <p:nvPr/>
        </p:nvSpPr>
        <p:spPr>
          <a:xfrm>
            <a:off x="3835440" y="4572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8"/>
          <p:cNvSpPr/>
          <p:nvPr/>
        </p:nvSpPr>
        <p:spPr>
          <a:xfrm>
            <a:off x="3247920" y="39258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9"/>
          <p:cNvSpPr/>
          <p:nvPr/>
        </p:nvSpPr>
        <p:spPr>
          <a:xfrm>
            <a:off x="2057400" y="408636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 (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1"/>
          <p:cNvSpPr/>
          <p:nvPr/>
        </p:nvSpPr>
        <p:spPr>
          <a:xfrm>
            <a:off x="7340760" y="3086280"/>
            <a:ext cx="12952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R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"/>
          <p:cNvSpPr/>
          <p:nvPr/>
        </p:nvSpPr>
        <p:spPr>
          <a:xfrm>
            <a:off x="927360" y="2057400"/>
            <a:ext cx="76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creen pixel mesh is represented in different form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5"/>
          <p:cNvSpPr/>
          <p:nvPr/>
        </p:nvSpPr>
        <p:spPr>
          <a:xfrm>
            <a:off x="3691080" y="4130640"/>
            <a:ext cx="137880" cy="4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8"/>
          <p:cNvSpPr/>
          <p:nvPr/>
        </p:nvSpPr>
        <p:spPr>
          <a:xfrm>
            <a:off x="2870280" y="4302000"/>
            <a:ext cx="430200" cy="428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C13E-0981-4B04-92E3-48F1AE51A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9A420DA-6A95-49F5-9DE9-50688894D7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1462680" y="544680"/>
            <a:ext cx="4802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alg moves around the polygon from 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6359760" y="666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6498000" y="544680"/>
            <a:ext cx="497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6971760" y="666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7114680" y="544680"/>
            <a:ext cx="564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1589760" y="843120"/>
            <a:ext cx="162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n back to 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3148200" y="95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1450800" y="1206360"/>
            <a:ext cx="634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t each step, 0, 1, or 2 vertices are added to the outpu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1448280" y="1450800"/>
            <a:ext cx="6134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st of vertices that defines the clipped polygon. Fou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1450080" y="1695600"/>
            <a:ext cx="387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ssible cases must be analyze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9"/>
          <p:cNvSpPr/>
          <p:nvPr/>
        </p:nvSpPr>
        <p:spPr>
          <a:xfrm>
            <a:off x="2261160" y="2108160"/>
            <a:ext cx="5756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ing &amp; ending vertices inside the window (ad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2746800" y="2352600"/>
            <a:ext cx="3894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ding vertice p to the output lis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2274840" y="2664000"/>
            <a:ext cx="558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ing inside, ending outside (add intersec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2761920" y="2908440"/>
            <a:ext cx="992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ertice i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2301840" y="3205080"/>
            <a:ext cx="4578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ing outside, ending inside (add i, 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24"/>
          <p:cNvSpPr/>
          <p:nvPr/>
        </p:nvSpPr>
        <p:spPr>
          <a:xfrm>
            <a:off x="2302920" y="3530520"/>
            <a:ext cx="49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ing outside, ending outside (continu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5"/>
          <p:cNvSpPr/>
          <p:nvPr/>
        </p:nvSpPr>
        <p:spPr>
          <a:xfrm>
            <a:off x="1969920" y="2232000"/>
            <a:ext cx="133560" cy="114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26"/>
          <p:cNvSpPr/>
          <p:nvPr/>
        </p:nvSpPr>
        <p:spPr>
          <a:xfrm>
            <a:off x="1965240" y="2789280"/>
            <a:ext cx="133560" cy="11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7"/>
          <p:cNvSpPr/>
          <p:nvPr/>
        </p:nvSpPr>
        <p:spPr>
          <a:xfrm>
            <a:off x="1974960" y="3294000"/>
            <a:ext cx="133200" cy="114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8"/>
          <p:cNvSpPr/>
          <p:nvPr/>
        </p:nvSpPr>
        <p:spPr>
          <a:xfrm>
            <a:off x="1974960" y="3618000"/>
            <a:ext cx="133200" cy="11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29"/>
          <p:cNvGrpSpPr/>
          <p:nvPr/>
        </p:nvGrpSpPr>
        <p:grpSpPr>
          <a:xfrm>
            <a:off x="2971800" y="4400640"/>
            <a:ext cx="3029040" cy="1695240"/>
            <a:chOff x="2971800" y="4400640"/>
            <a:chExt cx="3029040" cy="1695240"/>
          </a:xfrm>
        </p:grpSpPr>
        <p:sp>
          <p:nvSpPr>
            <p:cNvPr id="489" name="Rectangle 30"/>
            <p:cNvSpPr/>
            <p:nvPr/>
          </p:nvSpPr>
          <p:spPr>
            <a:xfrm>
              <a:off x="2971800" y="4400640"/>
              <a:ext cx="3029040" cy="169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31"/>
            <p:cNvSpPr/>
            <p:nvPr/>
          </p:nvSpPr>
          <p:spPr>
            <a:xfrm>
              <a:off x="3467160" y="4724280"/>
              <a:ext cx="1942920" cy="1028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32"/>
            <p:cNvSpPr/>
            <p:nvPr/>
          </p:nvSpPr>
          <p:spPr>
            <a:xfrm>
              <a:off x="4762440" y="4905360"/>
              <a:ext cx="647640" cy="64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33"/>
            <p:cNvSpPr/>
            <p:nvPr/>
          </p:nvSpPr>
          <p:spPr>
            <a:xfrm rot="175800">
              <a:off x="5400360" y="4838760"/>
              <a:ext cx="476280" cy="838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AutoShape 35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F20D-F860-4908-BE99-A30FBFD00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4: due one week after HW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lut font rendering functions to write down the following information in the center of the displa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p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star in a circle that rotates, draw a clipping window and calculate the clipping of the window like the follow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3728880" y="4792680"/>
            <a:ext cx="1203480" cy="127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3759120" y="4824360"/>
            <a:ext cx="1146240" cy="11016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Clipp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900" spc="-1" strike="noStrike">
                <a:solidFill>
                  <a:srgbClr val="a50021"/>
                </a:solidFill>
                <a:latin typeface="Times New Roman"/>
              </a:rPr>
              <a:t>Jim 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>
            <a:hlinkClick r:id="" action="ppaction://hlinkshowjump?jump=previousslide"/>
          </p:cNvPr>
          <p:cNvSpPr/>
          <p:nvPr/>
        </p:nvSpPr>
        <p:spPr>
          <a:xfrm>
            <a:off x="8077320" y="5943600"/>
            <a:ext cx="780840" cy="476280"/>
          </a:xfrm>
          <a:custGeom>
            <a:avLst/>
            <a:gdLst>
              <a:gd name="textAreaLeft" fmla="*/ 30600 w 780840"/>
              <a:gd name="textAreaRight" fmla="*/ 750240 w 780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402" h="21600">
                <a:moveTo>
                  <a:pt x="0" y="0"/>
                </a:moveTo>
                <a:lnTo>
                  <a:pt x="35402" y="0"/>
                </a:lnTo>
                <a:lnTo>
                  <a:pt x="35402" y="21600"/>
                </a:lnTo>
                <a:lnTo>
                  <a:pt x="0" y="21600"/>
                </a:lnTo>
                <a:close/>
              </a:path>
              <a:path fill="lightenLess" w="35402" h="21600">
                <a:moveTo>
                  <a:pt x="0" y="0"/>
                </a:moveTo>
                <a:lnTo>
                  <a:pt x="35402" y="0"/>
                </a:lnTo>
                <a:lnTo>
                  <a:pt x="34002" y="1400"/>
                </a:lnTo>
                <a:lnTo>
                  <a:pt x="1400" y="1400"/>
                </a:lnTo>
                <a:close/>
              </a:path>
              <a:path fill="darken" w="35402" h="21600">
                <a:moveTo>
                  <a:pt x="35402" y="0"/>
                </a:moveTo>
                <a:lnTo>
                  <a:pt x="35402" y="21600"/>
                </a:lnTo>
                <a:lnTo>
                  <a:pt x="34002" y="20200"/>
                </a:lnTo>
                <a:lnTo>
                  <a:pt x="34002" y="1400"/>
                </a:lnTo>
                <a:close/>
              </a:path>
              <a:path fill="darkenLess" w="35402" h="21600">
                <a:moveTo>
                  <a:pt x="35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02" y="20200"/>
                </a:lnTo>
                <a:close/>
              </a:path>
              <a:path fill="lighten" w="35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02" h="21600">
                <a:moveTo>
                  <a:pt x="10694" y="7493"/>
                </a:moveTo>
                <a:lnTo>
                  <a:pt x="14202" y="7493"/>
                </a:lnTo>
                <a:lnTo>
                  <a:pt x="14202" y="12828"/>
                </a:lnTo>
                <a:cubicBezTo>
                  <a:pt x="14202" y="13751"/>
                  <a:pt x="15003" y="14482"/>
                  <a:pt x="16038" y="14482"/>
                </a:cubicBezTo>
                <a:lnTo>
                  <a:pt x="17701" y="14482"/>
                </a:lnTo>
                <a:cubicBezTo>
                  <a:pt x="18737" y="14482"/>
                  <a:pt x="19537" y="13751"/>
                  <a:pt x="19537" y="12828"/>
                </a:cubicBezTo>
                <a:lnTo>
                  <a:pt x="19537" y="7493"/>
                </a:lnTo>
                <a:lnTo>
                  <a:pt x="17701" y="7493"/>
                </a:lnTo>
                <a:lnTo>
                  <a:pt x="21208" y="3985"/>
                </a:lnTo>
                <a:lnTo>
                  <a:pt x="24881" y="7493"/>
                </a:lnTo>
                <a:lnTo>
                  <a:pt x="23045" y="7493"/>
                </a:lnTo>
                <a:lnTo>
                  <a:pt x="23045" y="12828"/>
                </a:lnTo>
                <a:cubicBezTo>
                  <a:pt x="23045" y="15596"/>
                  <a:pt x="20469" y="18155"/>
                  <a:pt x="17701" y="18155"/>
                </a:cubicBezTo>
                <a:lnTo>
                  <a:pt x="16038" y="18155"/>
                </a:lnTo>
                <a:cubicBezTo>
                  <a:pt x="13271" y="18155"/>
                  <a:pt x="10694" y="15596"/>
                  <a:pt x="106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381480" y="5097600"/>
            <a:ext cx="1930320" cy="62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3367080" y="4743360"/>
            <a:ext cx="19731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3344760" y="5732640"/>
            <a:ext cx="197352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17B-5B42-417E-92FC-3DBF7527F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1"/>
          <p:cNvSpPr/>
          <p:nvPr/>
        </p:nvSpPr>
        <p:spPr>
          <a:xfrm>
            <a:off x="0" y="2162160"/>
            <a:ext cx="816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ine(int x0,int y0,int xn,int y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// f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; float m,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= (float) (yn-y0)/(xn-x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=x0; y=y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x&lt;xn+1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write a pixel into the frame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Begin(GL_POINTS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2i (x, (int) (y+0.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++; y+=m;/* next pixel's posit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5C48EAC-E8AD-4EAB-8F44-BB5CF13CE9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0"/>
          <p:cNvSpPr/>
          <p:nvPr/>
        </p:nvSpPr>
        <p:spPr>
          <a:xfrm>
            <a:off x="1093320" y="817560"/>
            <a:ext cx="584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Basic Incremental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2"/>
          <p:cNvSpPr/>
          <p:nvPr/>
        </p:nvSpPr>
        <p:spPr>
          <a:xfrm>
            <a:off x="2041560" y="1473120"/>
            <a:ext cx="112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 m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3160440" y="1486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3300120" y="147312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3490560" y="1486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3630240" y="14731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7"/>
          <p:cNvSpPr/>
          <p:nvPr/>
        </p:nvSpPr>
        <p:spPr>
          <a:xfrm>
            <a:off x="4016520" y="1468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8"/>
          <p:cNvSpPr/>
          <p:nvPr/>
        </p:nvSpPr>
        <p:spPr>
          <a:xfrm>
            <a:off x="4142520" y="1582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4193280" y="1468440"/>
            <a:ext cx="5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0"/>
          <p:cNvSpPr/>
          <p:nvPr/>
        </p:nvSpPr>
        <p:spPr>
          <a:xfrm>
            <a:off x="4777560" y="1582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1"/>
          <p:cNvSpPr/>
          <p:nvPr/>
        </p:nvSpPr>
        <p:spPr>
          <a:xfrm>
            <a:off x="4828320" y="1468440"/>
            <a:ext cx="69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;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2"/>
          <p:cNvSpPr/>
          <p:nvPr/>
        </p:nvSpPr>
        <p:spPr>
          <a:xfrm>
            <a:off x="5526360" y="1582560"/>
            <a:ext cx="2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3"/>
          <p:cNvSpPr/>
          <p:nvPr/>
        </p:nvSpPr>
        <p:spPr>
          <a:xfrm>
            <a:off x="5780520" y="1468440"/>
            <a:ext cx="38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4"/>
          <p:cNvSpPr/>
          <p:nvPr/>
        </p:nvSpPr>
        <p:spPr>
          <a:xfrm>
            <a:off x="6174720" y="1582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5"/>
          <p:cNvSpPr/>
          <p:nvPr/>
        </p:nvSpPr>
        <p:spPr>
          <a:xfrm>
            <a:off x="6225480" y="1468440"/>
            <a:ext cx="46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"/>
          <p:cNvSpPr/>
          <p:nvPr/>
        </p:nvSpPr>
        <p:spPr>
          <a:xfrm>
            <a:off x="2025360" y="1765440"/>
            <a:ext cx="231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tensif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he pixel at (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8"/>
          <p:cNvSpPr/>
          <p:nvPr/>
        </p:nvSpPr>
        <p:spPr>
          <a:xfrm>
            <a:off x="4347720" y="176544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Round(y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350320" y="176544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6680160" y="3162240"/>
            <a:ext cx="12700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1.2.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5E1F-90A0-4EAC-BF08-9ADCA92F6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89"/>
          <p:cNvSpPr/>
          <p:nvPr/>
        </p:nvSpPr>
        <p:spPr>
          <a:xfrm>
            <a:off x="4241880" y="2998800"/>
            <a:ext cx="430200" cy="428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90"/>
          <p:cNvSpPr/>
          <p:nvPr/>
        </p:nvSpPr>
        <p:spPr>
          <a:xfrm>
            <a:off x="4924440" y="3013200"/>
            <a:ext cx="430200" cy="428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91"/>
          <p:cNvSpPr/>
          <p:nvPr/>
        </p:nvSpPr>
        <p:spPr>
          <a:xfrm>
            <a:off x="6281640" y="2397240"/>
            <a:ext cx="430200" cy="428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2"/>
          <p:cNvSpPr/>
          <p:nvPr/>
        </p:nvSpPr>
        <p:spPr>
          <a:xfrm>
            <a:off x="1701720" y="1981080"/>
            <a:ext cx="5410440" cy="2971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3"/>
          <p:cNvSpPr/>
          <p:nvPr/>
        </p:nvSpPr>
        <p:spPr>
          <a:xfrm>
            <a:off x="23875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4"/>
          <p:cNvSpPr/>
          <p:nvPr/>
        </p:nvSpPr>
        <p:spPr>
          <a:xfrm>
            <a:off x="30733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5"/>
          <p:cNvSpPr/>
          <p:nvPr/>
        </p:nvSpPr>
        <p:spPr>
          <a:xfrm>
            <a:off x="37591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6"/>
          <p:cNvSpPr/>
          <p:nvPr/>
        </p:nvSpPr>
        <p:spPr>
          <a:xfrm>
            <a:off x="44449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7"/>
          <p:cNvSpPr/>
          <p:nvPr/>
        </p:nvSpPr>
        <p:spPr>
          <a:xfrm>
            <a:off x="51307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8"/>
          <p:cNvSpPr/>
          <p:nvPr/>
        </p:nvSpPr>
        <p:spPr>
          <a:xfrm>
            <a:off x="58165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9"/>
          <p:cNvSpPr/>
          <p:nvPr/>
        </p:nvSpPr>
        <p:spPr>
          <a:xfrm>
            <a:off x="65023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0"/>
          <p:cNvSpPr/>
          <p:nvPr/>
        </p:nvSpPr>
        <p:spPr>
          <a:xfrm>
            <a:off x="1701720" y="25909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1"/>
          <p:cNvSpPr/>
          <p:nvPr/>
        </p:nvSpPr>
        <p:spPr>
          <a:xfrm>
            <a:off x="1701720" y="32004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02"/>
          <p:cNvSpPr/>
          <p:nvPr/>
        </p:nvSpPr>
        <p:spPr>
          <a:xfrm>
            <a:off x="1701720" y="380988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"/>
          <p:cNvSpPr/>
          <p:nvPr/>
        </p:nvSpPr>
        <p:spPr>
          <a:xfrm>
            <a:off x="1701720" y="44197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4"/>
          <p:cNvSpPr/>
          <p:nvPr/>
        </p:nvSpPr>
        <p:spPr>
          <a:xfrm flipV="1">
            <a:off x="3068640" y="2604960"/>
            <a:ext cx="3414600" cy="119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"/>
          <p:cNvSpPr/>
          <p:nvPr/>
        </p:nvSpPr>
        <p:spPr>
          <a:xfrm>
            <a:off x="368316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6"/>
          <p:cNvSpPr/>
          <p:nvPr/>
        </p:nvSpPr>
        <p:spPr>
          <a:xfrm>
            <a:off x="3683160" y="37339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7"/>
          <p:cNvSpPr/>
          <p:nvPr/>
        </p:nvSpPr>
        <p:spPr>
          <a:xfrm>
            <a:off x="3378240" y="2819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8"/>
          <p:cNvSpPr/>
          <p:nvPr/>
        </p:nvSpPr>
        <p:spPr>
          <a:xfrm>
            <a:off x="3835440" y="3886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9"/>
          <p:cNvSpPr/>
          <p:nvPr/>
        </p:nvSpPr>
        <p:spPr>
          <a:xfrm>
            <a:off x="3247920" y="3240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0"/>
          <p:cNvSpPr/>
          <p:nvPr/>
        </p:nvSpPr>
        <p:spPr>
          <a:xfrm>
            <a:off x="2057400" y="340056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 (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1"/>
          <p:cNvSpPr/>
          <p:nvPr/>
        </p:nvSpPr>
        <p:spPr>
          <a:xfrm>
            <a:off x="3691080" y="3444840"/>
            <a:ext cx="137880" cy="4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12"/>
          <p:cNvSpPr/>
          <p:nvPr/>
        </p:nvSpPr>
        <p:spPr>
          <a:xfrm>
            <a:off x="2870280" y="3616200"/>
            <a:ext cx="430200" cy="428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4"/>
          <p:cNvSpPr/>
          <p:nvPr/>
        </p:nvSpPr>
        <p:spPr>
          <a:xfrm>
            <a:off x="1058760" y="4543560"/>
            <a:ext cx="699624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10E9385-D272-441D-B82E-01AF050C2E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5"/>
          <p:cNvSpPr/>
          <p:nvPr/>
        </p:nvSpPr>
        <p:spPr>
          <a:xfrm>
            <a:off x="1064520" y="762120"/>
            <a:ext cx="5782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MIDPOINT LIN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1138680" y="1139760"/>
            <a:ext cx="6727320" cy="750240"/>
            <a:chOff x="1138680" y="1139760"/>
            <a:chExt cx="6727320" cy="750240"/>
          </a:xfrm>
        </p:grpSpPr>
        <p:sp>
          <p:nvSpPr>
            <p:cNvPr id="172" name="Rectangle 56"/>
            <p:cNvSpPr/>
            <p:nvPr/>
          </p:nvSpPr>
          <p:spPr>
            <a:xfrm>
              <a:off x="1138680" y="1139760"/>
              <a:ext cx="67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shortcoming of the previous algorithm is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1368720" y="1523880"/>
              <a:ext cx="4789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unding  y to an integer takes tim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83"/>
          <p:cNvGrpSpPr/>
          <p:nvPr/>
        </p:nvGrpSpPr>
        <p:grpSpPr>
          <a:xfrm>
            <a:off x="1746000" y="4610160"/>
            <a:ext cx="6140880" cy="1227240"/>
            <a:chOff x="1746000" y="4610160"/>
            <a:chExt cx="6140880" cy="1227240"/>
          </a:xfrm>
        </p:grpSpPr>
        <p:sp>
          <p:nvSpPr>
            <p:cNvPr id="175" name="Rectangle 58"/>
            <p:cNvSpPr/>
            <p:nvPr/>
          </p:nvSpPr>
          <p:spPr>
            <a:xfrm>
              <a:off x="1825920" y="4610160"/>
              <a:ext cx="551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 = (dy/dx)x +B, that is F(x,y)=dy*x - dx*y + B*dx 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1749960" y="4952880"/>
              <a:ext cx="224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Times New Roman"/>
                </a:rPr>
                <a:t>F(x,y) = ax + by + c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1"/>
            <p:cNvSpPr/>
            <p:nvPr/>
          </p:nvSpPr>
          <p:spPr>
            <a:xfrm>
              <a:off x="4060800" y="4915080"/>
              <a:ext cx="324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n (x,y) on the line, 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2"/>
            <p:cNvSpPr/>
            <p:nvPr/>
          </p:nvSpPr>
          <p:spPr>
            <a:xfrm>
              <a:off x="1747080" y="5257800"/>
              <a:ext cx="593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=dy&gt;0, b=-dx&lt;0, and c=B*dx&gt;0. F(x,y’) &gt; 0 when (x,y’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63"/>
            <p:cNvSpPr/>
            <p:nvPr/>
          </p:nvSpPr>
          <p:spPr>
            <a:xfrm>
              <a:off x="1746000" y="5562720"/>
              <a:ext cx="614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low the line, and F(x,y’) &lt; 0 when (x,y’) above the li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Text Box 87"/>
          <p:cNvSpPr/>
          <p:nvPr/>
        </p:nvSpPr>
        <p:spPr>
          <a:xfrm>
            <a:off x="7480440" y="3873600"/>
            <a:ext cx="126972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1.3.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8"/>
          <p:cNvSpPr/>
          <p:nvPr/>
        </p:nvSpPr>
        <p:spPr>
          <a:xfrm>
            <a:off x="7493040" y="3048120"/>
            <a:ext cx="12700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1.2.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1D33-16C6-42FD-A6D3-38212582F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CF1E570-BE88-45D4-86F1-E9E7775DB6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1"/>
          <p:cNvSpPr/>
          <p:nvPr/>
        </p:nvSpPr>
        <p:spPr>
          <a:xfrm>
            <a:off x="2362320" y="1106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1"/>
          <p:cNvSpPr/>
          <p:nvPr/>
        </p:nvSpPr>
        <p:spPr>
          <a:xfrm>
            <a:off x="1058760" y="668160"/>
            <a:ext cx="718524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&gt;0, Q above M, choose NE; else choose 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fore we have a </a:t>
            </a: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decision variabl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 =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+ a + b/2 = a + b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=0, E is chosen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2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0, NE is chosen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2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3/2)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a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” and “b” are integers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decision equations b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for integer oper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2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 = 2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+ 2a + b  = 2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=0, E is chosen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2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2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0, NE is chosen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2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2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3/2)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2a+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t’s call  dE = 2a = 2dy, dNE = 2(a + b) = 2(dy – dx),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=0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0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A6D9-EC89-4CD2-AC03-EC25BE1A9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2234E48-DA76-4E1C-88B7-447A1C3B5D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00"/>
          <p:cNvSpPr/>
          <p:nvPr/>
        </p:nvSpPr>
        <p:spPr>
          <a:xfrm>
            <a:off x="1139760" y="720720"/>
            <a:ext cx="271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 only need to decide if (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1"/>
          <p:cNvSpPr/>
          <p:nvPr/>
        </p:nvSpPr>
        <p:spPr>
          <a:xfrm>
            <a:off x="3848040" y="8240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2"/>
          <p:cNvSpPr/>
          <p:nvPr/>
        </p:nvSpPr>
        <p:spPr>
          <a:xfrm>
            <a:off x="4176360" y="73332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3"/>
          <p:cNvSpPr/>
          <p:nvPr/>
        </p:nvSpPr>
        <p:spPr>
          <a:xfrm>
            <a:off x="4609440" y="752400"/>
            <a:ext cx="31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hoose NE or E, and updat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4"/>
          <p:cNvSpPr/>
          <p:nvPr/>
        </p:nvSpPr>
        <p:spPr>
          <a:xfrm>
            <a:off x="7760880" y="85896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5"/>
          <p:cNvSpPr/>
          <p:nvPr/>
        </p:nvSpPr>
        <p:spPr>
          <a:xfrm>
            <a:off x="1517760" y="1087560"/>
            <a:ext cx="366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rdingly with an integer add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99"/>
          <p:cNvSpPr/>
          <p:nvPr/>
        </p:nvSpPr>
        <p:spPr>
          <a:xfrm>
            <a:off x="6980400" y="3506760"/>
            <a:ext cx="1650960" cy="64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Bresenham Line 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8"/>
          <p:cNvSpPr/>
          <p:nvPr/>
        </p:nvSpPr>
        <p:spPr>
          <a:xfrm>
            <a:off x="247680" y="1628640"/>
            <a:ext cx="767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line(int x0,int y0,int xn,int y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// Bresenham's midpoint line algorith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x, dy, incrE, incrNE, d, x, y, flag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; // taking care of all sl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=x0; y=y0; d=2*dy-d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crE=2*dy; incrNE=2*(dy-d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&lt;xn+1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pixel(x,y,flag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++; // next 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&lt;=0) d+=incr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 y++; d+=incrNE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2614-9D34-4274-BA7E-A589A8ABD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00E1ABE-793C-4A5A-9875-275B81FD92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6">
            <a:hlinkClick r:id="" action="ppaction://hlinkshowjump?jump=nextslide"/>
          </p:cNvPr>
          <p:cNvSpPr/>
          <p:nvPr/>
        </p:nvSpPr>
        <p:spPr>
          <a:xfrm>
            <a:off x="822960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83840" y="546120"/>
            <a:ext cx="440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CAN CONVERTING CIR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324000" y="2833560"/>
            <a:ext cx="776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therefore y=(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We can increase x form 0 to R/2 to draw the corresponding points at (x,y), (y,x), (y,-x), (x,-y), (-x,-y), (-y,-x), (-y,x), (-x,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4"/>
          <p:cNvSpPr/>
          <p:nvPr/>
        </p:nvSpPr>
        <p:spPr>
          <a:xfrm>
            <a:off x="409680" y="3665520"/>
            <a:ext cx="329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circlePixel(float x, floa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5"/>
          <p:cNvSpPr/>
          <p:nvPr/>
        </p:nvSpPr>
        <p:spPr>
          <a:xfrm>
            <a:off x="411120" y="389880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6"/>
          <p:cNvSpPr/>
          <p:nvPr/>
        </p:nvSpPr>
        <p:spPr>
          <a:xfrm>
            <a:off x="313560" y="4184640"/>
            <a:ext cx="438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x,y);WritePixel(y,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7"/>
          <p:cNvSpPr/>
          <p:nvPr/>
        </p:nvSpPr>
        <p:spPr>
          <a:xfrm>
            <a:off x="252720" y="4417920"/>
            <a:ext cx="466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-x,y);WritePixel(-y,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8"/>
          <p:cNvSpPr/>
          <p:nvPr/>
        </p:nvSpPr>
        <p:spPr>
          <a:xfrm>
            <a:off x="252720" y="4651200"/>
            <a:ext cx="466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x,-y);WritePixel(y,-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9"/>
          <p:cNvSpPr/>
          <p:nvPr/>
        </p:nvSpPr>
        <p:spPr>
          <a:xfrm>
            <a:off x="200880" y="4869000"/>
            <a:ext cx="49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-x,-y);WritePixel(-y,-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0"/>
          <p:cNvSpPr/>
          <p:nvPr/>
        </p:nvSpPr>
        <p:spPr>
          <a:xfrm>
            <a:off x="411120" y="506556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1"/>
          <p:cNvSpPr/>
          <p:nvPr/>
        </p:nvSpPr>
        <p:spPr>
          <a:xfrm>
            <a:off x="1492560" y="5416560"/>
            <a:ext cx="49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ime consuming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ace between pixels is not uniform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35"/>
          <p:cNvGrpSpPr/>
          <p:nvPr/>
        </p:nvGrpSpPr>
        <p:grpSpPr>
          <a:xfrm>
            <a:off x="2743200" y="914400"/>
            <a:ext cx="2666880" cy="1828800"/>
            <a:chOff x="2743200" y="914400"/>
            <a:chExt cx="2666880" cy="1828800"/>
          </a:xfrm>
        </p:grpSpPr>
        <p:sp>
          <p:nvSpPr>
            <p:cNvPr id="230" name="Oval 21"/>
            <p:cNvSpPr/>
            <p:nvPr/>
          </p:nvSpPr>
          <p:spPr>
            <a:xfrm>
              <a:off x="3124080" y="1066680"/>
              <a:ext cx="175284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2"/>
            <p:cNvSpPr/>
            <p:nvPr/>
          </p:nvSpPr>
          <p:spPr>
            <a:xfrm>
              <a:off x="274320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 flipV="1">
              <a:off x="3962520" y="9144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 flipV="1">
              <a:off x="3962520" y="10663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5"/>
            <p:cNvSpPr/>
            <p:nvPr/>
          </p:nvSpPr>
          <p:spPr>
            <a:xfrm>
              <a:off x="3962520" y="12952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 rot="1334400">
              <a:off x="3505320" y="25146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 rot="1334400">
              <a:off x="3428640" y="121896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 rot="1334400">
              <a:off x="3276720" y="13716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 rot="1334400">
              <a:off x="4723920" y="220968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 rot="1334400">
              <a:off x="4571640" y="236196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 rot="1334400">
              <a:off x="4343400" y="1143000"/>
              <a:ext cx="7632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 rot="1334400">
              <a:off x="4571640" y="129528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 rot="1334400">
              <a:off x="3352320" y="236196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34"/>
            <p:cNvSpPr/>
            <p:nvPr/>
          </p:nvSpPr>
          <p:spPr>
            <a:xfrm>
              <a:off x="4343400" y="144756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573A-8D40-4552-B789-609CC805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7F578F2-AA1D-4CA6-B56B-B8CB60B701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34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02"/>
          <p:cNvSpPr/>
          <p:nvPr/>
        </p:nvSpPr>
        <p:spPr>
          <a:xfrm>
            <a:off x="2489040" y="2744640"/>
            <a:ext cx="3124440" cy="318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5"/>
          <p:cNvSpPr/>
          <p:nvPr/>
        </p:nvSpPr>
        <p:spPr>
          <a:xfrm flipV="1">
            <a:off x="2451240" y="3755520"/>
            <a:ext cx="3152520" cy="1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8"/>
          <p:cNvSpPr/>
          <p:nvPr/>
        </p:nvSpPr>
        <p:spPr>
          <a:xfrm>
            <a:off x="2508120" y="4869000"/>
            <a:ext cx="3105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9"/>
          <p:cNvSpPr/>
          <p:nvPr/>
        </p:nvSpPr>
        <p:spPr>
          <a:xfrm flipH="1">
            <a:off x="3460320" y="2813040"/>
            <a:ext cx="19080" cy="311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0"/>
          <p:cNvSpPr/>
          <p:nvPr/>
        </p:nvSpPr>
        <p:spPr>
          <a:xfrm>
            <a:off x="4584600" y="2744640"/>
            <a:ext cx="19080" cy="3083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12"/>
          <p:cNvSpPr/>
          <p:nvPr/>
        </p:nvSpPr>
        <p:spPr>
          <a:xfrm>
            <a:off x="3251160" y="3533760"/>
            <a:ext cx="46044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3"/>
          <p:cNvSpPr/>
          <p:nvPr/>
        </p:nvSpPr>
        <p:spPr>
          <a:xfrm>
            <a:off x="4508640" y="3670200"/>
            <a:ext cx="133200" cy="204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4"/>
          <p:cNvSpPr/>
          <p:nvPr/>
        </p:nvSpPr>
        <p:spPr>
          <a:xfrm>
            <a:off x="4508640" y="4765680"/>
            <a:ext cx="123840" cy="206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5"/>
          <p:cNvSpPr/>
          <p:nvPr/>
        </p:nvSpPr>
        <p:spPr>
          <a:xfrm>
            <a:off x="4489560" y="4253040"/>
            <a:ext cx="152280" cy="133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7"/>
          <p:cNvSpPr/>
          <p:nvPr/>
        </p:nvSpPr>
        <p:spPr>
          <a:xfrm>
            <a:off x="4660920" y="33606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18"/>
          <p:cNvSpPr/>
          <p:nvPr/>
        </p:nvSpPr>
        <p:spPr>
          <a:xfrm>
            <a:off x="4102200" y="4834080"/>
            <a:ext cx="7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9"/>
          <p:cNvSpPr/>
          <p:nvPr/>
        </p:nvSpPr>
        <p:spPr>
          <a:xfrm>
            <a:off x="4602240" y="4118040"/>
            <a:ext cx="3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7"/>
          <p:cNvSpPr/>
          <p:nvPr/>
        </p:nvSpPr>
        <p:spPr>
          <a:xfrm>
            <a:off x="4485600" y="316692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78"/>
          <p:cNvSpPr/>
          <p:nvPr/>
        </p:nvSpPr>
        <p:spPr>
          <a:xfrm>
            <a:off x="4137120" y="31669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79"/>
          <p:cNvSpPr/>
          <p:nvPr/>
        </p:nvSpPr>
        <p:spPr>
          <a:xfrm>
            <a:off x="3810600" y="316692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80"/>
          <p:cNvSpPr/>
          <p:nvPr/>
        </p:nvSpPr>
        <p:spPr>
          <a:xfrm>
            <a:off x="4362120" y="33368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81"/>
          <p:cNvSpPr/>
          <p:nvPr/>
        </p:nvSpPr>
        <p:spPr>
          <a:xfrm>
            <a:off x="4017600" y="33368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2"/>
          <p:cNvSpPr/>
          <p:nvPr/>
        </p:nvSpPr>
        <p:spPr>
          <a:xfrm>
            <a:off x="4248720" y="3166920"/>
            <a:ext cx="124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83"/>
          <p:cNvSpPr/>
          <p:nvPr/>
        </p:nvSpPr>
        <p:spPr>
          <a:xfrm>
            <a:off x="3907440" y="3166920"/>
            <a:ext cx="124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84"/>
          <p:cNvSpPr/>
          <p:nvPr/>
        </p:nvSpPr>
        <p:spPr>
          <a:xfrm>
            <a:off x="3578400" y="315108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25"/>
          <p:cNvSpPr/>
          <p:nvPr/>
        </p:nvSpPr>
        <p:spPr>
          <a:xfrm>
            <a:off x="492480" y="363600"/>
            <a:ext cx="6271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sing polar coordinates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o elimina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6"/>
          <p:cNvSpPr/>
          <p:nvPr/>
        </p:nvSpPr>
        <p:spPr>
          <a:xfrm>
            <a:off x="1309680" y="692280"/>
            <a:ext cx="2923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unequal spac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32"/>
          <p:cNvSpPr/>
          <p:nvPr/>
        </p:nvSpPr>
        <p:spPr>
          <a:xfrm>
            <a:off x="511200" y="2197080"/>
            <a:ext cx="3979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idpoint Circle Algorith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4"/>
          <p:cNvSpPr/>
          <p:nvPr/>
        </p:nvSpPr>
        <p:spPr>
          <a:xfrm>
            <a:off x="4368960" y="186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5"/>
          <p:cNvSpPr/>
          <p:nvPr/>
        </p:nvSpPr>
        <p:spPr>
          <a:xfrm>
            <a:off x="1092960" y="1050840"/>
            <a:ext cx="437328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1" lang="en-US" sz="2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1" lang="en-US" sz="2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rc 185"/>
          <p:cNvSpPr/>
          <p:nvPr/>
        </p:nvSpPr>
        <p:spPr>
          <a:xfrm>
            <a:off x="3483000" y="3789360"/>
            <a:ext cx="2714760" cy="2887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86"/>
          <p:cNvSpPr/>
          <p:nvPr/>
        </p:nvSpPr>
        <p:spPr>
          <a:xfrm>
            <a:off x="871560" y="3801960"/>
            <a:ext cx="5311800" cy="5281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89A0-80ED-4D4E-9FA0-28022ED46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DD44B82-AC88-4A3B-A4A7-BFFBE1B58A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903960" y="460440"/>
            <a:ext cx="5113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Scan-converting Other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111320" y="906480"/>
            <a:ext cx="68803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ic Sections (2nd deg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B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Cxy + Dx + Ey + F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4AC &lt; 0 ellipse or circle;   = 0 parabola; &gt;0 hyperb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bolic path: (parametric equ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y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– g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perbolic pat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/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(y/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2484000" y="4681080"/>
            <a:ext cx="4081320" cy="1858680"/>
            <a:chOff x="2484000" y="4681080"/>
            <a:chExt cx="4081320" cy="1858680"/>
          </a:xfrm>
        </p:grpSpPr>
        <p:sp>
          <p:nvSpPr>
            <p:cNvPr id="292" name="Rectangle 19"/>
            <p:cNvSpPr/>
            <p:nvPr/>
          </p:nvSpPr>
          <p:spPr>
            <a:xfrm>
              <a:off x="2762280" y="5048280"/>
              <a:ext cx="3524400" cy="1123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0"/>
            <p:cNvSpPr/>
            <p:nvPr/>
          </p:nvSpPr>
          <p:spPr>
            <a:xfrm>
              <a:off x="2781360" y="5619600"/>
              <a:ext cx="348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1"/>
            <p:cNvSpPr/>
            <p:nvPr/>
          </p:nvSpPr>
          <p:spPr>
            <a:xfrm>
              <a:off x="4514760" y="5086440"/>
              <a:ext cx="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rc 24"/>
            <p:cNvSpPr/>
            <p:nvPr/>
          </p:nvSpPr>
          <p:spPr>
            <a:xfrm rot="2475600">
              <a:off x="2695320" y="4973760"/>
              <a:ext cx="1315800" cy="1136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rc 25"/>
            <p:cNvSpPr/>
            <p:nvPr/>
          </p:nvSpPr>
          <p:spPr>
            <a:xfrm rot="13400400">
              <a:off x="5038560" y="5106240"/>
              <a:ext cx="1316160" cy="1136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4457880" y="5562720"/>
              <a:ext cx="11412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27"/>
            <p:cNvSpPr/>
            <p:nvPr/>
          </p:nvSpPr>
          <p:spPr>
            <a:xfrm>
              <a:off x="3695760" y="5543640"/>
              <a:ext cx="11412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28"/>
            <p:cNvSpPr/>
            <p:nvPr/>
          </p:nvSpPr>
          <p:spPr>
            <a:xfrm>
              <a:off x="5219640" y="5543640"/>
              <a:ext cx="11448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chen</cp:lastModifiedBy>
  <dcterms:modified xsi:type="dcterms:W3CDTF">2008-02-06T21:58:47Z</dcterms:modified>
  <cp:revision>158</cp:revision>
  <dc:subject/>
  <dc:title>Computer Graphics</dc:title>
</cp:coreProperties>
</file>