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204-58FD-481B-A56F-67907A76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1D6-FA4B-4FA8-A731-F7D20899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C51-E8F8-4776-B37F-2ADEB166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ACD-E0C0-4C7F-83D3-139AB04B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7E9-654E-4BF3-A1FB-02849BAC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7EA-A65C-4AF3-A9F9-C4AE71A9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1C1-848D-4E98-92A2-4C048AD9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71D-E752-42C6-A5D1-0E75105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7DB-F69B-4A1D-BA5C-60AD8068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D23-6B33-405A-ACBD-86DCAC4D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040-8951-4748-B4D8-1AAFFEED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29F-5CF5-4F26-9E98-A535407B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3BAD-F272-4DF3-A7BC-9D90261EDC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bluepony.exe" TargetMode="External"/><Relationship Id="rId2" Type="http://schemas.openxmlformats.org/officeDocument/2006/relationships/hyperlink" Target="file:///glflare.exe" TargetMode="External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double.exe" TargetMode="External"/><Relationship Id="rId2" Type="http://schemas.openxmlformats.org/officeDocument/2006/relationships/hyperlink" Target="file:///dragnet2k.exe" TargetMode="External"/><Relationship Id="rId3" Type="http://schemas.openxmlformats.org/officeDocument/2006/relationships/hyperlink" Target="file:///teapots.exe" TargetMode="External"/><Relationship Id="rId4" Type="http://schemas.openxmlformats.org/officeDocument/2006/relationships/hyperlink" Target="file:///explosion1.exe" TargetMode="External"/><Relationship Id="rId5" Type="http://schemas.openxmlformats.org/officeDocument/2006/relationships/hyperlink" Target="file:///explosion2.exe" TargetMode="External"/><Relationship Id="rId6" Type="http://schemas.openxmlformats.org/officeDocument/2006/relationships/hyperlink" Target="file:///explosion3.exe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A770867E-9838-49AA-A1D2-1DC99DC23EA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14640" y="3429000"/>
            <a:ext cx="6889320" cy="731880"/>
            <a:chOff x="1214640" y="3429000"/>
            <a:chExt cx="6889320" cy="731880"/>
          </a:xfrm>
        </p:grpSpPr>
        <p:sp>
          <p:nvSpPr>
            <p:cNvPr id="48" name=""/>
            <p:cNvSpPr/>
            <p:nvPr/>
          </p:nvSpPr>
          <p:spPr>
            <a:xfrm>
              <a:off x="1214640" y="3429000"/>
              <a:ext cx="6889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he OpenGL graphics system is an 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rogramming interface (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AP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 to graphics hardwar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3400" y="3429000"/>
              <a:ext cx="3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992160" y="2438280"/>
            <a:ext cx="287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SimSun"/>
              </a:rPr>
              <a:t>WHAT I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OPENGL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SimSun"/>
              </a:rPr>
              <a:t>?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724280"/>
            <a:ext cx="6019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round 130 graphics drawing and operatio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848720" y="55627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213372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DEM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281952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DEM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47920" y="76212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penGL and Related Libraries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A898C621-FEA9-4A75-9700-39E19097468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1760" y="762120"/>
            <a:ext cx="4452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SimSun"/>
              </a:rPr>
              <a:t>OpenGL and DirectX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676520"/>
            <a:ext cx="6705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Theoretically, OpenGL and DirectX (Direct3D)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OpenGL is a mature graphics library, while DirectX has been advanced rapidly and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OpenGL is easier to learn and use, and is integrated in most modern graphics text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DirectX is much more popular in PC gam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96678D55-0885-4C29-9208-E2A47999F33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5680" y="609480"/>
            <a:ext cx="3828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  <a:ea typeface="SimSun"/>
              </a:rPr>
              <a:t>JOGL – Java for Open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769608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JO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mplements Java bindings for OpenG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ovides platform for 3D graphics applications in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JOGL provides full access to OpenGL functions and integrates with the AWT and Swing widget 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rt of a suite of open-source technologies initiated by the Game Technology Group at Sun Micro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995B84CB-62E2-4DCB-B588-9DC2745B970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160" y="609480"/>
            <a:ext cx="660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  <a:ea typeface="SimSun"/>
              </a:rPr>
              <a:t>ANIMATION AND DOUBLE 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7960" y="1177920"/>
            <a:ext cx="600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otion in a movie is achieved by project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5200" y="1482840"/>
            <a:ext cx="506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sequence of pictures 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24 frames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seco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n the 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78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0937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5600" y="2284560"/>
            <a:ext cx="619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60 per second is smoother than 30, and 120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49600" y="2589120"/>
            <a:ext cx="348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arginally better than 6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30800" y="2589120"/>
            <a:ext cx="17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Refresh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8080" y="2589120"/>
            <a:ext cx="90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0680" y="2894040"/>
            <a:ext cx="369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an 120 make no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09880"/>
            <a:ext cx="174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open_wind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7320" y="4051440"/>
            <a:ext cx="30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or (i = 0; i &lt; 1000000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560" y="4292640"/>
            <a:ext cx="30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lear_the_framebuffer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9480" y="4533840"/>
            <a:ext cx="18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aw_frame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4775040"/>
            <a:ext cx="496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ait_until_a_24th_of_a_second_is_over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9480" y="5018040"/>
            <a:ext cx="21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657600"/>
            <a:ext cx="12189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EE785C23-EAF3-4663-B9DC-3A0C8D988F3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36880" y="708120"/>
            <a:ext cx="6975360" cy="1586880"/>
            <a:chOff x="1136880" y="708120"/>
            <a:chExt cx="6975360" cy="1586880"/>
          </a:xfrm>
        </p:grpSpPr>
        <p:sp>
          <p:nvSpPr>
            <p:cNvPr id="153" name=""/>
            <p:cNvSpPr/>
            <p:nvPr/>
          </p:nvSpPr>
          <p:spPr>
            <a:xfrm>
              <a:off x="1676520" y="1828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6880" y="708120"/>
              <a:ext cx="610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ems drawn first are visible for the full 1/2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2800" y="1012680"/>
              <a:ext cx="622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cond and present a solid image on the screen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79200" y="1317600"/>
              <a:ext cx="544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ems drawn toward the end are instant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87120" y="1622520"/>
              <a:ext cx="54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leared as the program starts on the nex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82800" y="192888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ram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142280" y="2362320"/>
            <a:ext cx="243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Double-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2480" y="2362320"/>
            <a:ext cx="376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- hardware or softwar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4120" y="2703600"/>
            <a:ext cx="688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lies two complete color buffers.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front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7360" y="3008160"/>
            <a:ext cx="649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s displayed whil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back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drawn.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4840" y="331308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drawing of a frame is complete,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619440"/>
            <a:ext cx="279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uffers are swap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39400" y="4089240"/>
            <a:ext cx="4591440" cy="1724400"/>
            <a:chOff x="1139400" y="4089240"/>
            <a:chExt cx="4591440" cy="1724400"/>
          </a:xfrm>
        </p:grpSpPr>
        <p:sp>
          <p:nvSpPr>
            <p:cNvPr id="166" name=""/>
            <p:cNvSpPr/>
            <p:nvPr/>
          </p:nvSpPr>
          <p:spPr>
            <a:xfrm>
              <a:off x="1139760" y="4089240"/>
              <a:ext cx="459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pen_window_in_double_buffer_mode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39400" y="4572000"/>
              <a:ext cx="307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or (i = 0; i &lt; 1000000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4813200"/>
              <a:ext cx="290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lear_the_backbuffer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2640" y="5054760"/>
              <a:ext cx="379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raw_frame_into_backbuffer (i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1200" y="5297400"/>
              <a:ext cx="255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wap_the_buffers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1920" y="5538960"/>
              <a:ext cx="21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934320" y="4419720"/>
            <a:ext cx="12189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9F16EA71-975A-4A66-ACC5-81A5E35D1C36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447920"/>
            <a:ext cx="6604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SimSun"/>
              </a:rPr>
              <a:t>Some Examples Coded In OpenG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2590920"/>
            <a:ext cx="12189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DEM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352680"/>
            <a:ext cx="12189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DEMO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6668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3"/>
              </a:rPr>
              <a:t>DEMO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33526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4"/>
              </a:rPr>
              <a:t>DEM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6812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5"/>
              </a:rPr>
              <a:t>DEMO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33670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6"/>
              </a:rPr>
              <a:t>DEMO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EM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3526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  <a:ea typeface="SimSun"/>
              </a:rPr>
              <a:t>DEM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847B95C6-DEBB-451E-9121-AC0753F3798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1295280"/>
            <a:ext cx="520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SimSun"/>
              </a:rPr>
              <a:t>HW1: due before next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80010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2362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raw a point that moves slowly along a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3886200"/>
            <a:ext cx="175284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809880"/>
            <a:ext cx="381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38C0D5FA-A07F-4949-AC52-210B8EF84AB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1760" y="762120"/>
            <a:ext cx="3918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SimSun"/>
              </a:rPr>
              <a:t>OpenGL-Related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139400" y="1219320"/>
            <a:ext cx="6918480" cy="4470840"/>
            <a:chOff x="1139400" y="1219320"/>
            <a:chExt cx="6918480" cy="4470840"/>
          </a:xfrm>
        </p:grpSpPr>
        <p:sp>
          <p:nvSpPr>
            <p:cNvPr id="65" name=""/>
            <p:cNvSpPr/>
            <p:nvPr/>
          </p:nvSpPr>
          <p:spPr>
            <a:xfrm>
              <a:off x="2486520" y="2639160"/>
              <a:ext cx="162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39400" y="1231200"/>
              <a:ext cx="611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The OpenGL Utility Library (GLU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ntai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3520" y="1219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0000" y="1575360"/>
              <a:ext cx="602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veral routines that use OpenGL command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50360" y="1866240"/>
              <a:ext cx="501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 is considered part of your OpenGL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3000" y="2251080"/>
              <a:ext cx="564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The OpenGL Extension to the X Window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720" y="2585160"/>
              <a:ext cx="615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System (GLX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rovides a means of creating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0840" y="2585160"/>
              <a:ext cx="1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0000" y="2944800"/>
              <a:ext cx="546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penGL context and associating it with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54320" y="3232440"/>
              <a:ext cx="619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rawable window on a machine that uses the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08520" y="4167360"/>
              <a:ext cx="6122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OpenGL Auxiliary Library (AUX) or  Utilit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2160" y="4598640"/>
              <a:ext cx="209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Toolki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(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GLU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37280" y="4958280"/>
              <a:ext cx="5553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o make programming examples simpler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orks for X, Win, Apple, etc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40120" y="3663720"/>
              <a:ext cx="691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WG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for Windows;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AG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for Apple;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PG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for OS/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13364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O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Java OpenGL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362320"/>
            <a:ext cx="8381880" cy="26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/* Example 1.1.point.c: draw randomly generated poi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#include &lt;stdlib.h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#inclu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&lt;GL/glut.h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#define Height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#define Width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EB5C-B32D-4FD3-896E-800E44D19D21}" type="slidenum"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411480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06668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void display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x,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a. generate a random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x = rand() % Widt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y = rand() % Heigh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b. specify a drawing color: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Color3f(1, 0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c. specify to draw 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Begin(GL_POIN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Vertex2i 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d. start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Flus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532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414C-393F-4C74-8AB9-6823022B0B68}" type="slidenum"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30492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ic void reshape(int w, int 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e. specify the window’s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MatrixMode (GL_PROJE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LoadIdentity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Ortho(0, Width, 0, Height, -1.0, 1.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ain(int argc, char **arg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f. initialize a drawing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Init(&amp;argc, arg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InitDisplayMode(GLUT_SING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InitWindowSize(Width, He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CreateWindow("Example 1.1.point.c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g. specify event callback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ReshapeFunc(reshap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DisplayFunc(displ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IdleFunc(displ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MainLoo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C9BB-FAB7-479F-A8F3-5CA3454959BD}" type="slidenum"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net.java.games.jogl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java.awt.even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1_1_Point extends J1_0_Poin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Animator animator; // drive display() in a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J1_1_Poin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1. use super's constructor to initialize dr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2. add a listener for window 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WindowListener(new WindowAdapt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windowClosing(WindowEven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or.stop(); // stop an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152388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4640" y="228600"/>
            <a:ext cx="56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/* Example 1.1.point.c: revisit in JOGL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alled one-time for OpenGL 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init(GLDrawable drawabl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pecify a drawing color: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Color3f(1.0f, 0.0f, 0.0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3. clear the background to bl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ClearColor(0.0f, 0.0f, 0.0f, 0.0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Clear(GL.GL_COLOR_BUFFER_B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4. drive the display() in a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or = new Animator(canva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or.start(); // start animator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43828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isplay(GLDrawable drawabl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5. generate a random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x = Math.random()*WID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y = Math.random()*HE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pecify to draw a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Begin(GL.GL_POINT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Vertex2d(x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En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43828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1_1_Point f = new J1_1_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6. Add a title on the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setTitle("JOGL J1_1_Poin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setSize(WIDTH, HE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setVisible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243828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im X. Chen</cp:lastModifiedBy>
  <dcterms:modified xsi:type="dcterms:W3CDTF">2005-09-27T19:57:09Z</dcterms:modified>
  <cp:revision>102</cp:revision>
  <dc:subject/>
  <dc:title>Guide to Computer Graphics Tools</dc:title>
</cp:coreProperties>
</file>