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72288" cy="9158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0A57-832D-4933-A736-7682EBE7E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91D8-F60E-4394-8424-F4CC8C3F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3C7F-9DD2-4659-92EB-2E79C5792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153C-3587-4588-908B-06B74C738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5382-35F5-4A02-A268-BF2C729E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0409-B7F4-4F11-B241-488622FC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33AF-03BA-4EA3-8EBF-A46802B1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199A-347B-4D0E-9979-9CF00CBE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36C5-B16C-498F-AFA9-F5EABCC9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BB51-DEF9-4F3F-B0B4-7F5B93F9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0E29-5653-4AE8-812B-16C32386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63DD-E354-40B7-A8AF-63811D55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8A4A-1736-4329-9880-E17FC707E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font.exe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458200" y="5791320"/>
            <a:ext cx="457200" cy="838080"/>
            <a:chOff x="8458200" y="5791320"/>
            <a:chExt cx="457200" cy="838080"/>
          </a:xfrm>
        </p:grpSpPr>
        <p:sp>
          <p:nvSpPr>
            <p:cNvPr id="42" name="">
              <a:hlinkClick r:id="rId2"/>
            </p:cNvPr>
            <p:cNvSpPr/>
            <p:nvPr/>
          </p:nvSpPr>
          <p:spPr>
            <a:xfrm>
              <a:off x="84582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534520" y="5791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E41D827-9661-46FF-ACC8-8E49C2F1BAAD}" type="slidenum"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>
            <a:hlinkClick r:id="" action="ppaction://hlinkshowjump?jump=previousslide"/>
          </p:cNvPr>
          <p:cNvSpPr/>
          <p:nvPr/>
        </p:nvSpPr>
        <p:spPr>
          <a:xfrm>
            <a:off x="77724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01160" y="2552760"/>
            <a:ext cx="212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2400" y="3327480"/>
            <a:ext cx="58849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display li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s a group of OpenGL commands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ve been stored for later execu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4165560"/>
            <a:ext cx="56469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st OpenGL commands can be either stored in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play list or issued in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immediate m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62120" y="1270080"/>
            <a:ext cx="71848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ISPLAY LISTS IN OPENGL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8458200" y="5791320"/>
            <a:ext cx="457200" cy="838080"/>
            <a:chOff x="8458200" y="5791320"/>
            <a:chExt cx="457200" cy="838080"/>
          </a:xfrm>
        </p:grpSpPr>
        <p:sp>
          <p:nvSpPr>
            <p:cNvPr id="215" name="">
              <a:hlinkClick r:id="rId2"/>
            </p:cNvPr>
            <p:cNvSpPr/>
            <p:nvPr/>
          </p:nvSpPr>
          <p:spPr>
            <a:xfrm>
              <a:off x="84582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534520" y="5791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6E482BE-D4E1-4B27-88FF-82CEF8BF9488}" type="slidenum"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>
            <a:hlinkClick r:id="" action="ppaction://hlinkshowjump?jump=previousslide"/>
          </p:cNvPr>
          <p:cNvSpPr/>
          <p:nvPr/>
        </p:nvSpPr>
        <p:spPr>
          <a:xfrm>
            <a:off x="77724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00000" y="584280"/>
            <a:ext cx="3329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dita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isplay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48840" y="1246320"/>
            <a:ext cx="63738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editable display list:   To rende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ygon, call display list number 4. To edit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tex, you need only recreate the single 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 corresponding to that vert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93520" y="2855880"/>
            <a:ext cx="342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NewList(1,GL_COMPILE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69960" y="3084480"/>
            <a:ext cx="2606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Vertex3f(v1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89560" y="3313080"/>
            <a:ext cx="164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EndLis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93520" y="3541680"/>
            <a:ext cx="342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NewList(2,GL_COMPILE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69960" y="3772080"/>
            <a:ext cx="2606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Vertex3f(v2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9560" y="4000680"/>
            <a:ext cx="164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EndLis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93520" y="4229280"/>
            <a:ext cx="342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NewList(3,GL_COMPILE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69960" y="4457880"/>
            <a:ext cx="2606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Vertex3f(v3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49600" y="4686480"/>
            <a:ext cx="178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EndList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33480" y="5168880"/>
            <a:ext cx="329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NewList(4,GL_COMPIL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06840" y="5397480"/>
            <a:ext cx="3155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Begin(GL_POLYGO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7600" y="5626080"/>
            <a:ext cx="685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CallList(1); glCallList(2); glCallList(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3560" y="5856120"/>
            <a:ext cx="150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End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89560" y="6084720"/>
            <a:ext cx="164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EndLis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f1fe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947520" y="865080"/>
            <a:ext cx="3975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anaging Display List Ind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43160" y="2236680"/>
            <a:ext cx="329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stIndex=glGenLists(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71240" y="2604960"/>
            <a:ext cx="246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(listIndex!=0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17600" y="2833560"/>
            <a:ext cx="480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NewList(listIndex,GL_COMPIL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40000" y="3062160"/>
            <a:ext cx="12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54040" y="3292560"/>
            <a:ext cx="205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EndLis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76600" y="3521160"/>
            <a:ext cx="1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521560" y="5791320"/>
            <a:ext cx="62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5ADB-BD20-4B73-B2DD-30034B458B06}" type="slidenum"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>
            <a:off x="792468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307880" y="1476360"/>
            <a:ext cx="556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Indices can be automatically genera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rId1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762120" y="6858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Fonts and Display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14400" y="1371600"/>
            <a:ext cx="762012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nts are array of characters. Different font types are saved in the same bitmap arrays with different offset that is added to the ind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GenLists(GLsizei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 Allocat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umber of continuous list indices (</a:t>
            </a:r>
            <a:r>
              <a:rPr b="0" lang="en-US" sz="2000" spc="-1" strike="noStrike">
                <a:solidFill>
                  <a:srgbClr val="0c9b01"/>
                </a:solidFill>
                <a:latin typeface="Times New Roman"/>
              </a:rPr>
              <a:t>for different charact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)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It returns the index that marks the beginning of the list ind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ListBase(Glui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 the offset added to the display list indices in glCallLists below; it has no effect on glCallList. It is used as </a:t>
            </a:r>
            <a:r>
              <a:rPr b="0" lang="en-US" sz="2000" spc="-1" strike="noStrike">
                <a:solidFill>
                  <a:srgbClr val="0c9b01"/>
                </a:solidFill>
                <a:latin typeface="Times New Roman"/>
              </a:rPr>
              <a:t>an offset to different font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CallLists(GLsizei n, GLenum type, const GLvoid *lists); to call all display lists that </a:t>
            </a:r>
            <a:r>
              <a:rPr b="0" lang="en-US" sz="2000" spc="-1" strike="noStrike">
                <a:solidFill>
                  <a:srgbClr val="0c9b01"/>
                </a:solidFill>
                <a:latin typeface="Times New Roman"/>
              </a:rPr>
              <a:t>draw individual charact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is the # of characters to be drawn, type is GL_BYTE for the font, and lists is an array of character cod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rId2"/>
          </p:cNvPr>
          <p:cNvSpPr/>
          <p:nvPr/>
        </p:nvSpPr>
        <p:spPr>
          <a:xfrm>
            <a:off x="6781680" y="685800"/>
            <a:ext cx="129564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F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21560" y="5791320"/>
            <a:ext cx="62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DAEA-7F47-4846-8FF5-CB74B691E516}" type="slidenum"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previousslide"/>
          </p:cNvPr>
          <p:cNvSpPr/>
          <p:nvPr/>
        </p:nvSpPr>
        <p:spPr>
          <a:xfrm>
            <a:off x="792468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" action="ppaction://hlinkshowjump?jump=previousslide"/>
          </p:cNvPr>
          <p:cNvSpPr/>
          <p:nvPr/>
        </p:nvSpPr>
        <p:spPr>
          <a:xfrm>
            <a:off x="8534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8458200" y="5791320"/>
            <a:ext cx="457200" cy="838080"/>
            <a:chOff x="8458200" y="5791320"/>
            <a:chExt cx="457200" cy="838080"/>
          </a:xfrm>
        </p:grpSpPr>
        <p:sp>
          <p:nvSpPr>
            <p:cNvPr id="50" name="">
              <a:hlinkClick r:id="rId2"/>
            </p:cNvPr>
            <p:cNvSpPr/>
            <p:nvPr/>
          </p:nvSpPr>
          <p:spPr>
            <a:xfrm>
              <a:off x="84582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534520" y="5791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EF05C21-6451-4FBB-B995-0E8831253765}" type="slidenum"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77724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7200" y="1727280"/>
            <a:ext cx="695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example, suppose you want to draw a circle with 100 line seg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079360" y="2414520"/>
            <a:ext cx="2997360" cy="2563920"/>
            <a:chOff x="2079360" y="2414520"/>
            <a:chExt cx="2997360" cy="2563920"/>
          </a:xfrm>
        </p:grpSpPr>
        <p:sp>
          <p:nvSpPr>
            <p:cNvPr id="55" name=""/>
            <p:cNvSpPr/>
            <p:nvPr/>
          </p:nvSpPr>
          <p:spPr>
            <a:xfrm>
              <a:off x="2083320" y="2414520"/>
              <a:ext cx="1259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rawCircle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82600" y="2644560"/>
              <a:ext cx="1001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{  GLint i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80440" y="2873160"/>
              <a:ext cx="2236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Lfloat cosine, sine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81520" y="3101760"/>
              <a:ext cx="2742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lBegin(GL_POLYGON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82240" y="3330360"/>
              <a:ext cx="2202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or(i=0;i&lt;100;i++)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79720" y="3558960"/>
              <a:ext cx="2997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sine=cos(i*2*PI/100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80080" y="3787560"/>
              <a:ext cx="2754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ine=sin(i*2*PI/100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79360" y="4016160"/>
              <a:ext cx="2817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lVertex2f(cosine,sine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81880" y="4244760"/>
              <a:ext cx="43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82960" y="4475160"/>
              <a:ext cx="986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lEnd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84400" y="4703760"/>
              <a:ext cx="90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8458200" y="5791320"/>
            <a:ext cx="457200" cy="838080"/>
            <a:chOff x="8458200" y="5791320"/>
            <a:chExt cx="457200" cy="838080"/>
          </a:xfrm>
        </p:grpSpPr>
        <p:sp>
          <p:nvSpPr>
            <p:cNvPr id="67" name="">
              <a:hlinkClick r:id="rId2"/>
            </p:cNvPr>
            <p:cNvSpPr/>
            <p:nvPr/>
          </p:nvSpPr>
          <p:spPr>
            <a:xfrm>
              <a:off x="84582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534520" y="5791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DBAA29F-3A89-4A28-BD3C-BCECAE02D99D}" type="slidenum"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77724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127520" y="711360"/>
            <a:ext cx="6971400" cy="4881960"/>
            <a:chOff x="1127520" y="711360"/>
            <a:chExt cx="6971400" cy="4881960"/>
          </a:xfrm>
        </p:grpSpPr>
        <p:sp>
          <p:nvSpPr>
            <p:cNvPr id="71" name=""/>
            <p:cNvSpPr/>
            <p:nvPr/>
          </p:nvSpPr>
          <p:spPr>
            <a:xfrm>
              <a:off x="1127520" y="711360"/>
              <a:ext cx="6971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his method is terribly inefficient because the trigonometry ha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131480" y="939960"/>
              <a:ext cx="6311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o be performed each time the circle is rendered. Save 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37240" y="1168560"/>
              <a:ext cx="2416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ordinates in a tabl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41920" y="1625760"/>
              <a:ext cx="1401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rawCircl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41200" y="1855800"/>
              <a:ext cx="1113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{  GLint i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37600" y="2084400"/>
              <a:ext cx="24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Lfloat cosine, sine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31480" y="2313000"/>
              <a:ext cx="3722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tatic GLfloat circoords[100][2]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36880" y="2541600"/>
              <a:ext cx="2609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tatic GLint inited=0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39400" y="2770200"/>
              <a:ext cx="1658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f(inited==0)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40120" y="2998800"/>
              <a:ext cx="136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ited=1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35800" y="3227400"/>
              <a:ext cx="2454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or(i=0;i&lt;100;i++)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130040" y="3457440"/>
              <a:ext cx="4342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irccoords[i][0]=cos(i*2*PI/100.0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30040" y="3686040"/>
              <a:ext cx="431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irccoords[i][1]=sin(i*2*PI/100.0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42640" y="3914640"/>
              <a:ext cx="485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43360" y="4143240"/>
              <a:ext cx="293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37960" y="4371840"/>
              <a:ext cx="3051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lBegin(GL_POLYGON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36160" y="4600440"/>
              <a:ext cx="2353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or(i=0;i&lt;100;i++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31120" y="4829040"/>
              <a:ext cx="3990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lVertex2fv(&amp;circcoords[i][0]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0840" y="5057640"/>
              <a:ext cx="1099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lEnd(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4080" y="5288040"/>
              <a:ext cx="101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8458200" y="5791320"/>
            <a:ext cx="457200" cy="838080"/>
            <a:chOff x="8458200" y="5791320"/>
            <a:chExt cx="457200" cy="838080"/>
          </a:xfrm>
        </p:grpSpPr>
        <p:sp>
          <p:nvSpPr>
            <p:cNvPr id="92" name="">
              <a:hlinkClick r:id="rId2"/>
            </p:cNvPr>
            <p:cNvSpPr/>
            <p:nvPr/>
          </p:nvSpPr>
          <p:spPr>
            <a:xfrm>
              <a:off x="84582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534520" y="5791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8CF5A6C-5221-415E-9DFB-AAC1F21097D8}" type="slidenum"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>
            <a:hlinkClick r:id="" action="ppaction://hlinkshowjump?jump=previousslide"/>
          </p:cNvPr>
          <p:cNvSpPr/>
          <p:nvPr/>
        </p:nvSpPr>
        <p:spPr>
          <a:xfrm>
            <a:off x="77724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6800" y="533520"/>
            <a:ext cx="5409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aw the circle once and have OpenG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ember how to draw it for later u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138320" y="1447920"/>
            <a:ext cx="6448680" cy="4521240"/>
            <a:chOff x="1138320" y="1447920"/>
            <a:chExt cx="6448680" cy="4521240"/>
          </a:xfrm>
        </p:grpSpPr>
        <p:sp>
          <p:nvSpPr>
            <p:cNvPr id="97" name=""/>
            <p:cNvSpPr/>
            <p:nvPr/>
          </p:nvSpPr>
          <p:spPr>
            <a:xfrm>
              <a:off x="1144080" y="1447920"/>
              <a:ext cx="3074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#define MY_CIRCLE_LIST 1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43360" y="1906560"/>
              <a:ext cx="1407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uildCircle(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41920" y="2135160"/>
              <a:ext cx="1027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Lint i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40840" y="2363760"/>
              <a:ext cx="223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Lfloat cosine, sine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42280" y="2592360"/>
              <a:ext cx="29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60880" y="2592360"/>
              <a:ext cx="954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glNewL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41600" y="2592360"/>
              <a:ext cx="3899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MY_CIRCLE_LIST, GL_COMPILE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40480" y="2820960"/>
              <a:ext cx="297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lBegin(GL_POLYGON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40840" y="3049560"/>
              <a:ext cx="243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or(i=0;i&lt;100;i++)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39040" y="3278160"/>
              <a:ext cx="317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sine=cos(i*2*PI/100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39400" y="3508200"/>
              <a:ext cx="2928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ine=sin(i*2*PI/100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38320" y="3736800"/>
              <a:ext cx="299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lVertex2f(cosine,sine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41200" y="3965400"/>
              <a:ext cx="61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42280" y="4194000"/>
              <a:ext cx="1160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lEnd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42640" y="4422600"/>
              <a:ext cx="23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97880" y="4422600"/>
              <a:ext cx="92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glEndL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39720" y="4422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44440" y="4651200"/>
              <a:ext cx="90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29880" y="4930920"/>
              <a:ext cx="1905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MY_CIRCLE_L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69920" y="4930920"/>
              <a:ext cx="38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s an integer index that uniquely iden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28080" y="5159520"/>
              <a:ext cx="2106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ifies this display list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25200" y="5465880"/>
              <a:ext cx="5712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You can execute the display list later with this glCallList(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30240" y="5694480"/>
              <a:ext cx="4368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mand:  glCallList(MY_CIRCLE_LIST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8458200" y="5791320"/>
            <a:ext cx="457200" cy="838080"/>
            <a:chOff x="8458200" y="5791320"/>
            <a:chExt cx="457200" cy="838080"/>
          </a:xfrm>
        </p:grpSpPr>
        <p:sp>
          <p:nvSpPr>
            <p:cNvPr id="121" name="">
              <a:hlinkClick r:id="rId2"/>
            </p:cNvPr>
            <p:cNvSpPr/>
            <p:nvPr/>
          </p:nvSpPr>
          <p:spPr>
            <a:xfrm>
              <a:off x="84582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34520" y="5791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A54B30E-A477-4311-BD2E-E0464D224E55}" type="slidenum"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>
            <a:hlinkClick r:id="" action="ppaction://hlinkshowjump?jump=previousslide"/>
          </p:cNvPr>
          <p:cNvSpPr/>
          <p:nvPr/>
        </p:nvSpPr>
        <p:spPr>
          <a:xfrm>
            <a:off x="77724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35800" y="1204920"/>
            <a:ext cx="571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display list contains only OpenGL cal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36520" y="1828800"/>
            <a:ext cx="7350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ordinates and other variables are evaluated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pied into the display list when the list is compil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36880" y="2857680"/>
            <a:ext cx="675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can delete a display list and create a new on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 you can’t edit an existing display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31120" y="3875040"/>
            <a:ext cx="68374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play lists reside with the server an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ffic is minimized. Matrix computations, lig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s, textures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59560" y="5219640"/>
            <a:ext cx="6014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play List 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disadvantag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large storag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mutability of the contents of a display l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8458200" y="5791320"/>
            <a:ext cx="457200" cy="838080"/>
            <a:chOff x="8458200" y="5791320"/>
            <a:chExt cx="457200" cy="838080"/>
          </a:xfrm>
        </p:grpSpPr>
        <p:sp>
          <p:nvSpPr>
            <p:cNvPr id="130" name="">
              <a:hlinkClick r:id="rId2"/>
            </p:cNvPr>
            <p:cNvSpPr/>
            <p:nvPr/>
          </p:nvSpPr>
          <p:spPr>
            <a:xfrm>
              <a:off x="84582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34520" y="5791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BFA5CAD-4A3D-449B-9AD7-6EC4912BD988}" type="slidenum"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77724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39400" y="709560"/>
            <a:ext cx="374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04440" y="760320"/>
            <a:ext cx="631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LoadMatrix(M);  glCallList(1); are called all the time, it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37600" y="1014480"/>
            <a:ext cx="475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ter to store the matrix in the display lis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98200" y="1560600"/>
            <a:ext cx="311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NewList(1, GL_COMPILE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57560" y="1789200"/>
            <a:ext cx="467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LoadMatrix(M);  draw_some_geometry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98560" y="2019240"/>
            <a:ext cx="127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EndLis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99640" y="247644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allList(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84800" y="3301920"/>
            <a:ext cx="320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Use a Display List: list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37240" y="3938760"/>
            <a:ext cx="4196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NewList (listName, GL_COMPIL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136160" y="4167360"/>
            <a:ext cx="6861960" cy="1647720"/>
            <a:chOff x="1136160" y="4167360"/>
            <a:chExt cx="6861960" cy="1647720"/>
          </a:xfrm>
        </p:grpSpPr>
        <p:sp>
          <p:nvSpPr>
            <p:cNvPr id="143" name=""/>
            <p:cNvSpPr/>
            <p:nvPr/>
          </p:nvSpPr>
          <p:spPr>
            <a:xfrm>
              <a:off x="1136880" y="4167360"/>
              <a:ext cx="2952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glColor3f(1.0, 0.0, 0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36160" y="4395960"/>
              <a:ext cx="3411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Begin (GL_TRIANGLES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39400" y="4624560"/>
              <a:ext cx="685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Vertex2f(0.0,0.0);glVertex2f(1.0,0.0); glVertex2f (0.0, 1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36520" y="4853160"/>
              <a:ext cx="1442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End 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36880" y="5081760"/>
              <a:ext cx="330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glTranslatef (1.5, 0.0, 0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6880" y="5311800"/>
              <a:ext cx="1593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EndList 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36520" y="5540400"/>
              <a:ext cx="3130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ShadeModel (GL_FLAT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8458200" y="5791320"/>
            <a:ext cx="457200" cy="838080"/>
            <a:chOff x="8458200" y="5791320"/>
            <a:chExt cx="457200" cy="838080"/>
          </a:xfrm>
        </p:grpSpPr>
        <p:sp>
          <p:nvSpPr>
            <p:cNvPr id="151" name="">
              <a:hlinkClick r:id="rId2"/>
            </p:cNvPr>
            <p:cNvSpPr/>
            <p:nvPr/>
          </p:nvSpPr>
          <p:spPr>
            <a:xfrm>
              <a:off x="84582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534520" y="5791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B53DFD2-FFD0-46C0-AE9D-6F6591FF690C}" type="slidenum"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77724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135080" y="1077840"/>
            <a:ext cx="6115680" cy="2105280"/>
            <a:chOff x="1135080" y="1077840"/>
            <a:chExt cx="6115680" cy="2105280"/>
          </a:xfrm>
        </p:grpSpPr>
        <p:sp>
          <p:nvSpPr>
            <p:cNvPr id="155" name=""/>
            <p:cNvSpPr/>
            <p:nvPr/>
          </p:nvSpPr>
          <p:spPr>
            <a:xfrm>
              <a:off x="1137960" y="1077840"/>
              <a:ext cx="1946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oid display(voi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37240" y="1306440"/>
              <a:ext cx="122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{   GLuint i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38680" y="1535040"/>
              <a:ext cx="4142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Clear (GL_COLOR_BUFFER_BIT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37600" y="1763640"/>
              <a:ext cx="2696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Color3f(0.0, 1.0, 0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35080" y="1994040"/>
              <a:ext cx="24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or (i = 0; i &lt; 10; i++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37240" y="2222640"/>
              <a:ext cx="2786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CallList (listName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37600" y="2451240"/>
              <a:ext cx="6113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rawLine (); </a:t>
              </a: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/* color red; affected by the 10 translate *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36880" y="2679840"/>
              <a:ext cx="1364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Flush 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39760" y="2908440"/>
              <a:ext cx="89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530640" y="3543480"/>
            <a:ext cx="5150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nstants are stored and won’t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39760" y="4078440"/>
            <a:ext cx="39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float color_vector[3]={0.0,0.0,0.0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38320" y="4307040"/>
            <a:ext cx="29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NewList(1,GL_COMPIL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39400" y="4535640"/>
            <a:ext cx="2922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olor3fv(color_vecto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38320" y="4764240"/>
            <a:ext cx="127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EndLis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35440" y="5068800"/>
            <a:ext cx="719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or_vector[0]=1.0; // color will be black if you use the display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8458200" y="5791320"/>
            <a:ext cx="457200" cy="838080"/>
            <a:chOff x="8458200" y="5791320"/>
            <a:chExt cx="457200" cy="838080"/>
          </a:xfrm>
        </p:grpSpPr>
        <p:sp>
          <p:nvSpPr>
            <p:cNvPr id="171" name="">
              <a:hlinkClick r:id="rId2"/>
            </p:cNvPr>
            <p:cNvSpPr/>
            <p:nvPr/>
          </p:nvSpPr>
          <p:spPr>
            <a:xfrm>
              <a:off x="84582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34520" y="5791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B6C4111-E860-4EB3-ACB4-E53894A13229}" type="slidenum"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77724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05640" y="1370160"/>
            <a:ext cx="4905720" cy="3020760"/>
            <a:chOff x="305640" y="1370160"/>
            <a:chExt cx="4905720" cy="3020760"/>
          </a:xfrm>
        </p:grpSpPr>
        <p:sp>
          <p:nvSpPr>
            <p:cNvPr id="175" name=""/>
            <p:cNvSpPr/>
            <p:nvPr/>
          </p:nvSpPr>
          <p:spPr>
            <a:xfrm>
              <a:off x="776880" y="1370160"/>
              <a:ext cx="4389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NewList(listIndex,GL_COMPILE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78320" y="1598400"/>
              <a:ext cx="2469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PushMatrix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21520" y="1827000"/>
              <a:ext cx="4389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PushAttrib(GL_CURRENT_BIT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5640" y="2055600"/>
              <a:ext cx="4252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Color3f(1.0, 0.0, 0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0720" y="2286000"/>
              <a:ext cx="3566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Begin(GL_POLYGON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1000" y="2514600"/>
              <a:ext cx="397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Vertex2f(0.0,0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1000" y="2743200"/>
              <a:ext cx="397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Vertex2f(1.0,0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1000" y="2971800"/>
              <a:ext cx="397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Vertex2f(0.0,1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7080" y="3200400"/>
              <a:ext cx="1920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End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33440" y="3429000"/>
              <a:ext cx="397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Translatef(1.5,0.0,0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7800" y="3657600"/>
              <a:ext cx="233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PopAttrib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5960" y="3886200"/>
              <a:ext cx="233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PopMatrix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13320" y="4116240"/>
              <a:ext cx="1646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EndList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133280" y="4572000"/>
            <a:ext cx="7199280" cy="1979640"/>
            <a:chOff x="1133280" y="4572000"/>
            <a:chExt cx="7199280" cy="1979640"/>
          </a:xfrm>
        </p:grpSpPr>
        <p:sp>
          <p:nvSpPr>
            <p:cNvPr id="189" name=""/>
            <p:cNvSpPr/>
            <p:nvPr/>
          </p:nvSpPr>
          <p:spPr>
            <a:xfrm>
              <a:off x="1141560" y="4572000"/>
              <a:ext cx="7191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The code below would draw a green, untranslated line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1133280" y="5132160"/>
              <a:ext cx="6651000" cy="1419480"/>
              <a:chOff x="1133280" y="5132160"/>
              <a:chExt cx="6651000" cy="1419480"/>
            </a:xfrm>
          </p:grpSpPr>
          <p:sp>
            <p:nvSpPr>
              <p:cNvPr id="191" name=""/>
              <p:cNvSpPr/>
              <p:nvPr/>
            </p:nvSpPr>
            <p:spPr>
              <a:xfrm>
                <a:off x="1137960" y="5132160"/>
                <a:ext cx="1946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void display(void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137240" y="5360760"/>
                <a:ext cx="1148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{   GLint i;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137600" y="5589360"/>
                <a:ext cx="6646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lClear (GL_COLOR_BUFFER_BIT); glColor3f(0.0, 1.0, 0.0)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133280" y="5817960"/>
                <a:ext cx="4801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or (i = 0; i &lt; 10; i++)  glCallList (listIndex)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135080" y="6048360"/>
                <a:ext cx="2981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rawLine ();     glFlush ()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139760" y="6276960"/>
                <a:ext cx="89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}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504720" y="522360"/>
            <a:ext cx="8051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se glPushAttrib() to save a group of state variables and glPopAttrib() to re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8458200" y="5791320"/>
            <a:ext cx="457200" cy="838080"/>
            <a:chOff x="8458200" y="5791320"/>
            <a:chExt cx="457200" cy="838080"/>
          </a:xfrm>
        </p:grpSpPr>
        <p:sp>
          <p:nvSpPr>
            <p:cNvPr id="199" name="">
              <a:hlinkClick r:id="rId2"/>
            </p:cNvPr>
            <p:cNvSpPr/>
            <p:nvPr/>
          </p:nvSpPr>
          <p:spPr>
            <a:xfrm>
              <a:off x="84582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534520" y="5791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AB18406-5AC2-4FE6-B97D-062A844C63B8}" type="slidenum"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>
            <a:hlinkClick r:id="" action="ppaction://hlinkshowjump?jump=previousslide"/>
          </p:cNvPr>
          <p:cNvSpPr/>
          <p:nvPr/>
        </p:nvSpPr>
        <p:spPr>
          <a:xfrm>
            <a:off x="77724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1200" y="660240"/>
            <a:ext cx="3969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ierarchical Display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33640" y="1395360"/>
            <a:ext cx="6955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can create a hierarchical display list,  a displ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 that executes another display l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37240" y="2324160"/>
            <a:ext cx="6328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ful for an object that’s made of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are used more than o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937520" y="3441600"/>
            <a:ext cx="3789360" cy="1876320"/>
            <a:chOff x="1937520" y="3441600"/>
            <a:chExt cx="3789360" cy="1876320"/>
          </a:xfrm>
        </p:grpSpPr>
        <p:sp>
          <p:nvSpPr>
            <p:cNvPr id="206" name=""/>
            <p:cNvSpPr/>
            <p:nvPr/>
          </p:nvSpPr>
          <p:spPr>
            <a:xfrm>
              <a:off x="1937520" y="3441600"/>
              <a:ext cx="378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NewList(listIndex,GL_COMPILE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38240" y="3670200"/>
              <a:ext cx="2670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CallList(handlebars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38960" y="3898800"/>
              <a:ext cx="207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CallList(frame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38960" y="4127400"/>
              <a:ext cx="2795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Translatef(1.0,0.0,0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937880" y="4357440"/>
              <a:ext cx="208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CallList(wheel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38960" y="4586040"/>
              <a:ext cx="2795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Translatef(3.0,0.0,0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37880" y="4814640"/>
              <a:ext cx="208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CallList(wheel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38240" y="5043240"/>
              <a:ext cx="127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EndList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5T06:02:19Z</dcterms:created>
  <dc:creator>Jim X. Chen, Ph.D.</dc:creator>
  <dc:description/>
  <dc:language>en-US</dc:language>
  <cp:lastModifiedBy>jchen</cp:lastModifiedBy>
  <dcterms:modified xsi:type="dcterms:W3CDTF">2002-03-18T21:57:06Z</dcterms:modified>
  <cp:revision>48</cp:revision>
  <dc:subject/>
  <dc:title>Display list</dc:title>
</cp:coreProperties>
</file>