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image5.png" ContentType="image/png"/>
  <Override PartName="/ppt/media/CHIMES.WAV" ContentType="audio/x-wav"/>
  <Override PartName="/ppt/media/APPLAUSE.WAV" ContentType="audio/x-wav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24DE-CD53-481E-938E-30156459ACE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0F84-02C1-488A-9F6E-783FF0DA77C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3E8-09D4-4C0B-98B3-61B01427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1DB-DE2D-4725-98CF-CD83C191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D50-311C-4EE1-8914-BC98E1DC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08E-CB81-4027-83A2-FBBC757B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5E8-3BE8-443E-BD96-97B4A67B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6A7-01AE-46D3-AB6B-4800B78B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81D-7DEE-43BA-A8D7-7B182BC9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37B-E39E-47E1-8348-ACC43677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6AA-EB43-403D-97E9-D746FD84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391-D254-4D9E-9DFC-29ED0559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73B-1DA6-4B9C-83B3-ED749E1D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64B-D1F6-4E07-B4C9-7012C8A3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57DD-6091-4394-B809-2F33C12D90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3800520" y="6534000"/>
            <a:ext cx="1523880" cy="231120"/>
            <a:chOff x="3800520" y="6534000"/>
            <a:chExt cx="1523880" cy="231120"/>
          </a:xfrm>
        </p:grpSpPr>
        <p:sp>
          <p:nvSpPr>
            <p:cNvPr id="51" name="Text Box 4"/>
            <p:cNvSpPr/>
            <p:nvPr/>
          </p:nvSpPr>
          <p:spPr>
            <a:xfrm>
              <a:off x="3876840" y="653400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3800520" y="660996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5248440" y="660996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5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99C6CF1A-CAD6-4579-B3B5-35E0D0E2BFF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19"/>
          <p:cNvSpPr/>
          <p:nvPr/>
        </p:nvSpPr>
        <p:spPr>
          <a:xfrm>
            <a:off x="4560840" y="5149800"/>
            <a:ext cx="179064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4"/>
          <p:cNvSpPr/>
          <p:nvPr/>
        </p:nvSpPr>
        <p:spPr>
          <a:xfrm>
            <a:off x="1106640" y="5124600"/>
            <a:ext cx="179064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5"/>
          <p:cNvSpPr/>
          <p:nvPr/>
        </p:nvSpPr>
        <p:spPr>
          <a:xfrm>
            <a:off x="1876320" y="3240000"/>
            <a:ext cx="445788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Sphere, cylinder, and c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126"/>
          <p:cNvSpPr txBox="1"/>
          <p:nvPr/>
        </p:nvSpPr>
        <p:spPr>
          <a:xfrm>
            <a:off x="465120" y="754200"/>
            <a:ext cx="60483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D GEOMETRICAL TRANSFORMATIO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32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4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AFBA2C12-15E7-4FDA-B76A-27D3575D6251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0" descr="9"/>
          <p:cNvPicPr/>
          <p:nvPr/>
        </p:nvPicPr>
        <p:blipFill>
          <a:blip r:embed="rId1"/>
          <a:stretch/>
        </p:blipFill>
        <p:spPr>
          <a:xfrm>
            <a:off x="1128600" y="747720"/>
            <a:ext cx="6734160" cy="2486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2"/>
          <p:cNvSpPr/>
          <p:nvPr/>
        </p:nvSpPr>
        <p:spPr>
          <a:xfrm>
            <a:off x="495360" y="399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The Motion of a T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7296120" y="1104840"/>
            <a:ext cx="1333440" cy="520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imes New Roman"/>
                <a:ea typeface="SimSun"/>
              </a:rPr>
              <a:t>Generalized Solar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546120" y="3243240"/>
            <a:ext cx="7439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around y (b degree) so E is in xy plan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around z (a degree) so E will be in y ax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around y (m degree) so the moon will procee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around z (-a degree) so E will be in xy plan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around y (-b degree) so E returns to its original loc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b)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a)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)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4025880" y="2894040"/>
            <a:ext cx="3827520" cy="31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175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gl imple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85440"/>
            <a:ext cx="77724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PushMatri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earthAngle, 0.0f, 1.0f, 0.0f); // around the "sun"; proceed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tiltAngle, 0.0f, 0.0f, 1.0f); // tilt between the center and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0.0f, earthDistance, 0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PushMatri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Scalef(WIDTH/20, WIDTH/20, WIDTH/2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Spher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PopMatri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moonAngle, 0.0f, 1.0f, 0.0f); // rotating around the "eart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moonDistance, 0.0f, 0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Scalef(WIDTH/40, WIDTH/40, WIDTH/4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Spher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PopMatri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56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6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28F4F72E-ACA9-4549-B2BF-D3F5C6ECA73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8" descr="10"/>
          <p:cNvPicPr/>
          <p:nvPr/>
        </p:nvPicPr>
        <p:blipFill>
          <a:blip r:embed="rId1"/>
          <a:stretch/>
        </p:blipFill>
        <p:spPr>
          <a:xfrm>
            <a:off x="1546200" y="1940040"/>
            <a:ext cx="6000840" cy="28382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9"/>
          <p:cNvSpPr/>
          <p:nvPr/>
        </p:nvSpPr>
        <p:spPr>
          <a:xfrm>
            <a:off x="495360" y="399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The Motion of a T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811080" y="1200240"/>
            <a:ext cx="1333800" cy="520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imes New Roman"/>
                <a:ea typeface="SimSun"/>
              </a:rPr>
              <a:t>Generalized Solar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1468440" y="5353200"/>
            <a:ext cx="102852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imes New Roman"/>
                <a:ea typeface="SimSun"/>
              </a:rPr>
              <a:t>Cone 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3673440" y="5124600"/>
            <a:ext cx="876240" cy="733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imes New Roman"/>
                <a:ea typeface="SimSun"/>
              </a:rPr>
              <a:t>Cone and 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5996160" y="5184720"/>
            <a:ext cx="977760" cy="520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imes New Roman"/>
                <a:ea typeface="SimSun"/>
              </a:rPr>
              <a:t>Earth L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78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86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83B14348-66F3-405A-870D-A5AC936035C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522360" y="555480"/>
            <a:ext cx="688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SimSun"/>
              </a:rPr>
              <a:t>HW: 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17">
            <a:hlinkClick r:id="" action="ppaction://hlinkshowjump?jump=previousslide"/>
          </p:cNvPr>
          <p:cNvSpPr/>
          <p:nvPr/>
        </p:nvSpPr>
        <p:spPr>
          <a:xfrm>
            <a:off x="8020080" y="5581800"/>
            <a:ext cx="838080" cy="799920"/>
          </a:xfrm>
          <a:custGeom>
            <a:avLst/>
            <a:gdLst>
              <a:gd name="textAreaLeft" fmla="*/ 51840 w 838080"/>
              <a:gd name="textAreaRight" fmla="*/ 786240 w 83808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0" h="21600">
                <a:moveTo>
                  <a:pt x="4308" y="7493"/>
                </a:moveTo>
                <a:lnTo>
                  <a:pt x="7816" y="7493"/>
                </a:lnTo>
                <a:lnTo>
                  <a:pt x="7816" y="12828"/>
                </a:lnTo>
                <a:cubicBezTo>
                  <a:pt x="7816" y="13751"/>
                  <a:pt x="8617" y="14482"/>
                  <a:pt x="9653" y="14482"/>
                </a:cubicBezTo>
                <a:lnTo>
                  <a:pt x="11315" y="14482"/>
                </a:lnTo>
                <a:cubicBezTo>
                  <a:pt x="12351" y="14482"/>
                  <a:pt x="13151" y="13751"/>
                  <a:pt x="13151" y="12828"/>
                </a:cubicBezTo>
                <a:lnTo>
                  <a:pt x="13151" y="7493"/>
                </a:lnTo>
                <a:lnTo>
                  <a:pt x="11315" y="7493"/>
                </a:lnTo>
                <a:lnTo>
                  <a:pt x="14823" y="3985"/>
                </a:lnTo>
                <a:lnTo>
                  <a:pt x="18496" y="7493"/>
                </a:lnTo>
                <a:lnTo>
                  <a:pt x="16659" y="7493"/>
                </a:lnTo>
                <a:lnTo>
                  <a:pt x="16659" y="12828"/>
                </a:lnTo>
                <a:cubicBezTo>
                  <a:pt x="16659" y="15596"/>
                  <a:pt x="14083" y="18155"/>
                  <a:pt x="11315" y="18155"/>
                </a:cubicBezTo>
                <a:lnTo>
                  <a:pt x="9653" y="18155"/>
                </a:lnTo>
                <a:cubicBezTo>
                  <a:pt x="6885" y="18155"/>
                  <a:pt x="4308" y="15596"/>
                  <a:pt x="430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06520" y="1128600"/>
            <a:ext cx="76658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raw a cone, a cylinder, and a sphere that move and collide in the moon’s trajectory in the generalized solar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enter of a moon from (0, 0, 0) to (moonx, moony, moonz)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GetFloatv(GL.GL_MODELVIEW_MATRIX, curr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onx  = currM[1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ony  = currM[1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onz = currM[1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26"/>
          <p:cNvSpPr/>
          <p:nvPr/>
        </p:nvSpPr>
        <p:spPr>
          <a:xfrm flipV="1">
            <a:off x="6186600" y="3555720"/>
            <a:ext cx="0" cy="137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7"/>
          <p:cNvSpPr/>
          <p:nvPr/>
        </p:nvSpPr>
        <p:spPr>
          <a:xfrm>
            <a:off x="6172200" y="4948200"/>
            <a:ext cx="143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8"/>
          <p:cNvSpPr/>
          <p:nvPr/>
        </p:nvSpPr>
        <p:spPr>
          <a:xfrm flipH="1">
            <a:off x="5388120" y="4948200"/>
            <a:ext cx="78408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9"/>
          <p:cNvSpPr/>
          <p:nvPr/>
        </p:nvSpPr>
        <p:spPr>
          <a:xfrm flipV="1">
            <a:off x="6186600" y="2830320"/>
            <a:ext cx="25700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30"/>
          <p:cNvGrpSpPr/>
          <p:nvPr/>
        </p:nvGrpSpPr>
        <p:grpSpPr>
          <a:xfrm>
            <a:off x="6880320" y="2373120"/>
            <a:ext cx="2059200" cy="2317320"/>
            <a:chOff x="6880320" y="2373120"/>
            <a:chExt cx="2059200" cy="2317320"/>
          </a:xfrm>
        </p:grpSpPr>
        <p:sp>
          <p:nvSpPr>
            <p:cNvPr id="298" name="Oval 19"/>
            <p:cNvSpPr/>
            <p:nvPr/>
          </p:nvSpPr>
          <p:spPr>
            <a:xfrm rot="19298400">
              <a:off x="7525440" y="2358000"/>
              <a:ext cx="768600" cy="234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AutoShape 20"/>
            <p:cNvSpPr/>
            <p:nvPr/>
          </p:nvSpPr>
          <p:spPr>
            <a:xfrm rot="19298400">
              <a:off x="7431120" y="3377160"/>
              <a:ext cx="146160" cy="5065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 rot="19298400">
              <a:off x="7079760" y="2534040"/>
              <a:ext cx="167400" cy="522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22"/>
            <p:cNvSpPr/>
            <p:nvPr/>
          </p:nvSpPr>
          <p:spPr>
            <a:xfrm rot="19298400">
              <a:off x="8519040" y="3988800"/>
              <a:ext cx="135360" cy="601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 flipV="1">
              <a:off x="8552520" y="3952440"/>
              <a:ext cx="96120" cy="34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V="1">
              <a:off x="7272000" y="2710440"/>
              <a:ext cx="217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 flipH="1" flipV="1">
              <a:off x="7328160" y="3121200"/>
              <a:ext cx="101160" cy="2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Oval 31"/>
          <p:cNvSpPr/>
          <p:nvPr/>
        </p:nvSpPr>
        <p:spPr>
          <a:xfrm>
            <a:off x="5315040" y="3919680"/>
            <a:ext cx="1728720" cy="56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93640" y="3949560"/>
                <a:ext cx="449100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oon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oon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oon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71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7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1D4ED740-7F68-4D08-904F-B6302A150CB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712080" y="498600"/>
            <a:ext cx="47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HOMOGENEOUS COORDINAT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1140120" y="1171440"/>
            <a:ext cx="6799680" cy="4644720"/>
            <a:chOff x="1140120" y="1171440"/>
            <a:chExt cx="6799680" cy="4644720"/>
          </a:xfrm>
        </p:grpSpPr>
        <p:sp>
          <p:nvSpPr>
            <p:cNvPr id="86" name="Rectangle 20"/>
            <p:cNvSpPr/>
            <p:nvPr/>
          </p:nvSpPr>
          <p:spPr>
            <a:xfrm>
              <a:off x="1140120" y="1228680"/>
              <a:ext cx="4291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very column vector (x, y, z, 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5403600" y="1171440"/>
              <a:ext cx="22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5694480" y="1247760"/>
              <a:ext cx="166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presents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1824120" y="1533600"/>
              <a:ext cx="524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omogeneous vertex if at least one of i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1825920" y="1839960"/>
              <a:ext cx="269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lements is nonzero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1140480" y="2347920"/>
              <a:ext cx="586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f real number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is nonzero, then (x, y, z, 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26"/>
            <p:cNvSpPr/>
            <p:nvPr/>
          </p:nvSpPr>
          <p:spPr>
            <a:xfrm>
              <a:off x="6953040" y="2252520"/>
              <a:ext cx="22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27"/>
            <p:cNvSpPr/>
            <p:nvPr/>
          </p:nvSpPr>
          <p:spPr>
            <a:xfrm>
              <a:off x="1827720" y="2779560"/>
              <a:ext cx="205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nd (ax, ay, az, a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28"/>
            <p:cNvSpPr/>
            <p:nvPr/>
          </p:nvSpPr>
          <p:spPr>
            <a:xfrm>
              <a:off x="3860280" y="2665440"/>
              <a:ext cx="22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29"/>
            <p:cNvSpPr/>
            <p:nvPr/>
          </p:nvSpPr>
          <p:spPr>
            <a:xfrm>
              <a:off x="4087080" y="2728800"/>
              <a:ext cx="253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present the sa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30"/>
            <p:cNvSpPr/>
            <p:nvPr/>
          </p:nvSpPr>
          <p:spPr>
            <a:xfrm>
              <a:off x="1827360" y="3033720"/>
              <a:ext cx="2804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omogeneous vertex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31"/>
            <p:cNvSpPr/>
            <p:nvPr/>
          </p:nvSpPr>
          <p:spPr>
            <a:xfrm>
              <a:off x="1141560" y="3556080"/>
              <a:ext cx="4732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 3D euclidean space point (x, y, 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5835240" y="3460680"/>
              <a:ext cx="22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33"/>
            <p:cNvSpPr/>
            <p:nvPr/>
          </p:nvSpPr>
          <p:spPr>
            <a:xfrm>
              <a:off x="6044040" y="355608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ecom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34"/>
            <p:cNvSpPr/>
            <p:nvPr/>
          </p:nvSpPr>
          <p:spPr>
            <a:xfrm>
              <a:off x="1826280" y="3936960"/>
              <a:ext cx="4694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he homogeneous vertex (x, y, z, 1.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5"/>
            <p:cNvSpPr/>
            <p:nvPr/>
          </p:nvSpPr>
          <p:spPr>
            <a:xfrm>
              <a:off x="6489360" y="38736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36"/>
            <p:cNvSpPr/>
            <p:nvPr/>
          </p:nvSpPr>
          <p:spPr>
            <a:xfrm>
              <a:off x="1143000" y="4368960"/>
              <a:ext cx="568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s long as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w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is nonzero, the homogeneou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37"/>
            <p:cNvSpPr/>
            <p:nvPr/>
          </p:nvSpPr>
          <p:spPr>
            <a:xfrm>
              <a:off x="1827000" y="4762440"/>
              <a:ext cx="2212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ertex (x, y, z, 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38"/>
            <p:cNvSpPr/>
            <p:nvPr/>
          </p:nvSpPr>
          <p:spPr>
            <a:xfrm>
              <a:off x="4012920" y="46864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39"/>
            <p:cNvSpPr/>
            <p:nvPr/>
          </p:nvSpPr>
          <p:spPr>
            <a:xfrm>
              <a:off x="4177800" y="4762440"/>
              <a:ext cx="376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rresponds to the 3D poi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40"/>
            <p:cNvSpPr/>
            <p:nvPr/>
          </p:nvSpPr>
          <p:spPr>
            <a:xfrm>
              <a:off x="1827720" y="5143680"/>
              <a:ext cx="186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x/w, y/w, z/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1"/>
            <p:cNvSpPr/>
            <p:nvPr/>
          </p:nvSpPr>
          <p:spPr>
            <a:xfrm>
              <a:off x="3657240" y="50673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42"/>
            <p:cNvSpPr/>
            <p:nvPr/>
          </p:nvSpPr>
          <p:spPr>
            <a:xfrm>
              <a:off x="3795840" y="5143680"/>
              <a:ext cx="37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 If w = 0.0, it corresponds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43"/>
            <p:cNvSpPr/>
            <p:nvPr/>
          </p:nvSpPr>
          <p:spPr>
            <a:xfrm>
              <a:off x="1824480" y="5450040"/>
              <a:ext cx="4561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 direction or a “point at infinity.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13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21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5565A66E-2038-4373-A1EE-594E55779F7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633960" y="555480"/>
            <a:ext cx="50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MATRIX REPRESENTATION OF 3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1108800" y="993600"/>
            <a:ext cx="299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8"/>
              <p:cNvSpPr txBox="1"/>
              <p:nvPr/>
            </p:nvSpPr>
            <p:spPr>
              <a:xfrm>
                <a:off x="469800" y="1905120"/>
                <a:ext cx="231768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9"/>
              <p:cNvSpPr txBox="1"/>
              <p:nvPr/>
            </p:nvSpPr>
            <p:spPr>
              <a:xfrm>
                <a:off x="2909880" y="1866960"/>
                <a:ext cx="25812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50"/>
              <p:cNvSpPr txBox="1"/>
              <p:nvPr/>
            </p:nvSpPr>
            <p:spPr>
              <a:xfrm>
                <a:off x="5492880" y="1943280"/>
                <a:ext cx="33210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1"/>
              <p:cNvSpPr txBox="1"/>
              <p:nvPr/>
            </p:nvSpPr>
            <p:spPr>
              <a:xfrm>
                <a:off x="528480" y="3957480"/>
                <a:ext cx="334512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52"/>
              <p:cNvSpPr txBox="1"/>
              <p:nvPr/>
            </p:nvSpPr>
            <p:spPr>
              <a:xfrm>
                <a:off x="4292640" y="3995640"/>
                <a:ext cx="33210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54"/>
          <p:cNvSpPr/>
          <p:nvPr/>
        </p:nvSpPr>
        <p:spPr>
          <a:xfrm>
            <a:off x="6673680" y="838080"/>
            <a:ext cx="1924200" cy="642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OpenGL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37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4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2C5C1362-093F-4AF2-83BF-E760D4D7852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729360" y="498600"/>
            <a:ext cx="413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COMPOSITION OF 3D TR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1122120" y="105084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SimSun"/>
              </a:rPr>
              <a:t>Solar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1081080" y="5046840"/>
            <a:ext cx="718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earth rotate around the Sun; the moon around the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earth &amp; moon centers (E &amp; M) and rotation angles (e &amp; m) find the new locations of the earth and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3" descr="f5"/>
          <p:cNvPicPr/>
          <p:nvPr/>
        </p:nvPicPr>
        <p:blipFill>
          <a:blip r:embed="rId1"/>
          <a:stretch/>
        </p:blipFill>
        <p:spPr>
          <a:xfrm>
            <a:off x="1357200" y="1390680"/>
            <a:ext cx="7029720" cy="2114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5"/>
          <p:cNvSpPr/>
          <p:nvPr/>
        </p:nvSpPr>
        <p:spPr>
          <a:xfrm>
            <a:off x="7118280" y="847800"/>
            <a:ext cx="1181160" cy="82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SimSun"/>
              </a:rPr>
              <a:t>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954000" y="3487680"/>
            <a:ext cx="7516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yLoadIdentity(); transDraw(Sun); myRotatef(e)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(Ear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yTranslatev(E); myRotatef(m, 0, 1, 0); myTranslatev(-E); transDraw(Mo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4520" y="1947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Matrix and Pop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128600"/>
            <a:ext cx="8585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d drawRobo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PushMatri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alpha, 0.0f, 0.0f, 1.0f); // Rz(alpha) is on top of the matrix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Arm(O, 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A[0], A[1], 0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beta, 0.0f, 0.0f, 1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-A[0], -A[1], 0.0f); // Rz(alpha)T(A)Rz(beta)T(-A) is on 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Arm(A, 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B[0], B[1], 0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gama, 0.0f, 0.0f, 1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-B[0], -B[1], 0.0f);  // Rz(alpha)T(A)Rz(beta)T(-A) is on 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Arm(B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PopMatri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62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9AC2B402-EF8A-4E78-9E44-1C7D4D88479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3" descr=""/>
          <p:cNvPicPr/>
          <p:nvPr/>
        </p:nvPicPr>
        <p:blipFill>
          <a:blip r:embed="rId1"/>
          <a:stretch/>
        </p:blipFill>
        <p:spPr>
          <a:xfrm>
            <a:off x="257040" y="476280"/>
            <a:ext cx="8655120" cy="25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4" descr=""/>
          <p:cNvPicPr/>
          <p:nvPr/>
        </p:nvPicPr>
        <p:blipFill>
          <a:blip r:embed="rId2"/>
          <a:stretch/>
        </p:blipFill>
        <p:spPr>
          <a:xfrm>
            <a:off x="285840" y="3621240"/>
            <a:ext cx="852012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80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88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92EBC7F7-CA4C-41AB-8D05-4B9DE0E78E1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5" descr="f5"/>
          <p:cNvPicPr/>
          <p:nvPr/>
        </p:nvPicPr>
        <p:blipFill>
          <a:blip r:embed="rId1"/>
          <a:stretch/>
        </p:blipFill>
        <p:spPr>
          <a:xfrm>
            <a:off x="868320" y="671400"/>
            <a:ext cx="7029360" cy="21146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7"/>
          <p:cNvSpPr/>
          <p:nvPr/>
        </p:nvSpPr>
        <p:spPr>
          <a:xfrm>
            <a:off x="1000080" y="3116160"/>
            <a:ext cx="615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loat matrix[4][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ten, 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at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center of the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LoadIdentity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Rotatef(e,0,1,0); myTranslatef(E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Rotatef(m,0,1,0); myTranslatef(M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98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06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297C2294-FF18-4287-BF4B-74A2FC513D5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530640" y="468360"/>
            <a:ext cx="6400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SimSun"/>
              </a:rPr>
              <a:t>My Implementation with Push&amp;PopMatri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1023840" y="97776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loat matrix[DEPTH][4][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Push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Scalef(4,4,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Pop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LoadIdentity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Rotatef(e,0,1,0); myTranslatef(E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Push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Scalef(2,2,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Pop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Rotatef(m,0,1,0); myTranslatef(M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15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23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78C1C14F-E1D4-414E-AD26-A31E1F08DBF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418320" y="439560"/>
            <a:ext cx="429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SimSun"/>
              </a:rPr>
              <a:t>An OpenGL 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909720" y="949320"/>
            <a:ext cx="763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MatrixMode (GL_MODELVIE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LoadIdentity 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Push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Scalef(4,4,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phere(); //sun,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matrix multi. automatic in 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Pop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Rotatef(e,0,1,0); glTranslatef(E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Push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Scalef(2,2,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phere(); // earth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SimSun"/>
              </a:rPr>
              <a:t>transformation im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Pop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Rotatef(m,0,1,0); glTranslatef(M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phere(); //moon,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  <a:ea typeface="SimSun"/>
              </a:rPr>
              <a:t>agai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chen</cp:lastModifiedBy>
  <dcterms:modified xsi:type="dcterms:W3CDTF">2008-09-24T20:45:31Z</dcterms:modified>
  <cp:revision>226</cp:revision>
  <dc:subject/>
  <dc:title>Computer Graphics</dc:title>
</cp:coreProperties>
</file>