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0.png" ContentType="image/png"/>
  <Override PartName="/ppt/media/CHIMES.WAV" ContentType="audio/x-wav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72288" cy="9158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5F5-A7A4-4738-A009-737853C6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27A6-04E6-4A0E-97D4-00927C17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50BE-EA1F-4387-9F6F-E255251B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1BC-6606-4E8C-88E1-5D173FBF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974F-430F-4731-9E6E-07B6027E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6D54-0A5A-4647-BEAA-444D6B7A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D702-0D39-421D-B5C4-E91BDEA9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2947-6075-4302-9F32-008F3824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E662-6069-4D63-8862-5C950591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BBCD-95F7-4991-AEA1-D0E53673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586F-E903-44CC-8C54-04565F00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18A7-72B0-44E3-8FFD-204D5898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7BD5-FBA4-44CC-9BCA-0FAA3D35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BC6F-B398-4FAD-8D78-A15CEE98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C262-25CB-427E-B187-3B298015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1559-B044-4CEB-92C6-FAF16331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7BB1-B517-49F4-8E68-30C8813A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D02C-7DA3-4945-A1BE-D02229E1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1BEE-7C84-4356-A026-BD9FF469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94AA-783C-4E9D-B5CB-6C0BF6BC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DB3-6746-4C41-99AA-3728DE48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C70F-2F2B-4B8F-A5E3-18BF1A12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DB10-80B8-48D4-8A4E-FCA2A0B2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8ACB-4F26-46CB-80EA-2CF333DF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9156-BC79-476A-A6ED-4434C46DE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335F-E73D-416D-971A-59A026F95BD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4.5.image.exe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hyperlink" Target="file:///image.exe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wyatt100.freeserve.co.uk/download.htm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openil.sourceforge.net/" TargetMode="External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Drawf.exe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Drawf.exe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font.exe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84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A49915C-4249-43C3-A18B-85A8E922B502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533520" y="3049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666880" y="8380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1138320" y="1143000"/>
            <a:ext cx="6866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 far, we only concerned with the rendering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metric data. Two other important classes of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1516320" y="1905120"/>
            <a:ext cx="6086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Bitmaps, typically used for characters in fonts (bilev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513800" y="2362320"/>
            <a:ext cx="5595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Image data, which might have been scanned in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d (multiple-lev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WordArt 24"/>
          <p:cNvSpPr txBox="1"/>
          <p:nvPr/>
        </p:nvSpPr>
        <p:spPr>
          <a:xfrm>
            <a:off x="762120" y="838080"/>
            <a:ext cx="7162560" cy="381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XELS, BITMAPS, FONTS, AND IMAGES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6115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147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DD9D5E2-657D-4B1A-AC7E-8F85E1458C59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24"/>
          <p:cNvGrpSpPr/>
          <p:nvPr/>
        </p:nvGrpSpPr>
        <p:grpSpPr>
          <a:xfrm>
            <a:off x="532080" y="1143000"/>
            <a:ext cx="7138080" cy="4862520"/>
            <a:chOff x="532080" y="1143000"/>
            <a:chExt cx="7138080" cy="4862520"/>
          </a:xfrm>
        </p:grpSpPr>
        <p:sp>
          <p:nvSpPr>
            <p:cNvPr id="151" name="Rectangle 9"/>
            <p:cNvSpPr/>
            <p:nvPr/>
          </p:nvSpPr>
          <p:spPr>
            <a:xfrm>
              <a:off x="532080" y="1143000"/>
              <a:ext cx="1245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</a:rPr>
                <a:t>Imag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11"/>
            <p:cNvSpPr/>
            <p:nvPr/>
          </p:nvSpPr>
          <p:spPr>
            <a:xfrm>
              <a:off x="1136520" y="1801800"/>
              <a:ext cx="6360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 image can contain the complete (R, G, B, A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2"/>
            <p:cNvSpPr/>
            <p:nvPr/>
          </p:nvSpPr>
          <p:spPr>
            <a:xfrm>
              <a:off x="1823400" y="2106720"/>
              <a:ext cx="402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adruple stored at each pixe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3"/>
            <p:cNvSpPr/>
            <p:nvPr/>
          </p:nvSpPr>
          <p:spPr>
            <a:xfrm>
              <a:off x="1135440" y="2540160"/>
              <a:ext cx="6354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mages can come from several sources, such a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4"/>
            <p:cNvSpPr/>
            <p:nvPr/>
          </p:nvSpPr>
          <p:spPr>
            <a:xfrm>
              <a:off x="1815480" y="2971800"/>
              <a:ext cx="4897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·A photograph that’s digitized with a scan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5"/>
            <p:cNvSpPr/>
            <p:nvPr/>
          </p:nvSpPr>
          <p:spPr>
            <a:xfrm>
              <a:off x="1818360" y="3276720"/>
              <a:ext cx="534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·Generated on the screen by a graphics progra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2280600" y="3505320"/>
              <a:ext cx="5389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the graphics hardware and then read back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7"/>
            <p:cNvSpPr/>
            <p:nvPr/>
          </p:nvSpPr>
          <p:spPr>
            <a:xfrm>
              <a:off x="2281680" y="3733920"/>
              <a:ext cx="1437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xel by pix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1818360" y="4038480"/>
              <a:ext cx="5336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·A software program that generated the image i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9"/>
            <p:cNvSpPr/>
            <p:nvPr/>
          </p:nvSpPr>
          <p:spPr>
            <a:xfrm>
              <a:off x="2282040" y="4268880"/>
              <a:ext cx="2388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ory pixel by pix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1137600" y="4599000"/>
              <a:ext cx="59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 addition to simply being displayed on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1821960" y="4903920"/>
              <a:ext cx="571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reen, images can be used for texture ma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22"/>
            <p:cNvSpPr/>
            <p:nvPr/>
          </p:nvSpPr>
          <p:spPr>
            <a:xfrm>
              <a:off x="1139760" y="53355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23"/>
            <p:cNvSpPr/>
            <p:nvPr/>
          </p:nvSpPr>
          <p:spPr>
            <a:xfrm>
              <a:off x="1825560" y="56404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167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6B01D68-3765-43E8-8ED6-0D03DF5D9650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762480" y="609480"/>
            <a:ext cx="180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1523880" y="1143000"/>
            <a:ext cx="6019920" cy="48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id initImage(voi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_stars_imag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PixelStorei(GL_UNPACK_ALIGNMENT,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id drawImage(float x, float y, float 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RasterPos3f(x, y, z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DrawPixels(stars_pixels, stars_pixels, GL_LUMINAN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_UNSIGNED_BYTE, </a:t>
            </a: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stars_ima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id display(voi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drawImage(-2.4*Width, -2.4*Height, -2.0*Width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wRobot(A, B, C, alpha, beta, gama)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utSwapBuffers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3">
            <a:hlinkClick r:id="rId1"/>
          </p:cNvPr>
          <p:cNvSpPr/>
          <p:nvPr/>
        </p:nvSpPr>
        <p:spPr>
          <a:xfrm>
            <a:off x="7315200" y="4114800"/>
            <a:ext cx="114300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175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AE9DE27-7CFD-4987-BFDC-73146A7F6FFA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40"/>
          <p:cNvGrpSpPr/>
          <p:nvPr/>
        </p:nvGrpSpPr>
        <p:grpSpPr>
          <a:xfrm>
            <a:off x="837000" y="457200"/>
            <a:ext cx="6959880" cy="3425760"/>
            <a:chOff x="837000" y="457200"/>
            <a:chExt cx="6959880" cy="3425760"/>
          </a:xfrm>
        </p:grpSpPr>
        <p:sp>
          <p:nvSpPr>
            <p:cNvPr id="179" name="Rectangle 22"/>
            <p:cNvSpPr/>
            <p:nvPr/>
          </p:nvSpPr>
          <p:spPr>
            <a:xfrm>
              <a:off x="837000" y="457200"/>
              <a:ext cx="5514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Reading, Writing, and Copying Pixel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24"/>
            <p:cNvSpPr/>
            <p:nvPr/>
          </p:nvSpPr>
          <p:spPr>
            <a:xfrm>
              <a:off x="1136520" y="1116000"/>
              <a:ext cx="6183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penGL provides three basic commands tha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25"/>
            <p:cNvSpPr/>
            <p:nvPr/>
          </p:nvSpPr>
          <p:spPr>
            <a:xfrm>
              <a:off x="1875960" y="1420920"/>
              <a:ext cx="3087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nipulate image dat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6"/>
            <p:cNvSpPr/>
            <p:nvPr/>
          </p:nvSpPr>
          <p:spPr>
            <a:xfrm>
              <a:off x="1827720" y="1854360"/>
              <a:ext cx="579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·glReadPixels() -- Reads a rectangular array of pixel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27"/>
            <p:cNvSpPr/>
            <p:nvPr/>
          </p:nvSpPr>
          <p:spPr>
            <a:xfrm>
              <a:off x="2282040" y="2082960"/>
              <a:ext cx="473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om the framebuffer and stores the data i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28"/>
            <p:cNvSpPr/>
            <p:nvPr/>
          </p:nvSpPr>
          <p:spPr>
            <a:xfrm>
              <a:off x="2372400" y="2311560"/>
              <a:ext cx="2118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or memory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29"/>
            <p:cNvSpPr/>
            <p:nvPr/>
          </p:nvSpPr>
          <p:spPr>
            <a:xfrm>
              <a:off x="1827000" y="2616120"/>
              <a:ext cx="580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·glDrawPixels() -- Writes a rectangular array of pixel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30"/>
            <p:cNvSpPr/>
            <p:nvPr/>
          </p:nvSpPr>
          <p:spPr>
            <a:xfrm>
              <a:off x="2281680" y="2844720"/>
              <a:ext cx="529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o the framebuffer from data kept in process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31"/>
            <p:cNvSpPr/>
            <p:nvPr/>
          </p:nvSpPr>
          <p:spPr>
            <a:xfrm>
              <a:off x="2365560" y="3073320"/>
              <a:ext cx="1015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ory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32"/>
            <p:cNvSpPr/>
            <p:nvPr/>
          </p:nvSpPr>
          <p:spPr>
            <a:xfrm>
              <a:off x="1826640" y="3378240"/>
              <a:ext cx="5169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·glCopyPixels() -- Copies a rectangular array o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33"/>
            <p:cNvSpPr/>
            <p:nvPr/>
          </p:nvSpPr>
          <p:spPr>
            <a:xfrm>
              <a:off x="2280960" y="3608280"/>
              <a:ext cx="551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xels from one part of the framebuffer to another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0" name="Picture 26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4975200" cy="2057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2">
            <a:hlinkClick r:id="rId3"/>
          </p:cNvPr>
          <p:cNvSpPr/>
          <p:nvPr/>
        </p:nvSpPr>
        <p:spPr>
          <a:xfrm>
            <a:off x="7315200" y="4114800"/>
            <a:ext cx="114300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11F2-A671-4E49-B4BC-AC6402E50CE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PIs for Im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ReadPixel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ing pixel data from framebuffer to processor mem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DrawPixel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pixel data from processor memory to frame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CopyPixel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pying pixel data within the frame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2"/>
          <p:cNvGraphicFramePr/>
          <p:nvPr/>
        </p:nvGraphicFramePr>
        <p:xfrm>
          <a:off x="4343400" y="1828800"/>
          <a:ext cx="459900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28800"/>
                    <a:ext cx="45990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C3A3-1973-4435-9683-75EAA5DD4CA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aging Pip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263520" y="1981080"/>
          <a:ext cx="6670800" cy="46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520" y="1981080"/>
                    <a:ext cx="667080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3"/>
          <p:cNvGraphicFramePr/>
          <p:nvPr/>
        </p:nvGraphicFramePr>
        <p:xfrm>
          <a:off x="5105520" y="1066680"/>
          <a:ext cx="3886200" cy="310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066680"/>
                    <a:ext cx="3886200" cy="31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Freeform 5"/>
          <p:cNvSpPr/>
          <p:nvPr/>
        </p:nvSpPr>
        <p:spPr>
          <a:xfrm>
            <a:off x="961920" y="2867040"/>
            <a:ext cx="895320" cy="457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BCA8-F35E-4CD0-A194-C59FC438ACA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 Arg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ReadPixels (x, y, w, h, F, T, pt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,y: window coord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: pixe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: is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tr: pointer to imag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DrawPixels (w, h, F, T, pt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aw to current raste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CopyPixels (x, y, w, h, buff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ffer: GL_COLOR | GL_DEPTH | GL_ST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quivalent to: Read then Dr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1BF3-2840-4B6C-A034-9E6EDCDE643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3505320" y="228600"/>
            <a:ext cx="5064120" cy="662940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6"/>
          <p:cNvSpPr/>
          <p:nvPr/>
        </p:nvSpPr>
        <p:spPr>
          <a:xfrm>
            <a:off x="533520" y="2209680"/>
            <a:ext cx="2286000" cy="914400"/>
          </a:xfrm>
          <a:prstGeom prst="cloudCallout">
            <a:avLst>
              <a:gd name="adj1" fmla="val 78125"/>
              <a:gd name="adj2" fmla="val -1753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55: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304920" y="3200400"/>
            <a:ext cx="2911320" cy="947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e also image.c for CopyPix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2"/>
          <a:stretch/>
        </p:blipFill>
        <p:spPr>
          <a:xfrm>
            <a:off x="533520" y="4267080"/>
            <a:ext cx="2409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E73D-2120-4B01-95D5-AC9396639C8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re on glCopyPix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e that there's no need for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m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arameter f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CopyPixels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ince the data is never copied into processor mem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read source buffer and the destination buffer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CopyPixels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 specifi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ReadBuffer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DrawBuffer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spec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faul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gle-buffer: GL_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uble-buffered: GL_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6745-EB89-42C3-8042-58B83F9795E9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1033" descr=""/>
          <p:cNvPicPr/>
          <p:nvPr/>
        </p:nvPicPr>
        <p:blipFill>
          <a:blip r:embed="rId1"/>
          <a:stretch/>
        </p:blipFill>
        <p:spPr>
          <a:xfrm>
            <a:off x="704880" y="1639800"/>
            <a:ext cx="5238720" cy="18478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 image.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30"/>
          <p:cNvSpPr/>
          <p:nvPr/>
        </p:nvSpPr>
        <p:spPr>
          <a:xfrm>
            <a:off x="628560" y="3691080"/>
            <a:ext cx="7537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py the lower left corner to the CRP (where the mouse 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single-buffer version, only GL_FRONT is inv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le motion is in action, display is not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a1502"/>
                </a:solidFill>
                <a:latin typeface="Times New Roman"/>
                <a:ea typeface="新細明體"/>
              </a:rPr>
              <a:t>Double-buff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ersion: [from the API doc] glutSwapBuffers promotes the contents of the back buffer to become the contents of the front buffer. The contents of the back buffer then become undefined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lity 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 two have same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image.avi" descr=""/>
          <p:cNvPicPr/>
          <p:nvPr/>
        </p:nvPicPr>
        <p:blipFill>
          <a:blip r:embed="rId6"/>
          <a:stretch/>
        </p:blipFill>
        <p:spPr>
          <a:xfrm>
            <a:off x="6089760" y="196920"/>
            <a:ext cx="28098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229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66CA701-A7C3-4F75-A023-2FB5A361BE2E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019640" cy="18428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6"/>
          <p:cNvSpPr/>
          <p:nvPr/>
        </p:nvSpPr>
        <p:spPr>
          <a:xfrm>
            <a:off x="914400" y="6858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g 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27"/>
          <p:cNvSpPr/>
          <p:nvPr/>
        </p:nvSpPr>
        <p:spPr>
          <a:xfrm>
            <a:off x="91440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CopyPixel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1371600" y="3657600"/>
            <a:ext cx="5576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0E43-0DA0-4465-A600-E2476A89666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urrent Raster Position (CR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GL mainta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ster 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3D-position in world coord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i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RasterPos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y the object coordinates (as in glVertex); transformed by MODELVIEW &amp; PROJECTION, passed to the clipping st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position is not culled, raster position is updated; otherwise, it is not vali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Bitma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GetFloatv(GL_CURRENT_RASTER_POSITION, fptr) to obtain the C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a15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1502"/>
                </a:solidFill>
                <a:latin typeface="Times New Roman"/>
                <a:ea typeface="新細明體"/>
              </a:rPr>
              <a:t>glGetBooleanv (GL_CURRENT_RASTER_POSITION_VALID, &amp;boolvar) to test validity of C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238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599BBB5-9E41-4524-B4B7-064DE3F49F4C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26"/>
          <p:cNvSpPr/>
          <p:nvPr/>
        </p:nvSpPr>
        <p:spPr>
          <a:xfrm>
            <a:off x="914400" y="6858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Bitmap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1219320" y="2743200"/>
            <a:ext cx="68562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245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2026EEC-0945-43E5-8BD0-397DBBE1A82F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Group 41"/>
          <p:cNvGrpSpPr/>
          <p:nvPr/>
        </p:nvGrpSpPr>
        <p:grpSpPr>
          <a:xfrm>
            <a:off x="685800" y="457200"/>
            <a:ext cx="7300800" cy="5195160"/>
            <a:chOff x="685800" y="457200"/>
            <a:chExt cx="7300800" cy="5195160"/>
          </a:xfrm>
        </p:grpSpPr>
        <p:sp>
          <p:nvSpPr>
            <p:cNvPr id="249" name="Rectangle 25"/>
            <p:cNvSpPr/>
            <p:nvPr/>
          </p:nvSpPr>
          <p:spPr>
            <a:xfrm>
              <a:off x="685800" y="457200"/>
              <a:ext cx="6640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Storing, Transforming, and Mapping Pixel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7"/>
            <p:cNvSpPr/>
            <p:nvPr/>
          </p:nvSpPr>
          <p:spPr>
            <a:xfrm>
              <a:off x="1137240" y="1116000"/>
              <a:ext cx="6367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 image stored in memory has between 1 or 4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8"/>
            <p:cNvSpPr/>
            <p:nvPr/>
          </p:nvSpPr>
          <p:spPr>
            <a:xfrm>
              <a:off x="1874520" y="1420920"/>
              <a:ext cx="6112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hunks of data, called elements, for each pixel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9"/>
            <p:cNvSpPr/>
            <p:nvPr/>
          </p:nvSpPr>
          <p:spPr>
            <a:xfrm>
              <a:off x="1135800" y="1854360"/>
              <a:ext cx="648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data might consist of just the color index 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30"/>
            <p:cNvSpPr/>
            <p:nvPr/>
          </p:nvSpPr>
          <p:spPr>
            <a:xfrm>
              <a:off x="1865880" y="2158920"/>
              <a:ext cx="5354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luminance, or the RGBA compon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31"/>
            <p:cNvSpPr/>
            <p:nvPr/>
          </p:nvSpPr>
          <p:spPr>
            <a:xfrm>
              <a:off x="1136160" y="2590920"/>
              <a:ext cx="5895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possible arrangements of pixel data, 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32"/>
            <p:cNvSpPr/>
            <p:nvPr/>
          </p:nvSpPr>
          <p:spPr>
            <a:xfrm>
              <a:off x="1881000" y="2882880"/>
              <a:ext cx="96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orma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33"/>
            <p:cNvSpPr/>
            <p:nvPr/>
          </p:nvSpPr>
          <p:spPr>
            <a:xfrm>
              <a:off x="2833920" y="2895480"/>
              <a:ext cx="468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determine the number of element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34"/>
            <p:cNvSpPr/>
            <p:nvPr/>
          </p:nvSpPr>
          <p:spPr>
            <a:xfrm>
              <a:off x="1892520" y="3200400"/>
              <a:ext cx="4806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ored for each pixel and their ord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35"/>
            <p:cNvSpPr/>
            <p:nvPr/>
          </p:nvSpPr>
          <p:spPr>
            <a:xfrm>
              <a:off x="1135080" y="3633840"/>
              <a:ext cx="575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mage data is typically stored in process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36"/>
            <p:cNvSpPr/>
            <p:nvPr/>
          </p:nvSpPr>
          <p:spPr>
            <a:xfrm>
              <a:off x="1884600" y="3938760"/>
              <a:ext cx="548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mory in rectangular 2-D or 3-D array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37"/>
            <p:cNvSpPr/>
            <p:nvPr/>
          </p:nvSpPr>
          <p:spPr>
            <a:xfrm>
              <a:off x="1134720" y="4370400"/>
              <a:ext cx="6422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s image data is transferred from memory in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38"/>
            <p:cNvSpPr/>
            <p:nvPr/>
          </p:nvSpPr>
          <p:spPr>
            <a:xfrm>
              <a:off x="1819800" y="4675320"/>
              <a:ext cx="6054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ramebuffer, or from the framebuffer in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39"/>
            <p:cNvSpPr/>
            <p:nvPr/>
          </p:nvSpPr>
          <p:spPr>
            <a:xfrm>
              <a:off x="1865160" y="4979880"/>
              <a:ext cx="515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mory, OpenGL can perform sever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40"/>
            <p:cNvSpPr/>
            <p:nvPr/>
          </p:nvSpPr>
          <p:spPr>
            <a:xfrm>
              <a:off x="1887480" y="5286240"/>
              <a:ext cx="2187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perations on it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2338-BBFE-47F2-89EE-C48319E19229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xel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2062080" y="1357200"/>
            <a:ext cx="6096240" cy="54324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09520" y="5022720"/>
            <a:ext cx="14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REY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1614600" y="5200560"/>
            <a:ext cx="371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89080" y="536112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REY SCALE with alp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638360" y="5538960"/>
            <a:ext cx="371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A385-7CBC-4B26-99A5-8B72C9CAC9D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23924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278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F2E9B27-3A18-405B-A920-A7667A7380DD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3"/>
          <p:cNvSpPr/>
          <p:nvPr/>
        </p:nvSpPr>
        <p:spPr>
          <a:xfrm>
            <a:off x="910440" y="533520"/>
            <a:ext cx="427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ontrolling Pixel-Storag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5"/>
          <p:cNvSpPr/>
          <p:nvPr/>
        </p:nvSpPr>
        <p:spPr>
          <a:xfrm>
            <a:off x="492840" y="1065240"/>
            <a:ext cx="644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void glPixelStore{if}(GLenum pname, TYPE par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26"/>
          <p:cNvSpPr/>
          <p:nvPr/>
        </p:nvSpPr>
        <p:spPr>
          <a:xfrm>
            <a:off x="1828800" y="1371600"/>
            <a:ext cx="317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s the pixel-storage m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30"/>
          <p:cNvSpPr/>
          <p:nvPr/>
        </p:nvSpPr>
        <p:spPr>
          <a:xfrm>
            <a:off x="1825200" y="1828800"/>
            <a:ext cx="548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L_UNPACK* parameters control how data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1"/>
          <p:cNvSpPr/>
          <p:nvPr/>
        </p:nvSpPr>
        <p:spPr>
          <a:xfrm>
            <a:off x="1825560" y="2087640"/>
            <a:ext cx="626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packed from memory into framebuffer; The GL_PACK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2"/>
          <p:cNvSpPr/>
          <p:nvPr/>
        </p:nvSpPr>
        <p:spPr>
          <a:xfrm>
            <a:off x="1824480" y="2316240"/>
            <a:ext cx="579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s control how data is packed into memo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33"/>
          <p:cNvSpPr/>
          <p:nvPr/>
        </p:nvSpPr>
        <p:spPr>
          <a:xfrm>
            <a:off x="1179000" y="3060720"/>
            <a:ext cx="167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ameter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4"/>
          <p:cNvSpPr/>
          <p:nvPr/>
        </p:nvSpPr>
        <p:spPr>
          <a:xfrm>
            <a:off x="1139760" y="3276720"/>
            <a:ext cx="1663920" cy="25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35"/>
          <p:cNvSpPr/>
          <p:nvPr/>
        </p:nvSpPr>
        <p:spPr>
          <a:xfrm>
            <a:off x="3469680" y="306072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6"/>
          <p:cNvSpPr/>
          <p:nvPr/>
        </p:nvSpPr>
        <p:spPr>
          <a:xfrm>
            <a:off x="3425760" y="3276720"/>
            <a:ext cx="482760" cy="25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37"/>
          <p:cNvSpPr/>
          <p:nvPr/>
        </p:nvSpPr>
        <p:spPr>
          <a:xfrm>
            <a:off x="4393080" y="3060720"/>
            <a:ext cx="1227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38"/>
          <p:cNvSpPr/>
          <p:nvPr/>
        </p:nvSpPr>
        <p:spPr>
          <a:xfrm>
            <a:off x="4340160" y="3276720"/>
            <a:ext cx="1206720" cy="25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39"/>
          <p:cNvSpPr/>
          <p:nvPr/>
        </p:nvSpPr>
        <p:spPr>
          <a:xfrm>
            <a:off x="6225120" y="3060720"/>
            <a:ext cx="127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lid Ran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40"/>
          <p:cNvSpPr/>
          <p:nvPr/>
        </p:nvSpPr>
        <p:spPr>
          <a:xfrm>
            <a:off x="6168960" y="3276720"/>
            <a:ext cx="1244520" cy="25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41"/>
          <p:cNvSpPr/>
          <p:nvPr/>
        </p:nvSpPr>
        <p:spPr>
          <a:xfrm>
            <a:off x="1146960" y="3289320"/>
            <a:ext cx="211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UNPACK_SWAP_BYT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2"/>
          <p:cNvSpPr/>
          <p:nvPr/>
        </p:nvSpPr>
        <p:spPr>
          <a:xfrm>
            <a:off x="1148760" y="3443400"/>
            <a:ext cx="182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PACK_SWAP_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3"/>
          <p:cNvSpPr/>
          <p:nvPr/>
        </p:nvSpPr>
        <p:spPr>
          <a:xfrm>
            <a:off x="3424680" y="3443400"/>
            <a:ext cx="73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bool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44"/>
          <p:cNvSpPr/>
          <p:nvPr/>
        </p:nvSpPr>
        <p:spPr>
          <a:xfrm>
            <a:off x="4817520" y="3443400"/>
            <a:ext cx="49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45"/>
          <p:cNvSpPr/>
          <p:nvPr/>
        </p:nvSpPr>
        <p:spPr>
          <a:xfrm>
            <a:off x="6171840" y="3443400"/>
            <a:ext cx="95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UE/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46"/>
          <p:cNvSpPr/>
          <p:nvPr/>
        </p:nvSpPr>
        <p:spPr>
          <a:xfrm>
            <a:off x="1153080" y="3747960"/>
            <a:ext cx="191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UNPACK_LSB_FIRS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47"/>
          <p:cNvSpPr/>
          <p:nvPr/>
        </p:nvSpPr>
        <p:spPr>
          <a:xfrm>
            <a:off x="1154880" y="3900600"/>
            <a:ext cx="162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PACK_LSB_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3424680" y="3900600"/>
            <a:ext cx="73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bool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49"/>
          <p:cNvSpPr/>
          <p:nvPr/>
        </p:nvSpPr>
        <p:spPr>
          <a:xfrm>
            <a:off x="4817520" y="3900600"/>
            <a:ext cx="49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50"/>
          <p:cNvSpPr/>
          <p:nvPr/>
        </p:nvSpPr>
        <p:spPr>
          <a:xfrm>
            <a:off x="6171840" y="3900600"/>
            <a:ext cx="95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UE/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1"/>
          <p:cNvSpPr/>
          <p:nvPr/>
        </p:nvSpPr>
        <p:spPr>
          <a:xfrm>
            <a:off x="1132200" y="4205160"/>
            <a:ext cx="221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UNPACK_ROW_LENGTH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52"/>
          <p:cNvSpPr/>
          <p:nvPr/>
        </p:nvSpPr>
        <p:spPr>
          <a:xfrm>
            <a:off x="1134360" y="4357800"/>
            <a:ext cx="191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PACK_ROW_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53"/>
          <p:cNvSpPr/>
          <p:nvPr/>
        </p:nvSpPr>
        <p:spPr>
          <a:xfrm>
            <a:off x="3882240" y="4357800"/>
            <a:ext cx="39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54"/>
          <p:cNvSpPr/>
          <p:nvPr/>
        </p:nvSpPr>
        <p:spPr>
          <a:xfrm>
            <a:off x="4828680" y="43578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5"/>
          <p:cNvSpPr/>
          <p:nvPr/>
        </p:nvSpPr>
        <p:spPr>
          <a:xfrm>
            <a:off x="5770800" y="4357800"/>
            <a:ext cx="159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y nonnegative 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56"/>
          <p:cNvSpPr/>
          <p:nvPr/>
        </p:nvSpPr>
        <p:spPr>
          <a:xfrm>
            <a:off x="1155600" y="4662360"/>
            <a:ext cx="200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UNPACK_SKIP_ROW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57"/>
          <p:cNvSpPr/>
          <p:nvPr/>
        </p:nvSpPr>
        <p:spPr>
          <a:xfrm>
            <a:off x="1157400" y="4815000"/>
            <a:ext cx="170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PACK_SKIP_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8"/>
          <p:cNvSpPr/>
          <p:nvPr/>
        </p:nvSpPr>
        <p:spPr>
          <a:xfrm>
            <a:off x="3882240" y="4815000"/>
            <a:ext cx="39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9"/>
          <p:cNvSpPr/>
          <p:nvPr/>
        </p:nvSpPr>
        <p:spPr>
          <a:xfrm>
            <a:off x="4828680" y="48150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0"/>
          <p:cNvSpPr/>
          <p:nvPr/>
        </p:nvSpPr>
        <p:spPr>
          <a:xfrm>
            <a:off x="5770800" y="4815000"/>
            <a:ext cx="159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y nonnegative 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61"/>
          <p:cNvSpPr/>
          <p:nvPr/>
        </p:nvSpPr>
        <p:spPr>
          <a:xfrm>
            <a:off x="1138680" y="5119560"/>
            <a:ext cx="208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UNPACK_SKIP_PIXEL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2"/>
          <p:cNvSpPr/>
          <p:nvPr/>
        </p:nvSpPr>
        <p:spPr>
          <a:xfrm>
            <a:off x="1140120" y="5273640"/>
            <a:ext cx="178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PACK_SKIP_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63"/>
          <p:cNvSpPr/>
          <p:nvPr/>
        </p:nvSpPr>
        <p:spPr>
          <a:xfrm>
            <a:off x="3882240" y="5273640"/>
            <a:ext cx="39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64"/>
          <p:cNvSpPr/>
          <p:nvPr/>
        </p:nvSpPr>
        <p:spPr>
          <a:xfrm>
            <a:off x="4828680" y="52736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65"/>
          <p:cNvSpPr/>
          <p:nvPr/>
        </p:nvSpPr>
        <p:spPr>
          <a:xfrm>
            <a:off x="5770800" y="5273640"/>
            <a:ext cx="159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y nonnegative 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66"/>
          <p:cNvSpPr/>
          <p:nvPr/>
        </p:nvSpPr>
        <p:spPr>
          <a:xfrm>
            <a:off x="1133280" y="5578560"/>
            <a:ext cx="205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UNPACK_ALIGNME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67"/>
          <p:cNvSpPr/>
          <p:nvPr/>
        </p:nvSpPr>
        <p:spPr>
          <a:xfrm>
            <a:off x="1135080" y="5730840"/>
            <a:ext cx="176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PACK_ALIG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68"/>
          <p:cNvSpPr/>
          <p:nvPr/>
        </p:nvSpPr>
        <p:spPr>
          <a:xfrm>
            <a:off x="3882240" y="5730840"/>
            <a:ext cx="39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69"/>
          <p:cNvSpPr/>
          <p:nvPr/>
        </p:nvSpPr>
        <p:spPr>
          <a:xfrm>
            <a:off x="4828680" y="57308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70"/>
          <p:cNvSpPr/>
          <p:nvPr/>
        </p:nvSpPr>
        <p:spPr>
          <a:xfrm>
            <a:off x="5743080" y="5730840"/>
            <a:ext cx="53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, 2, 4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3E21-C7A9-46CB-9D9A-2FB7BC199924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aging Pipeline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PixelStore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trolling Pixel-Storage M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PixelStorei(GL_UNPACK_ALIGNMENT, 1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cking and unpacking refer to the way that pixel data is written to and read from processor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lls OpenGL not to skip bytes at the end of a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C7C0-34DE-442E-B13D-00B5ACF23B6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xelStorei(GL_UNPACK_ALIGNMENT, 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s the alignment requirements for the start of each pixel row in memory. The allowable value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 (byte-alignment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 (rows aligned to even-numbered bytes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4 (word-alignment [default])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8 (rows start on double-word boundarie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028"/>
          <p:cNvSpPr/>
          <p:nvPr/>
        </p:nvSpPr>
        <p:spPr>
          <a:xfrm>
            <a:off x="1509120" y="5470560"/>
            <a:ext cx="2010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te:8-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:16-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uble-word:32-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4CED-D676-490C-92CC-1256E4E0938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2"/>
          <p:cNvSpPr/>
          <p:nvPr/>
        </p:nvSpPr>
        <p:spPr>
          <a:xfrm>
            <a:off x="609480" y="3048120"/>
            <a:ext cx="600120" cy="90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14"/>
          <p:cNvSpPr/>
          <p:nvPr/>
        </p:nvSpPr>
        <p:spPr>
          <a:xfrm>
            <a:off x="1209600" y="3048120"/>
            <a:ext cx="619200" cy="90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15"/>
          <p:cNvSpPr/>
          <p:nvPr/>
        </p:nvSpPr>
        <p:spPr>
          <a:xfrm>
            <a:off x="1828800" y="3048120"/>
            <a:ext cx="619200" cy="90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16"/>
          <p:cNvSpPr/>
          <p:nvPr/>
        </p:nvSpPr>
        <p:spPr>
          <a:xfrm>
            <a:off x="2448000" y="3048120"/>
            <a:ext cx="619200" cy="90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17"/>
          <p:cNvSpPr/>
          <p:nvPr/>
        </p:nvSpPr>
        <p:spPr>
          <a:xfrm>
            <a:off x="3067200" y="3048120"/>
            <a:ext cx="618840" cy="90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18"/>
          <p:cNvSpPr/>
          <p:nvPr/>
        </p:nvSpPr>
        <p:spPr>
          <a:xfrm>
            <a:off x="3686040" y="3048120"/>
            <a:ext cx="619200" cy="90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19"/>
          <p:cNvSpPr/>
          <p:nvPr/>
        </p:nvSpPr>
        <p:spPr>
          <a:xfrm>
            <a:off x="4305240" y="3048120"/>
            <a:ext cx="619200" cy="90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20"/>
          <p:cNvSpPr/>
          <p:nvPr/>
        </p:nvSpPr>
        <p:spPr>
          <a:xfrm>
            <a:off x="4915080" y="3048120"/>
            <a:ext cx="618840" cy="90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23"/>
          <p:cNvSpPr/>
          <p:nvPr/>
        </p:nvSpPr>
        <p:spPr>
          <a:xfrm rot="16200000">
            <a:off x="1408320" y="3234960"/>
            <a:ext cx="199800" cy="1771560"/>
          </a:xfrm>
          <a:custGeom>
            <a:avLst/>
            <a:gdLst>
              <a:gd name="textAreaLeft" fmla="*/ 127800 w 199800"/>
              <a:gd name="textAreaRight" fmla="*/ 200160 w 199800"/>
              <a:gd name="textAreaTop" fmla="*/ 46080 h 1771560"/>
              <a:gd name="textAreaBottom" fmla="*/ 1725480 h 1771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24"/>
          <p:cNvSpPr/>
          <p:nvPr/>
        </p:nvSpPr>
        <p:spPr>
          <a:xfrm>
            <a:off x="1047600" y="424512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26"/>
          <p:cNvSpPr/>
          <p:nvPr/>
        </p:nvSpPr>
        <p:spPr>
          <a:xfrm rot="16200000">
            <a:off x="3289320" y="3230280"/>
            <a:ext cx="199800" cy="1771560"/>
          </a:xfrm>
          <a:custGeom>
            <a:avLst/>
            <a:gdLst>
              <a:gd name="textAreaLeft" fmla="*/ 127800 w 199800"/>
              <a:gd name="textAreaRight" fmla="*/ 200160 w 199800"/>
              <a:gd name="textAreaTop" fmla="*/ 46080 h 1771560"/>
              <a:gd name="textAreaBottom" fmla="*/ 1725480 h 1771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2926800" y="424008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nd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28"/>
          <p:cNvSpPr/>
          <p:nvPr/>
        </p:nvSpPr>
        <p:spPr>
          <a:xfrm>
            <a:off x="647640" y="4886280"/>
            <a:ext cx="600120" cy="90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29"/>
          <p:cNvSpPr/>
          <p:nvPr/>
        </p:nvSpPr>
        <p:spPr>
          <a:xfrm>
            <a:off x="1247760" y="4886280"/>
            <a:ext cx="619200" cy="90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30"/>
          <p:cNvSpPr/>
          <p:nvPr/>
        </p:nvSpPr>
        <p:spPr>
          <a:xfrm>
            <a:off x="1866960" y="4886280"/>
            <a:ext cx="619200" cy="90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31"/>
          <p:cNvSpPr/>
          <p:nvPr/>
        </p:nvSpPr>
        <p:spPr>
          <a:xfrm>
            <a:off x="2486160" y="4886280"/>
            <a:ext cx="618840" cy="90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32"/>
          <p:cNvSpPr/>
          <p:nvPr/>
        </p:nvSpPr>
        <p:spPr>
          <a:xfrm>
            <a:off x="3105000" y="4886280"/>
            <a:ext cx="619200" cy="90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reeform 33"/>
          <p:cNvSpPr/>
          <p:nvPr/>
        </p:nvSpPr>
        <p:spPr>
          <a:xfrm>
            <a:off x="3724200" y="4886280"/>
            <a:ext cx="619200" cy="90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reeform 34"/>
          <p:cNvSpPr/>
          <p:nvPr/>
        </p:nvSpPr>
        <p:spPr>
          <a:xfrm>
            <a:off x="4343400" y="4886280"/>
            <a:ext cx="619200" cy="90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35"/>
          <p:cNvSpPr/>
          <p:nvPr/>
        </p:nvSpPr>
        <p:spPr>
          <a:xfrm>
            <a:off x="4952880" y="4886280"/>
            <a:ext cx="619200" cy="90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36"/>
          <p:cNvSpPr/>
          <p:nvPr/>
        </p:nvSpPr>
        <p:spPr>
          <a:xfrm rot="16200000">
            <a:off x="1446120" y="5073480"/>
            <a:ext cx="200160" cy="1771920"/>
          </a:xfrm>
          <a:custGeom>
            <a:avLst/>
            <a:gdLst>
              <a:gd name="textAreaLeft" fmla="*/ 127800 w 200160"/>
              <a:gd name="textAreaRight" fmla="*/ 200520 w 200160"/>
              <a:gd name="textAreaTop" fmla="*/ 46080 h 1771920"/>
              <a:gd name="textAreaBottom" fmla="*/ 1725840 h 177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7"/>
          <p:cNvSpPr/>
          <p:nvPr/>
        </p:nvSpPr>
        <p:spPr>
          <a:xfrm>
            <a:off x="1085760" y="608328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38"/>
          <p:cNvSpPr/>
          <p:nvPr/>
        </p:nvSpPr>
        <p:spPr>
          <a:xfrm rot="16200000">
            <a:off x="3898800" y="5068800"/>
            <a:ext cx="200160" cy="1771920"/>
          </a:xfrm>
          <a:custGeom>
            <a:avLst/>
            <a:gdLst>
              <a:gd name="textAreaLeft" fmla="*/ 127800 w 200160"/>
              <a:gd name="textAreaRight" fmla="*/ 200520 w 200160"/>
              <a:gd name="textAreaTop" fmla="*/ 46080 h 1771920"/>
              <a:gd name="textAreaBottom" fmla="*/ 1725840 h 177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9"/>
          <p:cNvSpPr/>
          <p:nvPr/>
        </p:nvSpPr>
        <p:spPr>
          <a:xfrm>
            <a:off x="3536280" y="607860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nd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0"/>
          <p:cNvSpPr/>
          <p:nvPr/>
        </p:nvSpPr>
        <p:spPr>
          <a:xfrm>
            <a:off x="2264040" y="249876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ient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41"/>
          <p:cNvSpPr/>
          <p:nvPr/>
        </p:nvSpPr>
        <p:spPr>
          <a:xfrm>
            <a:off x="5834520" y="301608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te aligned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42"/>
          <p:cNvSpPr/>
          <p:nvPr/>
        </p:nvSpPr>
        <p:spPr>
          <a:xfrm>
            <a:off x="5930280" y="485460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rd aligned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43"/>
          <p:cNvSpPr/>
          <p:nvPr/>
        </p:nvSpPr>
        <p:spPr>
          <a:xfrm>
            <a:off x="685800" y="4929120"/>
            <a:ext cx="1114560" cy="81432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44"/>
          <p:cNvSpPr/>
          <p:nvPr/>
        </p:nvSpPr>
        <p:spPr>
          <a:xfrm>
            <a:off x="1924200" y="4924440"/>
            <a:ext cx="1114200" cy="81432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45"/>
          <p:cNvSpPr/>
          <p:nvPr/>
        </p:nvSpPr>
        <p:spPr>
          <a:xfrm>
            <a:off x="3176640" y="4948200"/>
            <a:ext cx="1114200" cy="81432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46"/>
          <p:cNvSpPr/>
          <p:nvPr/>
        </p:nvSpPr>
        <p:spPr>
          <a:xfrm>
            <a:off x="4386240" y="4943520"/>
            <a:ext cx="1114560" cy="81432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48"/>
          <p:cNvSpPr/>
          <p:nvPr/>
        </p:nvSpPr>
        <p:spPr>
          <a:xfrm>
            <a:off x="5418000" y="2184480"/>
            <a:ext cx="23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tart of each row of pixels is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Group 51"/>
          <p:cNvGrpSpPr/>
          <p:nvPr/>
        </p:nvGrpSpPr>
        <p:grpSpPr>
          <a:xfrm>
            <a:off x="3043080" y="585720"/>
            <a:ext cx="4257720" cy="1228680"/>
            <a:chOff x="3043080" y="585720"/>
            <a:chExt cx="4257720" cy="1228680"/>
          </a:xfrm>
        </p:grpSpPr>
        <p:sp>
          <p:nvSpPr>
            <p:cNvPr id="370" name="Rectangle 50"/>
            <p:cNvSpPr/>
            <p:nvPr/>
          </p:nvSpPr>
          <p:spPr>
            <a:xfrm>
              <a:off x="3043080" y="585720"/>
              <a:ext cx="4257720" cy="122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Group 22"/>
            <p:cNvGrpSpPr/>
            <p:nvPr/>
          </p:nvGrpSpPr>
          <p:grpSpPr>
            <a:xfrm>
              <a:off x="5996160" y="714240"/>
              <a:ext cx="914400" cy="970200"/>
              <a:chOff x="5996160" y="714240"/>
              <a:chExt cx="914400" cy="970200"/>
            </a:xfrm>
          </p:grpSpPr>
          <p:sp>
            <p:nvSpPr>
              <p:cNvPr id="372" name="Rectangle 4"/>
              <p:cNvSpPr/>
              <p:nvPr/>
            </p:nvSpPr>
            <p:spPr>
              <a:xfrm>
                <a:off x="5996160" y="718920"/>
                <a:ext cx="914400" cy="623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5"/>
              <p:cNvSpPr/>
              <p:nvPr/>
            </p:nvSpPr>
            <p:spPr>
              <a:xfrm>
                <a:off x="5996160" y="10285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Line 8"/>
              <p:cNvSpPr/>
              <p:nvPr/>
            </p:nvSpPr>
            <p:spPr>
              <a:xfrm>
                <a:off x="6296040" y="728640"/>
                <a:ext cx="0" cy="61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Line 9"/>
              <p:cNvSpPr/>
              <p:nvPr/>
            </p:nvSpPr>
            <p:spPr>
              <a:xfrm>
                <a:off x="6591600" y="714240"/>
                <a:ext cx="0" cy="62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Text Box 21"/>
              <p:cNvSpPr/>
              <p:nvPr/>
            </p:nvSpPr>
            <p:spPr>
              <a:xfrm>
                <a:off x="6043320" y="1407960"/>
                <a:ext cx="72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w=3,h=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Text Box 49"/>
            <p:cNvSpPr/>
            <p:nvPr/>
          </p:nvSpPr>
          <p:spPr>
            <a:xfrm>
              <a:off x="3065400" y="770040"/>
              <a:ext cx="2700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Assuming the image is of size 3x2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A423-0D0E-461C-BBAF-756E72EBD56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RGBA images, it doesn’t matter (each pixel has 4 bytes: RGBARGBA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RGB and luminance images, it should be set to byte-aligned (data are densely pack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5608800" y="442800"/>
            <a:ext cx="2535120" cy="2514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5557680" y="3594240"/>
            <a:ext cx="2514600" cy="248760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7"/>
          <p:cNvSpPr/>
          <p:nvPr/>
        </p:nvSpPr>
        <p:spPr>
          <a:xfrm>
            <a:off x="4874400" y="3083040"/>
            <a:ext cx="408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PixelStorei(GL_UNPACK_ALIGNMENT,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4669560" y="6135840"/>
            <a:ext cx="408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PixelStorei(GL_UNPACK_ALIGNMENT,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388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1843D3E-F58E-4A83-8059-11EE161C8C68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13" descr="D:\jchen\figs\6.gif"/>
          <p:cNvPicPr/>
          <p:nvPr/>
        </p:nvPicPr>
        <p:blipFill>
          <a:blip r:embed="rId1"/>
          <a:stretch/>
        </p:blipFill>
        <p:spPr>
          <a:xfrm>
            <a:off x="1371600" y="2819520"/>
            <a:ext cx="6553080" cy="32446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15"/>
          <p:cNvSpPr/>
          <p:nvPr/>
        </p:nvSpPr>
        <p:spPr>
          <a:xfrm>
            <a:off x="760320" y="379440"/>
            <a:ext cx="167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ameter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6"/>
          <p:cNvSpPr/>
          <p:nvPr/>
        </p:nvSpPr>
        <p:spPr>
          <a:xfrm>
            <a:off x="762120" y="595440"/>
            <a:ext cx="1663560" cy="25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7"/>
          <p:cNvSpPr/>
          <p:nvPr/>
        </p:nvSpPr>
        <p:spPr>
          <a:xfrm>
            <a:off x="3047760" y="37944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8"/>
          <p:cNvSpPr/>
          <p:nvPr/>
        </p:nvSpPr>
        <p:spPr>
          <a:xfrm>
            <a:off x="3048120" y="595440"/>
            <a:ext cx="482400" cy="25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9"/>
          <p:cNvSpPr/>
          <p:nvPr/>
        </p:nvSpPr>
        <p:spPr>
          <a:xfrm>
            <a:off x="3961440" y="379440"/>
            <a:ext cx="1227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0"/>
          <p:cNvSpPr/>
          <p:nvPr/>
        </p:nvSpPr>
        <p:spPr>
          <a:xfrm>
            <a:off x="3962520" y="595440"/>
            <a:ext cx="1206360" cy="25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1"/>
          <p:cNvSpPr/>
          <p:nvPr/>
        </p:nvSpPr>
        <p:spPr>
          <a:xfrm>
            <a:off x="5790240" y="379440"/>
            <a:ext cx="127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lid Ran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2"/>
          <p:cNvSpPr/>
          <p:nvPr/>
        </p:nvSpPr>
        <p:spPr>
          <a:xfrm>
            <a:off x="5791320" y="595440"/>
            <a:ext cx="1244520" cy="25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3"/>
          <p:cNvSpPr/>
          <p:nvPr/>
        </p:nvSpPr>
        <p:spPr>
          <a:xfrm>
            <a:off x="761040" y="685800"/>
            <a:ext cx="221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UNPACK_ROW_LENGTH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4"/>
          <p:cNvSpPr/>
          <p:nvPr/>
        </p:nvSpPr>
        <p:spPr>
          <a:xfrm>
            <a:off x="761400" y="838080"/>
            <a:ext cx="191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PACK_ROW_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35"/>
          <p:cNvSpPr/>
          <p:nvPr/>
        </p:nvSpPr>
        <p:spPr>
          <a:xfrm>
            <a:off x="3504600" y="838080"/>
            <a:ext cx="39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36"/>
          <p:cNvSpPr/>
          <p:nvPr/>
        </p:nvSpPr>
        <p:spPr>
          <a:xfrm>
            <a:off x="4419360" y="838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37"/>
          <p:cNvSpPr/>
          <p:nvPr/>
        </p:nvSpPr>
        <p:spPr>
          <a:xfrm>
            <a:off x="5334480" y="838080"/>
            <a:ext cx="159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y nonnegative 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8"/>
          <p:cNvSpPr/>
          <p:nvPr/>
        </p:nvSpPr>
        <p:spPr>
          <a:xfrm>
            <a:off x="760680" y="1143000"/>
            <a:ext cx="200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UNPACK_SKIP_ROW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39"/>
          <p:cNvSpPr/>
          <p:nvPr/>
        </p:nvSpPr>
        <p:spPr>
          <a:xfrm>
            <a:off x="760680" y="1295280"/>
            <a:ext cx="170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PACK_SKIP_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40"/>
          <p:cNvSpPr/>
          <p:nvPr/>
        </p:nvSpPr>
        <p:spPr>
          <a:xfrm>
            <a:off x="3504600" y="1295280"/>
            <a:ext cx="39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41"/>
          <p:cNvSpPr/>
          <p:nvPr/>
        </p:nvSpPr>
        <p:spPr>
          <a:xfrm>
            <a:off x="4419360" y="12952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42"/>
          <p:cNvSpPr/>
          <p:nvPr/>
        </p:nvSpPr>
        <p:spPr>
          <a:xfrm>
            <a:off x="5334480" y="1295280"/>
            <a:ext cx="159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y nonnegative 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43"/>
          <p:cNvSpPr/>
          <p:nvPr/>
        </p:nvSpPr>
        <p:spPr>
          <a:xfrm>
            <a:off x="759960" y="1600200"/>
            <a:ext cx="208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UNPACK_SKIP_PIXEL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44"/>
          <p:cNvSpPr/>
          <p:nvPr/>
        </p:nvSpPr>
        <p:spPr>
          <a:xfrm>
            <a:off x="760320" y="1754280"/>
            <a:ext cx="178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PACK_SKIP_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45"/>
          <p:cNvSpPr/>
          <p:nvPr/>
        </p:nvSpPr>
        <p:spPr>
          <a:xfrm>
            <a:off x="3504600" y="1754280"/>
            <a:ext cx="39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6"/>
          <p:cNvSpPr/>
          <p:nvPr/>
        </p:nvSpPr>
        <p:spPr>
          <a:xfrm>
            <a:off x="4419360" y="17542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47"/>
          <p:cNvSpPr/>
          <p:nvPr/>
        </p:nvSpPr>
        <p:spPr>
          <a:xfrm>
            <a:off x="5334480" y="1754280"/>
            <a:ext cx="159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y nonnegative 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48"/>
          <p:cNvSpPr/>
          <p:nvPr/>
        </p:nvSpPr>
        <p:spPr>
          <a:xfrm>
            <a:off x="761040" y="2058840"/>
            <a:ext cx="205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UNPACK_ALIGNME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49"/>
          <p:cNvSpPr/>
          <p:nvPr/>
        </p:nvSpPr>
        <p:spPr>
          <a:xfrm>
            <a:off x="761040" y="2211480"/>
            <a:ext cx="176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PACK_ALIG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50"/>
          <p:cNvSpPr/>
          <p:nvPr/>
        </p:nvSpPr>
        <p:spPr>
          <a:xfrm>
            <a:off x="3504600" y="2211480"/>
            <a:ext cx="39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51"/>
          <p:cNvSpPr/>
          <p:nvPr/>
        </p:nvSpPr>
        <p:spPr>
          <a:xfrm>
            <a:off x="4419360" y="2211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52"/>
          <p:cNvSpPr/>
          <p:nvPr/>
        </p:nvSpPr>
        <p:spPr>
          <a:xfrm>
            <a:off x="5333760" y="2211480"/>
            <a:ext cx="53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, 2, 4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100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0EE5654-DF2C-4C6F-8CC5-F10555D919C0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1067400" y="685800"/>
            <a:ext cx="3713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itmaps and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1291680" y="1447920"/>
            <a:ext cx="661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st common use of bitmaps  for charac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1293120" y="1905120"/>
            <a:ext cx="629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mmands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glRasterPos*(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c9b01"/>
                </a:solidFill>
                <a:latin typeface="Times New Roman"/>
              </a:rPr>
              <a:t>glBitmap(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1519920" y="2247840"/>
            <a:ext cx="5372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posi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c9b01"/>
                </a:solidFill>
                <a:latin typeface="Times New Roman"/>
              </a:rPr>
              <a:t>dra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 single bitmap o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4"/>
          <p:cNvSpPr/>
          <p:nvPr/>
        </p:nvSpPr>
        <p:spPr>
          <a:xfrm>
            <a:off x="1519560" y="2554200"/>
            <a:ext cx="90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1295280" y="2971800"/>
            <a:ext cx="70866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RasterPos{23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{sifd}{v}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YPE x, TYPE y, TYPE z, TYPE w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 (x, y, z, w) are transformed to screen coordinates through the transformation pipeline as an ordinary ve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WindowPos{2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{sifd}{v}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YPE x, TYPE y, TYPE z, TYPE w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s window 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422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90D1B31-8D3C-4C50-B3BC-2B55F3437946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761760" y="609480"/>
            <a:ext cx="3998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ixel-Transfer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8"/>
          <p:cNvSpPr/>
          <p:nvPr/>
        </p:nvSpPr>
        <p:spPr>
          <a:xfrm>
            <a:off x="982800" y="1235160"/>
            <a:ext cx="6715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can perform various operations on pixels as they’re transfer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9"/>
          <p:cNvSpPr/>
          <p:nvPr/>
        </p:nvSpPr>
        <p:spPr>
          <a:xfrm>
            <a:off x="982800" y="1463760"/>
            <a:ext cx="654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 and to the framebuffer: glPixelTransfer{if}(GLenum pnam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987120" y="1692360"/>
            <a:ext cx="141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Epara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2"/>
          <p:cNvSpPr/>
          <p:nvPr/>
        </p:nvSpPr>
        <p:spPr>
          <a:xfrm>
            <a:off x="761400" y="2362320"/>
            <a:ext cx="2224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ixel 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"/>
          <p:cNvSpPr/>
          <p:nvPr/>
        </p:nvSpPr>
        <p:spPr>
          <a:xfrm>
            <a:off x="1066680" y="2971800"/>
            <a:ext cx="685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the color components, color indices, and stencil indices can be modified by means of a table lookup to map to different values/r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Group 41"/>
          <p:cNvGrpSpPr/>
          <p:nvPr/>
        </p:nvGrpSpPr>
        <p:grpSpPr>
          <a:xfrm>
            <a:off x="860760" y="4229280"/>
            <a:ext cx="6752160" cy="1791360"/>
            <a:chOff x="860760" y="4229280"/>
            <a:chExt cx="6752160" cy="1791360"/>
          </a:xfrm>
        </p:grpSpPr>
        <p:sp>
          <p:nvSpPr>
            <p:cNvPr id="432" name="Rectangle 34"/>
            <p:cNvSpPr/>
            <p:nvPr/>
          </p:nvSpPr>
          <p:spPr>
            <a:xfrm>
              <a:off x="860760" y="4229280"/>
              <a:ext cx="580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Magnifying, Reducing, or Flipping an Im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36"/>
            <p:cNvSpPr/>
            <p:nvPr/>
          </p:nvSpPr>
          <p:spPr>
            <a:xfrm>
              <a:off x="1057680" y="4738680"/>
              <a:ext cx="639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rmally, each pixel in an image is written to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37"/>
            <p:cNvSpPr/>
            <p:nvPr/>
          </p:nvSpPr>
          <p:spPr>
            <a:xfrm>
              <a:off x="1816560" y="5043600"/>
              <a:ext cx="5796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ngle pixel on the screen. However, you c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38"/>
            <p:cNvSpPr/>
            <p:nvPr/>
          </p:nvSpPr>
          <p:spPr>
            <a:xfrm>
              <a:off x="1807200" y="5348160"/>
              <a:ext cx="5586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rbitrarily magnify or reduce an image b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Rectangle 39"/>
            <p:cNvSpPr/>
            <p:nvPr/>
          </p:nvSpPr>
          <p:spPr>
            <a:xfrm>
              <a:off x="1746360" y="5654520"/>
              <a:ext cx="277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sing glPixelZoom()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583F-B7E3-4485-A00F-EDE0DB46D52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xelZoom (xfactor,yfacto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large/shrink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flected images for negative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Picture 1028" descr="D:\jmchen\on_cse\cg\sample_code\sprites\fig.jpg"/>
          <p:cNvPicPr/>
          <p:nvPr/>
        </p:nvPicPr>
        <p:blipFill>
          <a:blip r:embed="rId1"/>
          <a:stretch/>
        </p:blipFill>
        <p:spPr>
          <a:xfrm>
            <a:off x="1343160" y="3137040"/>
            <a:ext cx="56530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1D6D-805B-48D7-92F8-902B9F0FDFB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age Loader 1 (TG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ple TGA utility in gluit.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ly load and sa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compres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mages in greyscale, RGB or RGBA m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fo in TGA heade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age type [unsigned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 - colour map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 - RGB(A) uncompr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 - greyscale uncompr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9 - greyscale RLE (compress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0 - RGB(A) RLE (compress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xel depth [unsigned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8 – greyscale | 24 – RGB | 32 - RG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1"/>
          <a:stretch/>
        </p:blipFill>
        <p:spPr>
          <a:xfrm>
            <a:off x="5257800" y="3352680"/>
            <a:ext cx="388620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4C98-5DA8-4F5A-B994-DC25D7C2257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age Loader 2 (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新細明體"/>
                <a:hlinkClick r:id="rId1"/>
              </a:rPr>
              <a:t>P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2"/>
          <a:stretch/>
        </p:blipFill>
        <p:spPr>
          <a:xfrm>
            <a:off x="934920" y="1538280"/>
            <a:ext cx="6523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A148-3DD1-4CFA-82DE-99F337FE147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新細明體"/>
                <a:hlinkClick r:id="rId1"/>
              </a:rPr>
              <a:t>Dev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Picture 3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1CE5-CE71-42A5-ADC7-04C6C94E679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 pngLoadRaw (filename,rawinf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Picture 1028" descr=""/>
          <p:cNvPicPr/>
          <p:nvPr/>
        </p:nvPicPr>
        <p:blipFill>
          <a:blip r:embed="rId1"/>
          <a:stretch/>
        </p:blipFill>
        <p:spPr>
          <a:xfrm>
            <a:off x="719280" y="1814400"/>
            <a:ext cx="5214960" cy="36007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030"/>
          <p:cNvSpPr/>
          <p:nvPr/>
        </p:nvSpPr>
        <p:spPr>
          <a:xfrm>
            <a:off x="6431400" y="4202280"/>
            <a:ext cx="26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ust be freed manu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031"/>
          <p:cNvSpPr/>
          <p:nvPr/>
        </p:nvSpPr>
        <p:spPr>
          <a:xfrm flipH="1">
            <a:off x="5315040" y="4429080"/>
            <a:ext cx="885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C445-43A6-434B-9BCE-E48077916C2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proving Pixel Pipeline Perform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eries of fragment operations is applied to pixels as they are drawn into the framebuffer. For optimum performanc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dis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l fragment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le performing pixel operations, disable other costly states, such as texturing and 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is usually faster to draw a large pixel rectangle than to draw several small ones, since the cost of transferring the pixel data can be amortized over many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1ED4-E186-4BF3-B10E-416BEED6511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 (show dept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1"/>
          <a:stretch/>
        </p:blipFill>
        <p:spPr>
          <a:xfrm>
            <a:off x="938160" y="4086360"/>
            <a:ext cx="2638440" cy="22287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2"/>
          <a:stretch/>
        </p:blipFill>
        <p:spPr>
          <a:xfrm>
            <a:off x="938160" y="1666800"/>
            <a:ext cx="2524320" cy="207648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929040" y="1905120"/>
            <a:ext cx="468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et depth buffer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lReadPixel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verse and sca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ar (white) far (bl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splay it as a luminance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lDrawPixel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8A48-09B1-4DEB-A140-66C1C0ACF04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-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: Pa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4" descr=""/>
          <p:cNvPicPr/>
          <p:nvPr/>
        </p:nvPicPr>
        <p:blipFill>
          <a:blip r:embed="rId1"/>
          <a:stretch/>
        </p:blipFill>
        <p:spPr>
          <a:xfrm>
            <a:off x="878040" y="1625760"/>
            <a:ext cx="3990960" cy="43862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"/>
          <p:cNvPicPr/>
          <p:nvPr/>
        </p:nvPicPr>
        <p:blipFill>
          <a:blip r:embed="rId2"/>
          <a:stretch/>
        </p:blipFill>
        <p:spPr>
          <a:xfrm>
            <a:off x="5680080" y="971640"/>
            <a:ext cx="2428920" cy="2419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5" descr=""/>
          <p:cNvPicPr/>
          <p:nvPr/>
        </p:nvPicPr>
        <p:blipFill>
          <a:blip r:embed="rId3"/>
          <a:stretch/>
        </p:blipFill>
        <p:spPr>
          <a:xfrm>
            <a:off x="6229440" y="1347840"/>
            <a:ext cx="2419200" cy="240984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7"/>
          <p:cNvSpPr/>
          <p:nvPr/>
        </p:nvSpPr>
        <p:spPr>
          <a:xfrm>
            <a:off x="7021440" y="3703680"/>
            <a:ext cx="9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on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6407280" y="555480"/>
            <a:ext cx="9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ck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6094440" y="4494240"/>
            <a:ext cx="2422440" cy="1400040"/>
          </a:xfrm>
          <a:prstGeom prst="borderCallout2">
            <a:avLst>
              <a:gd name="adj1" fmla="val 18750"/>
              <a:gd name="adj2" fmla="val -8333"/>
              <a:gd name="adj3" fmla="val 8162"/>
              <a:gd name="adj4" fmla="val -22347"/>
              <a:gd name="adj5" fmla="val -10203"/>
              <a:gd name="adj6" fmla="val -424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 the mouse click, the back buffer blends with fro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482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013A5BE-1657-413E-A65D-0205FC08719D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Box 26"/>
          <p:cNvSpPr/>
          <p:nvPr/>
        </p:nvSpPr>
        <p:spPr>
          <a:xfrm>
            <a:off x="914400" y="6858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DrawPixels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3048120" y="609480"/>
            <a:ext cx="43704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4436-FD1E-41ED-BC9D-38801883887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itmap is a rectangular array of 0s and 1s that serves as a drawing mask for a rectangular portion of the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c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dth need not be multiples of 8, but specified in hex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d in one dimensional array, row by row, starting 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lower-left cor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3200400" y="4038480"/>
            <a:ext cx="5943600" cy="932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Image100"/>
          <p:cNvPicPr/>
          <p:nvPr/>
        </p:nvPicPr>
        <p:blipFill>
          <a:blip r:embed="rId2"/>
          <a:stretch/>
        </p:blipFill>
        <p:spPr>
          <a:xfrm>
            <a:off x="152280" y="4648320"/>
            <a:ext cx="3310200" cy="19810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itmap and Character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489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752E930-0DD0-4AE5-8319-72623042C458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26"/>
          <p:cNvSpPr/>
          <p:nvPr/>
        </p:nvSpPr>
        <p:spPr>
          <a:xfrm>
            <a:off x="914400" y="6858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ReadPixels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3505320" y="762120"/>
            <a:ext cx="4390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C5D7-C186-467E-AFEB-33013B76B734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aw a bit map at the current raster position: glBitmap (w, h, xbo, ybo, xbi, ybi, bitmapPt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bo, ybo: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bi, ybi: inc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7"/>
          <p:cNvGrpSpPr/>
          <p:nvPr/>
        </p:nvGrpSpPr>
        <p:grpSpPr>
          <a:xfrm>
            <a:off x="609480" y="2590920"/>
            <a:ext cx="6095880" cy="3165840"/>
            <a:chOff x="609480" y="2590920"/>
            <a:chExt cx="6095880" cy="3165840"/>
          </a:xfrm>
        </p:grpSpPr>
        <p:pic>
          <p:nvPicPr>
            <p:cNvPr id="118" name="Picture 5" descr="Image101"/>
            <p:cNvPicPr/>
            <p:nvPr/>
          </p:nvPicPr>
          <p:blipFill>
            <a:blip r:embed="rId1"/>
            <a:stretch/>
          </p:blipFill>
          <p:spPr>
            <a:xfrm>
              <a:off x="609480" y="2590920"/>
              <a:ext cx="6095880" cy="28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6"/>
            <p:cNvSpPr/>
            <p:nvPr/>
          </p:nvSpPr>
          <p:spPr>
            <a:xfrm>
              <a:off x="1167480" y="5333760"/>
              <a:ext cx="5013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glBitmap(10, 12, 0, 0, 11, 0, bitmapPt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C9C2-ECE7-496E-9732-1360D3BD70C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itmap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e: You can't rotate bitmap fonts because the bitmap is always drawn aligned to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ramebuffer ax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 glColor* to set GL_CURRENT_RASTER_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126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83F8C7F-214C-4527-96F7-D43BDB357A26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21"/>
          <p:cNvGrpSpPr/>
          <p:nvPr/>
        </p:nvGrpSpPr>
        <p:grpSpPr>
          <a:xfrm>
            <a:off x="1066680" y="380880"/>
            <a:ext cx="6858000" cy="5622480"/>
            <a:chOff x="1066680" y="380880"/>
            <a:chExt cx="6858000" cy="5622480"/>
          </a:xfrm>
        </p:grpSpPr>
        <p:sp>
          <p:nvSpPr>
            <p:cNvPr id="130" name="Rectangle 9"/>
            <p:cNvSpPr/>
            <p:nvPr/>
          </p:nvSpPr>
          <p:spPr>
            <a:xfrm>
              <a:off x="1139040" y="3532320"/>
              <a:ext cx="5462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rawing a Bitmapped Character: drawf.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Picture 19" descr="D:\jchen\figs\5.gif"/>
            <p:cNvPicPr/>
            <p:nvPr/>
          </p:nvPicPr>
          <p:blipFill>
            <a:blip r:embed="rId1"/>
            <a:stretch/>
          </p:blipFill>
          <p:spPr>
            <a:xfrm>
              <a:off x="1447920" y="380880"/>
              <a:ext cx="510516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20"/>
            <p:cNvSpPr/>
            <p:nvPr/>
          </p:nvSpPr>
          <p:spPr>
            <a:xfrm>
              <a:off x="1066680" y="3962520"/>
              <a:ext cx="685800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Times New Roman"/>
                </a:rPr>
                <a:t>#include &lt;GL/glut.h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Times New Roman"/>
                </a:rPr>
                <a:t>#include &lt;stdlib.h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Times New Roman"/>
                </a:rPr>
                <a:t>GLubyte rasters[24] =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3333ff"/>
                  </a:solidFill>
                  <a:latin typeface="Times New Roman"/>
                </a:rPr>
                <a:t>0xc0, 0x00, 0xc0, 0x00, 0xc0, 0x00, 0xc0, 0x00, 0xc0, 0x00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3333ff"/>
                  </a:solidFill>
                  <a:latin typeface="Times New Roman"/>
                </a:rPr>
                <a:t>0xff, 0x00, 0xff, 0x00, 0xc0, 0x00, 0xc0, 0x00, 0xc0, 0x00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3333ff"/>
                  </a:solidFill>
                  <a:latin typeface="Times New Roman"/>
                </a:rPr>
                <a:t>0xff, 0xc0, 0xff, 0x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Times New Roman"/>
                </a:rPr>
                <a:t>}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Text Box 22">
            <a:hlinkClick r:id="rId2"/>
          </p:cNvPr>
          <p:cNvSpPr/>
          <p:nvPr/>
        </p:nvSpPr>
        <p:spPr>
          <a:xfrm>
            <a:off x="7238880" y="3048120"/>
            <a:ext cx="114300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ra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136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08A164F-0E9F-43F3-8A8B-9993FB2DA6F8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609480" y="304920"/>
            <a:ext cx="70866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void init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PixelStorei (GL_UNPACK_ALIGNMENT, 1);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// how the data to be unpac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ClearColor (0.0, 0.0, 0.0, 0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void display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Clear(GL_COLOR_BUFFER_BI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Color3f (1.0, 1.0, 1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RasterPos2i (20, 20);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// the current raster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Bitmap (10, 12, 0.0, 0.0, 11.0, 0.0, rasters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Bitmap (10, 12, 0.0, 0.0, 11.0, 0.0, raster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Bitmap (10, 12, 0.0, 0.0, 11.0, 0.0, raster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Flush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void reshape(int w, int 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Viewport(0, 0, (GLsizei) w, (GLsizei) h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MatrixMode(GL_PROJECTI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LoadIdentity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Ortho (0, w, 0, h, -1.0, 1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MatrixMode(GL_MODELVIE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3">
            <a:hlinkClick r:id="rId2"/>
          </p:cNvPr>
          <p:cNvSpPr/>
          <p:nvPr/>
        </p:nvSpPr>
        <p:spPr>
          <a:xfrm>
            <a:off x="6858000" y="2590920"/>
            <a:ext cx="114300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ra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762120" y="6858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Fonts and Display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914400" y="1371600"/>
            <a:ext cx="76201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nts are array of characters. Different font types are saved in the same bitmap arrays with different offset that is added to the ind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GenLists(GLsize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 Allocat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umber of continuous list indices (</a:t>
            </a:r>
            <a:r>
              <a:rPr b="0" lang="en-US" sz="2000" spc="-1" strike="noStrike">
                <a:solidFill>
                  <a:srgbClr val="0c9b01"/>
                </a:solidFill>
                <a:latin typeface="Times New Roman"/>
              </a:rPr>
              <a:t>for different charact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t returns the index that marks the beginning of the list ind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ListBase(Glui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 the offset added to the display list indices in glCallLists; it has no effect on glCallList. It is used as </a:t>
            </a:r>
            <a:r>
              <a:rPr b="0" lang="en-US" sz="2000" spc="-1" strike="noStrike">
                <a:solidFill>
                  <a:srgbClr val="0c9b01"/>
                </a:solidFill>
                <a:latin typeface="Times New Roman"/>
              </a:rPr>
              <a:t>an offset to different font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CallLists(GLsizei n, GLenum type, const GLvoid *lists); to call all display lists that </a:t>
            </a:r>
            <a:r>
              <a:rPr b="0" lang="en-US" sz="2000" spc="-1" strike="noStrike">
                <a:solidFill>
                  <a:srgbClr val="0c9b01"/>
                </a:solidFill>
                <a:latin typeface="Times New Roman"/>
              </a:rPr>
              <a:t>draw individual charact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the # of characters to be drawn, lists is an array of character codes as indices to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>
            <a:hlinkClick r:id="rId1"/>
          </p:cNvPr>
          <p:cNvSpPr/>
          <p:nvPr/>
        </p:nvSpPr>
        <p:spPr>
          <a:xfrm>
            <a:off x="6781680" y="685800"/>
            <a:ext cx="129564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01:20:18Z</dcterms:created>
  <dc:creator>Jim X. CHEN</dc:creator>
  <dc:description/>
  <dc:language>en-US</dc:language>
  <cp:lastModifiedBy>jchen</cp:lastModifiedBy>
  <dcterms:modified xsi:type="dcterms:W3CDTF">2009-11-03T00:17:12Z</dcterms:modified>
  <cp:revision>910</cp:revision>
  <dc:subject/>
  <dc:title>No Slide Title</dc:title>
</cp:coreProperties>
</file>