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903-6EEA-4885-8AE9-C6F9DDCF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5A4-09C7-401D-97DB-A8A01269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217-BAF6-41E0-9B76-7371640B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79A-F7AC-4A18-B2ED-A8F99685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353-D5CD-410C-BE61-1214F963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A64-A9D3-45CB-9C31-4A86C0C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1C2-2C24-4C75-B9D3-7F4FEAF9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05A-D496-4B52-BA71-C4F0520E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925-0784-4408-A2A5-787AB15E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787-D576-4828-8E1E-551FF0C1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EC8-11CB-46FF-AD75-A1097E66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B1F-BF0D-4999-A8B2-D1C419E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11AF-3943-4249-BFED-AC0596F0F8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gb.exe" TargetMode="External"/><Relationship Id="rId3" Type="http://schemas.openxmlformats.org/officeDocument/2006/relationships/hyperlink" Target="file:///indexrgb.exe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4280" y="533520"/>
            <a:ext cx="7135560" cy="5473080"/>
            <a:chOff x="764280" y="533520"/>
            <a:chExt cx="7135560" cy="5473080"/>
          </a:xfrm>
        </p:grpSpPr>
        <p:sp>
          <p:nvSpPr>
            <p:cNvPr id="42" name=""/>
            <p:cNvSpPr/>
            <p:nvPr/>
          </p:nvSpPr>
          <p:spPr>
            <a:xfrm>
              <a:off x="1067040" y="533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4280" y="1295280"/>
              <a:ext cx="267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RASTER DISPL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60200" y="1776240"/>
              <a:ext cx="638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tore the primitives in a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famebuff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or refres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52480" y="2081160"/>
              <a:ext cx="567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uffer, which is a RAM with 1024*1280, 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91520" y="206856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 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52120" y="23734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79280" y="2386080"/>
              <a:ext cx="254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ddressable pixel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0920" y="2792520"/>
              <a:ext cx="64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Bitma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-- array of 0/1 (pixels);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pixma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arra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9600" y="3097080"/>
              <a:ext cx="247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f gray-scale pix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59120" y="3505320"/>
              <a:ext cx="568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Monochro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bi-level (0/1);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gray-sca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45280" y="3809880"/>
              <a:ext cx="476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ultiple level (0-15);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colo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(r, g,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0920" y="4216320"/>
              <a:ext cx="610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Scan-conversion (rasterization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object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46000" y="4521240"/>
              <a:ext cx="579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nverted into discrete pixels in frame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59840" y="4927680"/>
              <a:ext cx="640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Aliasin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-- jaggies or staircasing of lines/edges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0320" y="5234040"/>
              <a:ext cx="161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anti-ali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0160" y="5234040"/>
              <a:ext cx="303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- dealing with ali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2720" y="5640480"/>
              <a:ext cx="643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Resol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-- # of distinguishable lines per inc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28800" y="533520"/>
            <a:ext cx="501012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BASIC GRAPHICS HARDWARE</a:t>
            </a:r>
            <a:endParaRPr b="0" lang="en-US" sz="2400" spc="1" strike="noStrike">
              <a:ln w="158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535680" y="3657600"/>
            <a:ext cx="6770160" cy="2448000"/>
            <a:chOff x="535680" y="3657600"/>
            <a:chExt cx="6770160" cy="2448000"/>
          </a:xfrm>
        </p:grpSpPr>
        <p:sp>
          <p:nvSpPr>
            <p:cNvPr id="62" name=""/>
            <p:cNvSpPr/>
            <p:nvPr/>
          </p:nvSpPr>
          <p:spPr>
            <a:xfrm>
              <a:off x="535680" y="3657600"/>
              <a:ext cx="3897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RT (CATHODE RAY TUB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219320" y="4191120"/>
              <a:ext cx="6086520" cy="19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462600" y="457200"/>
            <a:ext cx="7017120" cy="2695680"/>
            <a:chOff x="462600" y="457200"/>
            <a:chExt cx="7017120" cy="2695680"/>
          </a:xfrm>
        </p:grpSpPr>
        <p:sp>
          <p:nvSpPr>
            <p:cNvPr id="65" name=""/>
            <p:cNvSpPr/>
            <p:nvPr/>
          </p:nvSpPr>
          <p:spPr>
            <a:xfrm>
              <a:off x="462600" y="457200"/>
              <a:ext cx="701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ASER PRINTER (HARD COPY DISPLAY DEVIC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219320" y="1219320"/>
              <a:ext cx="6143400" cy="19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6477120" y="2743200"/>
            <a:ext cx="1981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ram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8A71-CD2A-4593-A849-3B38352EBB48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791320" y="259092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038120" y="2971800"/>
            <a:ext cx="358164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2743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381640" cy="271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76520" y="2514600"/>
            <a:ext cx="3429000" cy="1295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A0D1-976F-4971-8AF2-1CE7CA4ED3DE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9040" y="609480"/>
            <a:ext cx="394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ASTER DISPLA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495680"/>
            <a:ext cx="6477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Graphics c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: handle scan-conversion and other advanced graphic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538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5280" y="247644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SimSun"/>
              </a:rPr>
              <a:t>Graphics Card (Video C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391-AAC3-46AB-8AD1-7D7B562D842A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0880" y="609480"/>
            <a:ext cx="6889680" cy="2526840"/>
            <a:chOff x="830880" y="609480"/>
            <a:chExt cx="6889680" cy="2526840"/>
          </a:xfrm>
        </p:grpSpPr>
        <p:sp>
          <p:nvSpPr>
            <p:cNvPr id="89" name=""/>
            <p:cNvSpPr/>
            <p:nvPr/>
          </p:nvSpPr>
          <p:spPr>
            <a:xfrm>
              <a:off x="834840" y="609480"/>
              <a:ext cx="688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Framebuff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bi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planes): RAM with the genera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1720" y="914400"/>
              <a:ext cx="519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ixmap and attributes ready for 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880" y="1384200"/>
              <a:ext cx="639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Video controller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refresh the display;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interla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46560" y="13842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0280" y="1690560"/>
              <a:ext cx="570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- fine as long as adjacent scan lines displa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19560" y="1995480"/>
              <a:ext cx="273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imilar information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39720" y="1995480"/>
              <a:ext cx="189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non-interla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46640" y="1995480"/>
              <a:ext cx="61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N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3760" y="2465280"/>
              <a:ext cx="5735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# of bits for color: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direct (RGB mode) an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1360" y="2770200"/>
              <a:ext cx="283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indirect (Index m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38080" y="4626000"/>
            <a:ext cx="7696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Z-buff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e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sponding to the framebuffer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pth of each pixel in the framebuffer for hidd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rem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733920"/>
            <a:ext cx="1828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RG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3733920"/>
            <a:ext cx="1828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3"/>
              </a:rPr>
              <a:t>Index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C9F-0410-4501-A4D4-DE9351CEB007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37600" y="708120"/>
            <a:ext cx="7023240" cy="5158800"/>
            <a:chOff x="1137600" y="708120"/>
            <a:chExt cx="7023240" cy="5158800"/>
          </a:xfrm>
        </p:grpSpPr>
        <p:sp>
          <p:nvSpPr>
            <p:cNvPr id="104" name=""/>
            <p:cNvSpPr/>
            <p:nvPr/>
          </p:nvSpPr>
          <p:spPr>
            <a:xfrm>
              <a:off x="1139040" y="708120"/>
              <a:ext cx="640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Double-buffering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don’t display until the enti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97200" y="1012680"/>
              <a:ext cx="223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cene is rend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7960" y="1482840"/>
              <a:ext cx="631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Transformation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calculations of coordinates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1789200"/>
              <a:ext cx="4677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bject moving, rotating, and 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0120" y="2259000"/>
              <a:ext cx="630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Clipping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no imaging system can see the who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99360" y="2563920"/>
              <a:ext cx="520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ld (internal representation) at onc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39400" y="3033720"/>
              <a:ext cx="672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Projection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3D objects are displayed on 2D scre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37600" y="3581280"/>
              <a:ext cx="7023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Output from video controller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RGB, mono- chrom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 NTSC (National TV System Committee, effec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solution 350*350);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video mix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5160" y="4889520"/>
              <a:ext cx="579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RGB, NTSC, SECAM, P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have diffe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2720" y="5194440"/>
              <a:ext cx="529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tandards with their own # of scan lines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6640" y="5500800"/>
              <a:ext cx="429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requencies and synchroniz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9T21:32:55Z</dcterms:created>
  <dc:creator>Professor Jim X. Chen</dc:creator>
  <dc:description/>
  <dc:language>en-US</dc:language>
  <cp:lastModifiedBy>Jim X. Chen</cp:lastModifiedBy>
  <dcterms:modified xsi:type="dcterms:W3CDTF">2006-09-05T22:51:25Z</dcterms:modified>
  <cp:revision>24</cp:revision>
  <dc:subject/>
  <dc:title>No Slide Title</dc:title>
</cp:coreProperties>
</file>