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4.wmf" ContentType="image/x-wmf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72288" cy="9158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B684-8B3C-4660-A5B0-1EB2356D0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ECB4-B528-483D-835B-83C131161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52F4-EB2F-4A64-9068-CB60A09EC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4F89-19A8-4BDB-A1E6-EFFE59F5F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E08F-1A3D-4805-8930-3C9AAE262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3CDB-9584-4791-86D4-07D4CD4E6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B400-EC09-4FD4-A691-016C0305B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B88A-1385-4947-99AC-E0ADF9562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28C3-AF4B-4F68-B639-4D3319B48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7B96-691E-4564-ABDF-A1BF671D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0F4C-E635-42D7-9014-F6C57579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5C63-11C8-4682-8F75-39754ABF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6B01E-B8E0-4767-B136-0A2B924765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file:///Bezcurve.exe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Bezcurve.exe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file:///Bezsurf.exe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file:///Bezmesh.exe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file:///Bezmesh.exe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file:///Surface.exe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file:///Surface.exe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file:///Surface.exe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file:///Surface.exe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43000" y="1371600"/>
            <a:ext cx="7086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URVES AND SURFACES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05920" y="6019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5EFB6-BFFE-42CD-A285-326F1C243BBE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132200" y="533520"/>
            <a:ext cx="6962400" cy="4660920"/>
            <a:chOff x="1132200" y="533520"/>
            <a:chExt cx="6962400" cy="4660920"/>
          </a:xfrm>
        </p:grpSpPr>
        <p:sp>
          <p:nvSpPr>
            <p:cNvPr id="165" name=""/>
            <p:cNvSpPr/>
            <p:nvPr/>
          </p:nvSpPr>
          <p:spPr>
            <a:xfrm>
              <a:off x="1140480" y="533520"/>
              <a:ext cx="2026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Bezier Surfa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132200" y="1116000"/>
              <a:ext cx="6962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he Bezier bicubic formulation can be derived in exactly the same wa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190160" y="1496880"/>
              <a:ext cx="2603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s above. The results are: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138680" y="2120760"/>
              <a:ext cx="2314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B-Spline Surfa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33640" y="2527200"/>
              <a:ext cx="6724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he B-Spline bicubic formulation can be derived in exactly the sam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81160" y="2895480"/>
              <a:ext cx="2545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way also. The results are: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138320" y="3519360"/>
              <a:ext cx="2644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Normals to Surfa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191600" y="3925800"/>
              <a:ext cx="3045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he cross product between th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206600" y="3925800"/>
              <a:ext cx="89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304880" y="392580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729680" y="3925800"/>
              <a:ext cx="122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63960" y="3925800"/>
              <a:ext cx="2990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angent vectors of the surfa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208520" y="4154400"/>
              <a:ext cx="358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Q(s, t) results in the normal at give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752720" y="4154400"/>
              <a:ext cx="89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53880" y="4154400"/>
              <a:ext cx="483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n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23680" y="415440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87400" y="415440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2" name=""/>
                <p:cNvSpPr txBox="1"/>
                <p:nvPr/>
              </p:nvSpPr>
              <p:spPr>
                <a:xfrm>
                  <a:off x="3809880" y="1523880"/>
                  <a:ext cx="3124440" cy="42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,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S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x</m:t>
                          </m:r>
                        </m:sub>
                      </m:sSub>
                      <m:r>
                        <m:t xml:space="preserve">⋅</m:t>
                      </m:r>
                      <m:sSubSup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  <m:sup>
                          <m:r>
                            <m:t xml:space="preserve">T</m:t>
                          </m:r>
                        </m:sup>
                      </m:sSubSup>
                      <m:r>
                        <m:t xml:space="preserve">⋅</m:t>
                      </m:r>
                      <m:sSup>
                        <m:e>
                          <m:r>
                            <m:t xml:space="preserve">T</m:t>
                          </m:r>
                        </m:e>
                        <m:sup>
                          <m:r>
                            <m:t xml:space="preserve">T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3" name=""/>
                <p:cNvSpPr txBox="1"/>
                <p:nvPr/>
              </p:nvSpPr>
              <p:spPr>
                <a:xfrm>
                  <a:off x="3632040" y="2895480"/>
                  <a:ext cx="3327480" cy="42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,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S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s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Sx</m:t>
                          </m:r>
                        </m:sub>
                      </m:sSub>
                      <m:r>
                        <m:t xml:space="preserve">⋅</m:t>
                      </m:r>
                      <m:sSubSup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s</m:t>
                          </m:r>
                        </m:sub>
                        <m:sup>
                          <m:r>
                            <m:t xml:space="preserve">T</m:t>
                          </m:r>
                        </m:sup>
                      </m:sSubSup>
                      <m:r>
                        <m:t xml:space="preserve">⋅</m:t>
                      </m:r>
                      <m:sSup>
                        <m:e>
                          <m:r>
                            <m:t xml:space="preserve">T</m:t>
                          </m:r>
                        </m:e>
                        <m:sup>
                          <m:r>
                            <m:t xml:space="preserve">T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4" name=""/>
                <p:cNvSpPr txBox="1"/>
                <p:nvPr/>
              </p:nvSpPr>
              <p:spPr>
                <a:xfrm>
                  <a:off x="2133720" y="4495680"/>
                  <a:ext cx="2286000" cy="69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s</m:t>
                          </m:r>
                        </m:den>
                      </m:f>
                      <m:r>
                        <m:t xml:space="preserve">Q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,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×</m:t>
                      </m:r>
                      <m:f>
                        <m:num>
                          <m:r>
                            <m:t xml:space="preserve">∂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Q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,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305920" y="6019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E00DA-8DCD-4185-AFF5-570C9DDE958C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-22680" y="533520"/>
            <a:ext cx="8499960" cy="5229000"/>
            <a:chOff x="-22680" y="533520"/>
            <a:chExt cx="8499960" cy="5229000"/>
          </a:xfrm>
        </p:grpSpPr>
        <p:sp>
          <p:nvSpPr>
            <p:cNvPr id="189" name=""/>
            <p:cNvSpPr/>
            <p:nvPr/>
          </p:nvSpPr>
          <p:spPr>
            <a:xfrm>
              <a:off x="1151640" y="533520"/>
              <a:ext cx="64260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EVALUATORS AND NURBS in OpenG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40120" y="1295280"/>
              <a:ext cx="3772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One-Dimensional Evaluato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140120" y="2768760"/>
              <a:ext cx="361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Example Drawing a Bézier Curve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37600" y="2997360"/>
              <a:ext cx="4170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Using Four Control Points: bezcurve.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139760" y="350676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78680" y="3735360"/>
              <a:ext cx="2881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#include &lt;GL/glut.h&gt;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73280" y="3963960"/>
              <a:ext cx="2606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#include &lt;stdlib.h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39280" y="4649760"/>
              <a:ext cx="3841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float ctrlpoints[4][3] = {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-22680" y="4878360"/>
              <a:ext cx="54871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{ -4.0, -4.0, 0.0}, { -2.0, 4.0, 0.0},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{2.0, -4.0, 0.0}, {4.0, 4.0, 0.0} }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139760" y="510696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139760" y="533700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0" name="23" descr=""/>
            <p:cNvPicPr/>
            <p:nvPr/>
          </p:nvPicPr>
          <p:blipFill>
            <a:blip r:embed="rId1"/>
            <a:stretch/>
          </p:blipFill>
          <p:spPr>
            <a:xfrm>
              <a:off x="5715000" y="2971800"/>
              <a:ext cx="2762280" cy="27907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201" name=""/>
                <p:cNvSpPr txBox="1"/>
                <p:nvPr/>
              </p:nvSpPr>
              <p:spPr>
                <a:xfrm>
                  <a:off x="1447920" y="1828800"/>
                  <a:ext cx="2133360" cy="69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</m:sSubSup>
                      <m:r>
                        <m:t xml:space="preserve">(</m:t>
                      </m:r>
                      <m:r>
                        <m:t xml:space="preserve">u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n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i</m:t>
                                </m:r>
                              </m:e>
                            </m:mr>
                          </m:m>
                        </m:e>
                      </m:d>
                      <m:sSup>
                        <m:e>
                          <m:r>
                            <m:t xml:space="preserve">u</m:t>
                          </m:r>
                        </m:e>
                        <m:sup>
                          <m:r>
                            <m:t xml:space="preserve">i</m:t>
                          </m:r>
                        </m:sup>
                      </m:sSup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u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i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2" name=""/>
                <p:cNvSpPr txBox="1"/>
                <p:nvPr/>
              </p:nvSpPr>
              <p:spPr>
                <a:xfrm>
                  <a:off x="5105520" y="1828800"/>
                  <a:ext cx="1676160" cy="63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(</m:t>
                      </m:r>
                      <m:r>
                        <m:t xml:space="preserve">u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Sup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</m:sSubSup>
                        </m:e>
                      </m:nary>
                      <m:r>
                        <m:t xml:space="preserve">(</m:t>
                      </m:r>
                      <m:r>
                        <m:t xml:space="preserve">u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03" name=""/>
            <p:cNvSpPr/>
            <p:nvPr/>
          </p:nvSpPr>
          <p:spPr>
            <a:xfrm>
              <a:off x="4038480" y="19810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7086600" y="1447920"/>
            <a:ext cx="160020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 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305920" y="6019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FD8FA-464D-4A7F-8F21-4C8E43B98440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174960" y="760320"/>
            <a:ext cx="7922520" cy="4087800"/>
            <a:chOff x="174960" y="760320"/>
            <a:chExt cx="7922520" cy="4087800"/>
          </a:xfrm>
        </p:grpSpPr>
        <p:sp>
          <p:nvSpPr>
            <p:cNvPr id="209" name=""/>
            <p:cNvSpPr/>
            <p:nvPr/>
          </p:nvSpPr>
          <p:spPr>
            <a:xfrm>
              <a:off x="671760" y="760320"/>
              <a:ext cx="2881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void myinit(void) {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74960" y="988920"/>
              <a:ext cx="521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ClearColor(0.0, 0.0, 0.0, 1.0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030320" y="1217520"/>
              <a:ext cx="6035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Courier New"/>
                </a:rPr>
                <a:t>glMap1f(GL_MAP1_VERTEX_3, 0.0, 1.0, 3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490120" y="1446120"/>
              <a:ext cx="2881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urier New"/>
                </a:rPr>
                <a:t>4,&amp;ctrlpoints[0][0]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21520" y="1676520"/>
              <a:ext cx="4389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Enable(GL_MAP1_VERTEX_3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70760" y="1905120"/>
              <a:ext cx="3704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ShadeModel(GL_FLAT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194120" y="2133720"/>
              <a:ext cx="412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}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947240" y="2590920"/>
              <a:ext cx="594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L_MAP1_VERTEX_3: Three-dimensional vertices a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888200" y="2819520"/>
              <a:ext cx="1043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duc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20240" y="3124080"/>
              <a:ext cx="3036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--Low value of parameter 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14120" y="3430440"/>
              <a:ext cx="3087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--High value of parameter 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929240" y="3735360"/>
              <a:ext cx="6168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--The number of floating-point values to advance in th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929960" y="3963960"/>
              <a:ext cx="479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ata between one control point and the n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821960" y="4268880"/>
              <a:ext cx="5398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--The order of the spline, which is the degree+1;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822680" y="4573440"/>
              <a:ext cx="6076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&amp;ctrlpoints[0][0]--Pointer to the first control point’s 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05920" y="6019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23E94-9C55-4880-A56A-150827FE764A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-386280" y="760320"/>
            <a:ext cx="9053280" cy="4621320"/>
            <a:chOff x="-386280" y="760320"/>
            <a:chExt cx="9053280" cy="4621320"/>
          </a:xfrm>
        </p:grpSpPr>
        <p:sp>
          <p:nvSpPr>
            <p:cNvPr id="228" name=""/>
            <p:cNvSpPr/>
            <p:nvPr/>
          </p:nvSpPr>
          <p:spPr>
            <a:xfrm>
              <a:off x="1107720" y="760320"/>
              <a:ext cx="2743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void display(void) {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59960" y="988920"/>
              <a:ext cx="150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int i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54560" y="1446120"/>
              <a:ext cx="7818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Clear(GL_COLOR_BUFFER_BIT | GL_DEPTH_BUFFER_BIT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056960" y="1905120"/>
              <a:ext cx="4115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Color3f(1.0, 1.0, 1.0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40160" y="2133720"/>
              <a:ext cx="3841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Begin(GL_LINE_STRIP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036800" y="2362320"/>
              <a:ext cx="4664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or (i = 0; i &lt;= 30; i++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204200" y="25909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07640" y="2590920"/>
              <a:ext cx="6172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urier New"/>
                </a:rPr>
                <a:t>            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Courier New"/>
                </a:rPr>
                <a:t>glEvalCoord1f((GLfloat) i/30.0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97400" y="2819520"/>
              <a:ext cx="178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End(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-386280" y="3200400"/>
              <a:ext cx="9053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/* The following code displays the control points as dots. */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17040" y="3506760"/>
              <a:ext cx="2881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PointSize(5.0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56960" y="3735360"/>
              <a:ext cx="4115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Color3f(1.0, 1.0, 0.0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66800" y="3963960"/>
              <a:ext cx="3292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Begin(GL_POINTS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046880" y="4192560"/>
              <a:ext cx="4389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or (i = 0; i &lt; 4; i++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04200" y="44211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8400" y="4421160"/>
              <a:ext cx="6035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urier New"/>
                </a:rPr>
                <a:t>            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Courier New"/>
                </a:rPr>
                <a:t>glVertex3fv(&amp;ctrlpoints[i][0]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97400" y="4649760"/>
              <a:ext cx="178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End(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30080" y="4878360"/>
              <a:ext cx="2058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Flush(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194120" y="5106960"/>
              <a:ext cx="412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}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7010280" y="3962520"/>
            <a:ext cx="160020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Click 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05920" y="6019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9F223-0E9D-45D3-8C5B-87A49845878E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760" y="533520"/>
            <a:ext cx="8862480" cy="5586480"/>
            <a:chOff x="14760" y="533520"/>
            <a:chExt cx="8862480" cy="5586480"/>
          </a:xfrm>
        </p:grpSpPr>
        <p:sp>
          <p:nvSpPr>
            <p:cNvPr id="252" name=""/>
            <p:cNvSpPr/>
            <p:nvPr/>
          </p:nvSpPr>
          <p:spPr>
            <a:xfrm>
              <a:off x="913680" y="533520"/>
              <a:ext cx="44370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Two-Dimensional Evaluato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132560" y="1116000"/>
              <a:ext cx="5669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athematically, the definition of a Bézie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293480" y="1447920"/>
              <a:ext cx="3204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urface patch is given b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067400" y="3200400"/>
              <a:ext cx="5472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Example 11-2 Drawing a Bézier Surface: bezsurf.c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137960" y="3506760"/>
              <a:ext cx="3096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Lfloat ctrlpoints[4][4][3] = {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194480" y="3735360"/>
              <a:ext cx="7142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{{-1.5, -1.5, 4.0}, {-0.5, -1.5, 2.0}, {0.5, -1.5, -1.0}, {1.5, -1.5,2.0}}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194480" y="3963960"/>
              <a:ext cx="7142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{{-1.5, -0.5, 1.0}, {-0.5, -0.5, 3.0}, {0.5, -0.5, 0.0}, {1.5, -0.5,-1.0}}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194480" y="4192560"/>
              <a:ext cx="676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{{-1.5, 0.5, 4.0}, {-0.5, 0.5, 0.0},{0.5, 0.5, 3.0}, {1.5, 0.5, 4.0}},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201680" y="4421160"/>
              <a:ext cx="6962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{{-1.5, 1.5, -2.0}, {-0.5, 1.5, -2.0}, {0.5, 1.5, 0.0}, {1.5, 1.5, -1.0}} };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15040" y="4929120"/>
              <a:ext cx="233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void myinit(void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204200" y="51577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{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74960" y="5388120"/>
              <a:ext cx="521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ClearColor (0.0, 0.0, 0.0, 1.0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001160" y="5616720"/>
              <a:ext cx="5624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Map2f(GL_MAP2_VERTEX_3, 0, 1, 3, 4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4760" y="5845320"/>
              <a:ext cx="576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, 1, 12, 4, &amp;ctrlpoints[0][0][0]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6" name="24" descr=""/>
            <p:cNvPicPr/>
            <p:nvPr/>
          </p:nvPicPr>
          <p:blipFill>
            <a:blip r:embed="rId1"/>
            <a:stretch/>
          </p:blipFill>
          <p:spPr>
            <a:xfrm>
              <a:off x="6629400" y="1447920"/>
              <a:ext cx="2247840" cy="19144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267" name=""/>
                <p:cNvSpPr txBox="1"/>
                <p:nvPr/>
              </p:nvSpPr>
              <p:spPr>
                <a:xfrm>
                  <a:off x="1752480" y="1981080"/>
                  <a:ext cx="4038840" cy="97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(</m:t>
                      </m:r>
                      <m:r>
                        <m:t xml:space="preserve">u</m:t>
                      </m:r>
                      <m:r>
                        <m:t xml:space="preserve">,</m:t>
                      </m:r>
                      <m:r>
                        <m:t xml:space="preserve">v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j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m</m:t>
                              </m:r>
                            </m:sup>
                            <m:e>
                              <m:sSubSup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</m:sSubSup>
                              <m:r>
                                <m:t xml:space="preserve">(</m:t>
                              </m:r>
                              <m:r>
                                <m:t xml:space="preserve">u</m:t>
                              </m:r>
                              <m:r>
                                <m:t xml:space="preserve">)</m:t>
                              </m:r>
                              <m:sSubSup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  <m:sup>
                                  <m:r>
                                    <m:t xml:space="preserve">m</m:t>
                                  </m:r>
                                </m:sup>
                              </m:sSubSup>
                            </m:e>
                          </m:nary>
                        </m:e>
                      </m:nary>
                      <m:r>
                        <m:t xml:space="preserve">(</m:t>
                      </m:r>
                      <m:r>
                        <m:t xml:space="preserve">v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305920" y="6019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3F88E-D4A5-4D18-B30A-FAB704C3297C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38880" y="760320"/>
            <a:ext cx="8194320" cy="5460840"/>
            <a:chOff x="38880" y="760320"/>
            <a:chExt cx="8194320" cy="5460840"/>
          </a:xfrm>
        </p:grpSpPr>
        <p:sp>
          <p:nvSpPr>
            <p:cNvPr id="272" name=""/>
            <p:cNvSpPr/>
            <p:nvPr/>
          </p:nvSpPr>
          <p:spPr>
            <a:xfrm>
              <a:off x="861480" y="760320"/>
              <a:ext cx="4252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Enable(GL_MAP2_VERTEX_3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44920" y="988920"/>
              <a:ext cx="3841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Enable(GL_DEPTH_TEST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10720" y="1217520"/>
              <a:ext cx="3566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ShadeModel(GL_FLAT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204200" y="14461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107720" y="1905120"/>
              <a:ext cx="2743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void display(void) {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49440" y="2133720"/>
              <a:ext cx="1920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int i, j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38880" y="2514600"/>
              <a:ext cx="8194320" cy="3706560"/>
              <a:chOff x="38880" y="2514600"/>
              <a:chExt cx="8194320" cy="3706560"/>
            </a:xfrm>
          </p:grpSpPr>
          <p:sp>
            <p:nvSpPr>
              <p:cNvPr id="279" name=""/>
              <p:cNvSpPr/>
              <p:nvPr/>
            </p:nvSpPr>
            <p:spPr>
              <a:xfrm>
                <a:off x="1450800" y="2514600"/>
                <a:ext cx="67824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glClear(GL_COLOR_BUFFER_BIT | GL_DEPTH_BUFFER_BIT)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48840" y="2743200"/>
                <a:ext cx="41155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glColor3f(1.0, 1.0, 1.0)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01280" y="2971800"/>
                <a:ext cx="27439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glPushMatrix ()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22120" y="3200400"/>
                <a:ext cx="4801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glRotatef(85.0, 1.0, 1.0, 1.0)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26160" y="3429000"/>
                <a:ext cx="41155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for (j = 0; j &lt;= 8; j++) {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23160" y="3659040"/>
                <a:ext cx="42526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   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glBegin(GL_LINE_STRIP)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8880" y="3887640"/>
                <a:ext cx="50756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       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for (i = 0; i &lt;= 30; i++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136160" y="4065480"/>
                <a:ext cx="58561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          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glEvalCoord2f((GLfloat)i/30.0, (GLfloat)j/8.0)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80400" y="4344840"/>
                <a:ext cx="21952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   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glEnd()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23160" y="4573440"/>
                <a:ext cx="42526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   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glBegin(GL_LINE_STRIP)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8880" y="4802040"/>
                <a:ext cx="50756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       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for (i = 0; i &lt;= 30; i++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136160" y="4979880"/>
                <a:ext cx="58561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          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glEvalCoord2f((GLfloat)j/8.0, (GLfloat)i/30.0)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80400" y="5259240"/>
                <a:ext cx="21952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   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glEnd()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959400" y="5489280"/>
                <a:ext cx="6865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69800" y="5717880"/>
                <a:ext cx="41155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glPopMatrix (); glFlush()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079280" y="5946480"/>
                <a:ext cx="275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}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5" name=""/>
          <p:cNvSpPr/>
          <p:nvPr/>
        </p:nvSpPr>
        <p:spPr>
          <a:xfrm>
            <a:off x="6477120" y="990720"/>
            <a:ext cx="182880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 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305920" y="6019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18729-BE5A-460B-A4A6-91D852316D1C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-184320" y="709560"/>
            <a:ext cx="7642800" cy="5359320"/>
            <a:chOff x="-184320" y="709560"/>
            <a:chExt cx="7642800" cy="5359320"/>
          </a:xfrm>
        </p:grpSpPr>
        <p:sp>
          <p:nvSpPr>
            <p:cNvPr id="300" name=""/>
            <p:cNvSpPr/>
            <p:nvPr/>
          </p:nvSpPr>
          <p:spPr>
            <a:xfrm>
              <a:off x="3342960" y="5337000"/>
              <a:ext cx="4115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_SHININESS, mat_shininess);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-184320" y="709560"/>
              <a:ext cx="7232760" cy="5359320"/>
              <a:chOff x="-184320" y="709560"/>
              <a:chExt cx="7232760" cy="5359320"/>
            </a:xfrm>
          </p:grpSpPr>
          <p:sp>
            <p:nvSpPr>
              <p:cNvPr id="302" name=""/>
              <p:cNvSpPr/>
              <p:nvPr/>
            </p:nvSpPr>
            <p:spPr>
              <a:xfrm>
                <a:off x="1138680" y="709560"/>
                <a:ext cx="4726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cc"/>
                    </a:solidFill>
                    <a:latin typeface="Arial"/>
                  </a:rPr>
                  <a:t>Example 11-3 Drawing a Lit, Shaded Bézier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39760" y="938160"/>
                <a:ext cx="3682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cc"/>
                    </a:solidFill>
                    <a:latin typeface="Arial"/>
                  </a:rPr>
                  <a:t>Surface Using a Mesh: bezmesh.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91840" y="1446120"/>
                <a:ext cx="31554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void initlights(void) {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-66240" y="1676520"/>
                <a:ext cx="65844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GLfloat ambient[] = { 0.2, 0.2, 0.2, 1.0 }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-184320" y="1981080"/>
                <a:ext cx="68587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GLfloat position[] = { 0.0, 0.0, 2.0, 1.0 };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-122760" y="2590920"/>
                <a:ext cx="6995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GLfloat mat_diffuse[] = {0.6, 0.6, 0.6, 1.0 }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-68760" y="2819520"/>
                <a:ext cx="6995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GLfloat mat_specular[] = {1.0,1.0, 1.0, 1.0 }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25000" y="3048120"/>
                <a:ext cx="54871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GLfloat mat_shininess[] = { 50.0 }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49520" y="3276720"/>
                <a:ext cx="3841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 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glEnable(GL_LIGHTING)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7880" y="3506760"/>
                <a:ext cx="34297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glEnable(GL_LIGHT0)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60880" y="3735360"/>
                <a:ext cx="6447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 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glLightfv(GL_LIGHT0,GL_AMBIENT, ambient)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64040" y="3963960"/>
                <a:ext cx="65844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glLightfv(GL_LIGHT0,GL_POSITION, position)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764280" y="4192560"/>
                <a:ext cx="50756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glMaterialfv(GL_FRONT_AND_BACK,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368520" y="4421160"/>
                <a:ext cx="34297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GL_DIFFUSE, mat_diffuse)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64280" y="4649760"/>
                <a:ext cx="50756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glMaterialfv(GL_FRONT_AND_BACK,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205800" y="4878360"/>
                <a:ext cx="3704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GL_SPECULAR, mat_specular)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804240" y="5106960"/>
                <a:ext cx="49384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glMaterialfv(GL_FRONT_AND_BACK,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199160" y="5794200"/>
                <a:ext cx="275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}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0" name=""/>
          <p:cNvSpPr/>
          <p:nvPr/>
        </p:nvSpPr>
        <p:spPr>
          <a:xfrm>
            <a:off x="6781680" y="1371600"/>
            <a:ext cx="175284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 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305920" y="6019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9DED4-FB9C-496F-AADC-F6D1AC85F7DC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181480" y="5867280"/>
            <a:ext cx="175284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 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-355320" y="760320"/>
            <a:ext cx="10699200" cy="4621320"/>
            <a:chOff x="-355320" y="760320"/>
            <a:chExt cx="10699200" cy="4621320"/>
          </a:xfrm>
        </p:grpSpPr>
        <p:sp>
          <p:nvSpPr>
            <p:cNvPr id="326" name=""/>
            <p:cNvSpPr/>
            <p:nvPr/>
          </p:nvSpPr>
          <p:spPr>
            <a:xfrm>
              <a:off x="1107720" y="760320"/>
              <a:ext cx="2743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void display(void) {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7800" y="1066680"/>
              <a:ext cx="7818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Clear(GL_COLOR_BUFFER_BIT | GL_DEPTH_BUFFER_BIT);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98040" y="1446120"/>
              <a:ext cx="2743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PushMatrix(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8720" y="1676520"/>
              <a:ext cx="5487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Rotatef(85.0, 1.0, 1.0, 1.0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996120" y="1905120"/>
              <a:ext cx="576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EvalMesh2(GL_FILL, 0, 8, 0, 8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16040" y="2133720"/>
              <a:ext cx="2606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PopMatrix(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30080" y="2362320"/>
              <a:ext cx="2058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Flush(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199160" y="2590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71760" y="3048120"/>
              <a:ext cx="2881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void myinit(void) {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35000" y="3276720"/>
              <a:ext cx="5349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ClearColor (0.0, 0.0, 0.0, 1.0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04960" y="3506760"/>
              <a:ext cx="3978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Enable(GL_DEPTH_TEST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-355320" y="3809880"/>
              <a:ext cx="10699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Map2f(GL_MAP2_VERTEX_3, 0, 1, 3, 4,0, 1, 12, 4, &amp;ctrlpoints[0][0][0]);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21520" y="4192560"/>
              <a:ext cx="4389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Enable(GL_MAP2_VERTEX_3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901440" y="4421160"/>
              <a:ext cx="4115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Enable(GL_AUTO_NORMAL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991080" y="4649760"/>
              <a:ext cx="5898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MapGrid2f(8, 0.0, 1.0, 8, 0.0, 1.0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94000" y="4878360"/>
              <a:ext cx="2469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initlights(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199160" y="51069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05920" y="6019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8882D-DD05-43A1-9D84-A62C5A4D7211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373680" y="533520"/>
            <a:ext cx="7568640" cy="5535360"/>
            <a:chOff x="373680" y="533520"/>
            <a:chExt cx="7568640" cy="5535360"/>
          </a:xfrm>
        </p:grpSpPr>
        <p:sp>
          <p:nvSpPr>
            <p:cNvPr id="347" name=""/>
            <p:cNvSpPr/>
            <p:nvPr/>
          </p:nvSpPr>
          <p:spPr>
            <a:xfrm>
              <a:off x="842040" y="533520"/>
              <a:ext cx="42084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The GLU NURBS Interfac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141920" y="1116000"/>
              <a:ext cx="5972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GLU provides a NURBS (Non-Uniform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821240" y="1420920"/>
              <a:ext cx="6121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ational B-Spline) interface built on top of th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863720" y="1727280"/>
              <a:ext cx="4025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penGL evaluator command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73680" y="3886200"/>
              <a:ext cx="6447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Courier New"/>
                </a:rPr>
                <a:t>Example 11-5 Drawing a NURBS Surface: surface.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60880" y="5565600"/>
              <a:ext cx="3704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float ctlpoints[4][4][3]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919800" y="5794200"/>
              <a:ext cx="3018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UnurbsObj *theNurb;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143000" y="4495680"/>
              <a:ext cx="2819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include &lt;GL/glu.h&gt;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#include &lt;stdlib.h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#include &lt;stdio.h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2590920" y="2743200"/>
            <a:ext cx="1676160" cy="459720"/>
          </a:xfrm>
          <a:prstGeom prst="rect">
            <a:avLst/>
          </a:prstGeom>
          <a:solidFill>
            <a:srgbClr val="cc3300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305920" y="6019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D6FF0-9BDE-487E-A860-A0DCB45C5B88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934320" y="2209680"/>
            <a:ext cx="1676160" cy="459720"/>
          </a:xfrm>
          <a:prstGeom prst="rect">
            <a:avLst/>
          </a:prstGeom>
          <a:solidFill>
            <a:srgbClr val="cc3300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-122760" y="760320"/>
            <a:ext cx="7318440" cy="5079960"/>
            <a:chOff x="-122760" y="760320"/>
            <a:chExt cx="7318440" cy="5079960"/>
          </a:xfrm>
        </p:grpSpPr>
        <p:sp>
          <p:nvSpPr>
            <p:cNvPr id="361" name=""/>
            <p:cNvSpPr/>
            <p:nvPr/>
          </p:nvSpPr>
          <p:spPr>
            <a:xfrm>
              <a:off x="663840" y="760320"/>
              <a:ext cx="3155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void init_surface(void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204200" y="9889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{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40160" y="1217520"/>
              <a:ext cx="178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int u, v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062000" y="1446120"/>
              <a:ext cx="3978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or (u = 0; u &lt; 4; u++) {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041840" y="1676520"/>
              <a:ext cx="4527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or (v = 0; v &lt; 4; v++) {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" name=""/>
            <p:cNvGrpSpPr/>
            <p:nvPr/>
          </p:nvGrpSpPr>
          <p:grpSpPr>
            <a:xfrm>
              <a:off x="862920" y="1905120"/>
              <a:ext cx="6310080" cy="503280"/>
              <a:chOff x="862920" y="1905120"/>
              <a:chExt cx="6310080" cy="503280"/>
            </a:xfrm>
          </p:grpSpPr>
          <p:sp>
            <p:nvSpPr>
              <p:cNvPr id="367" name=""/>
              <p:cNvSpPr/>
              <p:nvPr/>
            </p:nvSpPr>
            <p:spPr>
              <a:xfrm>
                <a:off x="909360" y="1905120"/>
                <a:ext cx="61729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ctlpoints[u][v][0] = 2.0*((GLfloat)u - 1.5)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862920" y="2133720"/>
                <a:ext cx="6310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ctlpoints[u][v][1] = 2.0*((GLfloat)v - 1.5);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748440" y="2362320"/>
              <a:ext cx="6447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if ( (u == 1 || u == 2) &amp;&amp; (v == 1 || v == 2)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62680" y="2590920"/>
              <a:ext cx="5075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ctlpoints[u][v][2] = 3.0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768320" y="2819520"/>
              <a:ext cx="68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el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56120" y="3048120"/>
              <a:ext cx="521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ctlpoints[u][v][2] = -3.0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180440" y="3276720"/>
              <a:ext cx="1235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4" name=""/>
            <p:cNvGrpSpPr/>
            <p:nvPr/>
          </p:nvGrpSpPr>
          <p:grpSpPr>
            <a:xfrm>
              <a:off x="1076760" y="3506760"/>
              <a:ext cx="823680" cy="503280"/>
              <a:chOff x="1076760" y="3506760"/>
              <a:chExt cx="823680" cy="503280"/>
            </a:xfrm>
          </p:grpSpPr>
          <p:sp>
            <p:nvSpPr>
              <p:cNvPr id="375" name=""/>
              <p:cNvSpPr/>
              <p:nvPr/>
            </p:nvSpPr>
            <p:spPr>
              <a:xfrm>
                <a:off x="1076760" y="3506760"/>
                <a:ext cx="8236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276920" y="3735360"/>
                <a:ext cx="13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7" name=""/>
            <p:cNvSpPr/>
            <p:nvPr/>
          </p:nvSpPr>
          <p:spPr>
            <a:xfrm>
              <a:off x="775080" y="4421160"/>
              <a:ext cx="2469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void myinit(void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204200" y="46497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{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-122760" y="4878360"/>
              <a:ext cx="699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float mat_diffuse[] = { 0.7, 0.7, 0.7, 1.0 }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320" y="5106960"/>
              <a:ext cx="699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float mat_specular[] = { 1.0, 1.0, 1.0, 1.0 }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3840" y="5337000"/>
              <a:ext cx="5624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float mat_shininess[] = { 100.0 };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74960" y="5565600"/>
              <a:ext cx="521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ClearColor (0.0, 0.0, 0.0, 1.0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38088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1760" y="1093680"/>
            <a:ext cx="2887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OLYGON MES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33280" y="1779480"/>
            <a:ext cx="6247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 of vertices - polygon; list of edges - polyg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36880" y="2211480"/>
            <a:ext cx="340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 of polygons --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35440" y="2643120"/>
            <a:ext cx="4328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ane equation from 3 vertic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71720" y="3125880"/>
            <a:ext cx="2606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x + By +Cz + D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64960" y="3406680"/>
            <a:ext cx="461376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rmal: (A,B,C) = k(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x  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98960" y="38116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13080" y="36846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03880" y="38116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18000" y="36846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76720" y="38116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203800" y="36846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94240" y="38116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36846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38680" y="3902040"/>
            <a:ext cx="6501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, B, and C are proportional to the signed are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21960" y="4206960"/>
            <a:ext cx="6204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the projections of the polygon onto the (y, z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21600" y="4511520"/>
            <a:ext cx="6333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x, z), and (x, y) planes. If the polygon is parall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24120" y="4816440"/>
            <a:ext cx="4447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the (x, y) plane, then A = B = 0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8305920" y="6019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51A88-1A15-4AA4-9095-C853E5F9F6E2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553080" y="2514600"/>
            <a:ext cx="1676520" cy="459720"/>
          </a:xfrm>
          <a:prstGeom prst="rect">
            <a:avLst/>
          </a:prstGeom>
          <a:solidFill>
            <a:srgbClr val="cc3300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391320" y="760320"/>
            <a:ext cx="8416440" cy="4543560"/>
            <a:chOff x="391320" y="760320"/>
            <a:chExt cx="8416440" cy="4543560"/>
          </a:xfrm>
        </p:grpSpPr>
        <p:sp>
          <p:nvSpPr>
            <p:cNvPr id="388" name=""/>
            <p:cNvSpPr/>
            <p:nvPr/>
          </p:nvSpPr>
          <p:spPr>
            <a:xfrm>
              <a:off x="397080" y="760320"/>
              <a:ext cx="7270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Materialfv(GL_FRONT, GL_DIFFUSE, mat_diffuse);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09760" y="1217520"/>
              <a:ext cx="7407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Materialfv(GL_FRONT, GL_SPECULAR, mat_specular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91320" y="1676520"/>
              <a:ext cx="7681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Materialfv(GL_FRONT,GL_SHININESS, mat_shininess);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29800" y="2362320"/>
              <a:ext cx="3566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Enable(GL_LIGHTING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08200" y="2590920"/>
              <a:ext cx="3292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Enable(GL_LIGHT0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56440" y="2819520"/>
              <a:ext cx="3704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DepthFunc(GL_LEQUAL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44920" y="3048120"/>
              <a:ext cx="3841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Enable(GL_DEPTH_TEST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941400" y="3276720"/>
              <a:ext cx="3978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Enable(GL_AUTO_NORMAL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88120" y="3506760"/>
              <a:ext cx="3704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Enable(GL_NORMALIZE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03000" y="3735360"/>
              <a:ext cx="2743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init_surface();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70960" y="4192560"/>
              <a:ext cx="4938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theNurb = gluNewNurbsRenderer(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77440" y="4421160"/>
              <a:ext cx="8230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uNurbsProperty(theNurb, GLU_SAMPLING_TOLERANCE, 25.0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03720" y="4724280"/>
              <a:ext cx="7956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uNurbsProperty(theNurb, GLU_DISPLAY_MODE, GLU_FILL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116360" y="50292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8229600" y="6019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5A892-9115-4D73-A9E7-93F2CB0D38D7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943600" y="2819520"/>
            <a:ext cx="1676520" cy="459720"/>
          </a:xfrm>
          <a:prstGeom prst="rect">
            <a:avLst/>
          </a:prstGeom>
          <a:solidFill>
            <a:srgbClr val="cc3300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-605520" y="760320"/>
            <a:ext cx="9082080" cy="5308560"/>
            <a:chOff x="-605520" y="760320"/>
            <a:chExt cx="9082080" cy="5308560"/>
          </a:xfrm>
        </p:grpSpPr>
        <p:sp>
          <p:nvSpPr>
            <p:cNvPr id="406" name=""/>
            <p:cNvSpPr/>
            <p:nvPr/>
          </p:nvSpPr>
          <p:spPr>
            <a:xfrm>
              <a:off x="1117800" y="760320"/>
              <a:ext cx="2469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void display(void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204200" y="9889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{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-605520" y="1217520"/>
              <a:ext cx="9053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float knots[8] = {0.0, 0.0, 0.0, 0.0, 1.0, 1.0, 1.0, 1.0};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94880" y="1905120"/>
              <a:ext cx="7681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Clear(GL_COLOR_BUFFER_BIT | GL_DEPTH_BUFFER_BIT);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38360" y="2362320"/>
              <a:ext cx="2606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PushMatrix(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61640" y="2590920"/>
              <a:ext cx="4801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Rotatef(330.0, 1.,0.,0.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1760" y="2819520"/>
              <a:ext cx="4664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Scalef (0.5, 0.5, 0.5);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38480" y="3048120"/>
              <a:ext cx="4527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uBeginSurface(theNurb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44960" y="3276720"/>
              <a:ext cx="4527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uNurbsSurface(theNurb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102680" y="3506760"/>
              <a:ext cx="2881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8, knots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102680" y="3735360"/>
              <a:ext cx="2881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8, knots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117800" y="3963960"/>
              <a:ext cx="2469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4 * 3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138320" y="4192560"/>
              <a:ext cx="1920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3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90800" y="4421160"/>
              <a:ext cx="4527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&amp;ctlpoints[0][0][0]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122840" y="4649760"/>
              <a:ext cx="233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4, 4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056960" y="4878360"/>
              <a:ext cx="4115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_MAP2_VERTEX_3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59360" y="5106960"/>
              <a:ext cx="4389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uEndSurface(theNurb);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56000" y="5337000"/>
              <a:ext cx="2469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PopMatrix(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70040" y="5565600"/>
              <a:ext cx="1920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Flush(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204200" y="57942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">
            <a:hlinkClick r:id="" action="ppaction://hlinkshowjump?jump=previousslide"/>
          </p:cNvPr>
          <p:cNvSpPr/>
          <p:nvPr/>
        </p:nvSpPr>
        <p:spPr>
          <a:xfrm>
            <a:off x="8610480" y="62485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  <a:path fill="darken" w="21600" h="26975">
                <a:moveTo>
                  <a:pt x="3794" y="10180"/>
                </a:moveTo>
                <a:lnTo>
                  <a:pt x="7301" y="10180"/>
                </a:lnTo>
                <a:lnTo>
                  <a:pt x="7301" y="15515"/>
                </a:lnTo>
                <a:cubicBezTo>
                  <a:pt x="7301" y="16438"/>
                  <a:pt x="8102" y="17169"/>
                  <a:pt x="9138" y="17169"/>
                </a:cubicBezTo>
                <a:lnTo>
                  <a:pt x="10800" y="17169"/>
                </a:lnTo>
                <a:cubicBezTo>
                  <a:pt x="11836" y="17169"/>
                  <a:pt x="12636" y="16438"/>
                  <a:pt x="12636" y="15515"/>
                </a:cubicBezTo>
                <a:lnTo>
                  <a:pt x="12636" y="10180"/>
                </a:lnTo>
                <a:lnTo>
                  <a:pt x="10800" y="10180"/>
                </a:lnTo>
                <a:lnTo>
                  <a:pt x="14308" y="6672"/>
                </a:lnTo>
                <a:lnTo>
                  <a:pt x="17981" y="10180"/>
                </a:lnTo>
                <a:lnTo>
                  <a:pt x="16144" y="10180"/>
                </a:lnTo>
                <a:lnTo>
                  <a:pt x="16144" y="15515"/>
                </a:lnTo>
                <a:cubicBezTo>
                  <a:pt x="16144" y="18283"/>
                  <a:pt x="13568" y="20842"/>
                  <a:pt x="10800" y="20842"/>
                </a:cubicBezTo>
                <a:lnTo>
                  <a:pt x="9138" y="20842"/>
                </a:lnTo>
                <a:cubicBezTo>
                  <a:pt x="6370" y="20842"/>
                  <a:pt x="3794" y="18283"/>
                  <a:pt x="3794" y="15515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05920" y="6019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3DAA8-1DF8-4C63-A39D-F792641B749A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986760" y="533520"/>
            <a:ext cx="7531560" cy="5395680"/>
            <a:chOff x="986760" y="533520"/>
            <a:chExt cx="7531560" cy="5395680"/>
          </a:xfrm>
        </p:grpSpPr>
        <p:sp>
          <p:nvSpPr>
            <p:cNvPr id="67" name=""/>
            <p:cNvSpPr/>
            <p:nvPr/>
          </p:nvSpPr>
          <p:spPr>
            <a:xfrm>
              <a:off x="4570200" y="609480"/>
              <a:ext cx="2643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here the operato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749600" y="1219320"/>
              <a:ext cx="4789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s normal addition except that . Th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24120" y="1676520"/>
              <a:ext cx="6694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area for A and B are given by similar formula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986760" y="4800600"/>
              <a:ext cx="5226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distance d for a vertex at (x,y,z) i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" name="16" descr=""/>
            <p:cNvPicPr/>
            <p:nvPr/>
          </p:nvPicPr>
          <p:blipFill>
            <a:blip r:embed="rId1"/>
            <a:stretch/>
          </p:blipFill>
          <p:spPr>
            <a:xfrm>
              <a:off x="2057400" y="2286000"/>
              <a:ext cx="5362560" cy="24670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72" name=""/>
                <p:cNvSpPr txBox="1"/>
                <p:nvPr/>
              </p:nvSpPr>
              <p:spPr>
                <a:xfrm>
                  <a:off x="1752480" y="533520"/>
                  <a:ext cx="2667240" cy="62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⊕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⊕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d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3" name=""/>
                <p:cNvSpPr txBox="1"/>
                <p:nvPr/>
              </p:nvSpPr>
              <p:spPr>
                <a:xfrm>
                  <a:off x="7238880" y="762120"/>
                  <a:ext cx="163800" cy="17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⊕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6629400" y="1295280"/>
                  <a:ext cx="914400" cy="27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⊕</m:t>
                      </m:r>
                      <m:r>
                        <m:t xml:space="preserve">1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5" name=""/>
                <p:cNvSpPr txBox="1"/>
                <p:nvPr/>
              </p:nvSpPr>
              <p:spPr>
                <a:xfrm>
                  <a:off x="2209680" y="5181480"/>
                  <a:ext cx="2362320" cy="747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Ax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By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Cz</m:t>
                          </m:r>
                          <m:r>
                            <m:t xml:space="preserve">+</m:t>
                          </m:r>
                          <m:r>
                            <m:t xml:space="preserve">D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B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C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05920" y="6019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07719-C052-46B8-9613-7B7B8CC52FA1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114560" y="735120"/>
            <a:ext cx="6908760" cy="5389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305920" y="6019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67778-13E9-4DA6-8234-82BC3C661EEF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762120" y="380880"/>
            <a:ext cx="6908760" cy="5389560"/>
            <a:chOff x="762120" y="380880"/>
            <a:chExt cx="6908760" cy="5389560"/>
          </a:xfrm>
        </p:grpSpPr>
        <p:pic>
          <p:nvPicPr>
            <p:cNvPr id="84" name="" descr=""/>
            <p:cNvPicPr/>
            <p:nvPr/>
          </p:nvPicPr>
          <p:blipFill>
            <a:blip r:embed="rId2"/>
            <a:stretch/>
          </p:blipFill>
          <p:spPr>
            <a:xfrm>
              <a:off x="762120" y="380880"/>
              <a:ext cx="6908760" cy="53895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85" name=""/>
                <p:cNvSpPr txBox="1"/>
                <p:nvPr/>
              </p:nvSpPr>
              <p:spPr>
                <a:xfrm>
                  <a:off x="1676520" y="4495680"/>
                  <a:ext cx="2133360" cy="59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pHide m:val="1"/>
                        </m:naryPr>
                        <m:sub>
                          <m:r>
                            <m:t xml:space="preserve">k</m:t>
                          </m:r>
                        </m:sub>
                        <m:sup/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Sup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  <m:r>
                                    <m:t xml:space="preserve">+</m:t>
                                  </m:r>
                                  <m:sSubSup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  <m:r>
                                    <m:t xml:space="preserve">+</m:t>
                                  </m:r>
                                  <m:sSubSup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e>
                              </m:d>
                            </m:sup>
                          </m:sSup>
                        </m:e>
                      </m:nary>
                      <m:r>
                        <m:t xml:space="preserve">=</m:t>
                      </m:r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305920" y="6019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8FF68-6D68-4A4A-8C87-9124329F564E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65480" y="380880"/>
            <a:ext cx="7318800" cy="5763600"/>
            <a:chOff x="465480" y="380880"/>
            <a:chExt cx="7318800" cy="5763600"/>
          </a:xfrm>
        </p:grpSpPr>
        <p:sp>
          <p:nvSpPr>
            <p:cNvPr id="90" name=""/>
            <p:cNvSpPr/>
            <p:nvPr/>
          </p:nvSpPr>
          <p:spPr>
            <a:xfrm>
              <a:off x="465480" y="380880"/>
              <a:ext cx="62780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7 PARAMETRIC BICUBIC SURFAC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37960" y="1141560"/>
              <a:ext cx="61556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eneral form of cubic curve: Q(u) = U ·M ·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here G, the geometry vector, is a consta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137600" y="1879560"/>
              <a:ext cx="6072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f we allow G to vary in 3D along some path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369080" y="3886200"/>
              <a:ext cx="64152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n, a functional description is often tesselate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produce a polygon-mesh approximation to th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urface (trianglular polygon patche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217520" y="5029200"/>
              <a:ext cx="1784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a fixed 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71800" y="515628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084840" y="5029200"/>
              <a:ext cx="866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Q(s, 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949560" y="515628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073760" y="5029200"/>
              <a:ext cx="3027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is a curve because G(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99200" y="515628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212600" y="5029200"/>
              <a:ext cx="459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i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1367280" y="5410080"/>
              <a:ext cx="6095160" cy="734400"/>
              <a:chOff x="1367280" y="5410080"/>
              <a:chExt cx="6095160" cy="73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370520" y="5410080"/>
                <a:ext cx="1789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onstant. If 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149280" y="553716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22000" y="5410080"/>
                <a:ext cx="4240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(t) are cubics, the surface is said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367280" y="5778360"/>
                <a:ext cx="44506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o be a parametric bicubic surfa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06" name=""/>
                <p:cNvSpPr txBox="1"/>
                <p:nvPr/>
              </p:nvSpPr>
              <p:spPr>
                <a:xfrm>
                  <a:off x="2209680" y="2438280"/>
                  <a:ext cx="3521160" cy="147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,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S</m:t>
                      </m:r>
                      <m:r>
                        <m:t xml:space="preserve">⋅</m:t>
                      </m:r>
                      <m:r>
                        <m:t xml:space="preserve">M</m:t>
                      </m:r>
                      <m:r>
                        <m:t xml:space="preserve">⋅</m:t>
                      </m:r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S</m:t>
                      </m:r>
                      <m:r>
                        <m:t xml:space="preserve">⋅</m:t>
                      </m:r>
                      <m:r>
                        <m:t xml:space="preserve">M</m:t>
                      </m:r>
                      <m:r>
                        <m:t xml:space="preserve">⋅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4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05920" y="6019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8CFA1-F3C3-46E8-9728-49FC9549D1A9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57200" y="457200"/>
            <a:ext cx="7772400" cy="5184720"/>
            <a:chOff x="457200" y="457200"/>
            <a:chExt cx="7772400" cy="5184720"/>
          </a:xfrm>
        </p:grpSpPr>
        <p:sp>
          <p:nvSpPr>
            <p:cNvPr id="111" name=""/>
            <p:cNvSpPr/>
            <p:nvPr/>
          </p:nvSpPr>
          <p:spPr>
            <a:xfrm>
              <a:off x="457200" y="457200"/>
              <a:ext cx="441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Hermite Surfac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" name=""/>
                <p:cNvSpPr txBox="1"/>
                <p:nvPr/>
              </p:nvSpPr>
              <p:spPr>
                <a:xfrm>
                  <a:off x="1676520" y="1219320"/>
                  <a:ext cx="2895480" cy="140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u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p>
                                  <m:e>
                                    <m:r>
                                      <m:t xml:space="preserve">u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e>
                              <m:e>
                                <m:sSup>
                                  <m:e>
                                    <m:r>
                                      <m:t xml:space="preserve">u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  <m:e>
                                <m:r>
                                  <m:t xml:space="preserve">u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h</m:t>
                          </m:r>
                        </m:sub>
                      </m:sSub>
                      <m:sSub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4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4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</m:d>
                        </m:e>
                        <m:sub>
                          <m:r>
                            <m:t xml:space="preserve">x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3" name=""/>
                <p:cNvSpPr txBox="1"/>
                <p:nvPr/>
              </p:nvSpPr>
              <p:spPr>
                <a:xfrm>
                  <a:off x="5715000" y="1295280"/>
                  <a:ext cx="2514600" cy="137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h</m:t>
                          </m:r>
                        </m:sub>
                      </m:sSub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2</m:t>
                                </m:r>
                              </m:e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  <m:e>
                                <m:r>
                                  <m:t xml:space="preserve">3</m:t>
                                </m:r>
                              </m:e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4" name=""/>
                <p:cNvSpPr txBox="1"/>
                <p:nvPr/>
              </p:nvSpPr>
              <p:spPr>
                <a:xfrm>
                  <a:off x="1790640" y="2971800"/>
                  <a:ext cx="2228760" cy="140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,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S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h</m:t>
                          </m:r>
                        </m:sub>
                      </m:sSub>
                      <m:sSub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4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4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mr>
                              </m:m>
                            </m:e>
                          </m:d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5" name=""/>
                <p:cNvSpPr txBox="1"/>
                <p:nvPr/>
              </p:nvSpPr>
              <p:spPr>
                <a:xfrm>
                  <a:off x="4419720" y="2743200"/>
                  <a:ext cx="2324160" cy="179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1</m:t>
                          </m:r>
                          <m:r>
                            <m:t xml:space="preserve">x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T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h</m:t>
                          </m:r>
                        </m:sub>
                      </m:sSub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,0</m:t>
                                </m:r>
                                <m:r>
                                  <m:t xml:space="preserve">)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,1</m:t>
                                </m:r>
                                <m:r>
                                  <m:t xml:space="preserve">)</m:t>
                                </m:r>
                              </m:e>
                            </m:mr>
                            <m:m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den>
                                </m:f>
                                <m:r>
                                  <m:t xml:space="preserve">(</m:t>
                                </m:r>
                                <m:r>
                                  <m:t xml:space="preserve">0,0</m:t>
                                </m:r>
                                <m:r>
                                  <m:t xml:space="preserve">)</m:t>
                                </m:r>
                              </m:e>
                            </m:mr>
                            <m:m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den>
                                </m:f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,1</m:t>
                                </m:r>
                                <m:r>
                                  <m:t xml:space="preserve">)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16" name=""/>
            <p:cNvSpPr/>
            <p:nvPr/>
          </p:nvSpPr>
          <p:spPr>
            <a:xfrm>
              <a:off x="609480" y="167652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urve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876920" y="17524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33520" y="342900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urface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9" name=""/>
                <p:cNvSpPr txBox="1"/>
                <p:nvPr/>
              </p:nvSpPr>
              <p:spPr>
                <a:xfrm>
                  <a:off x="1600200" y="5181480"/>
                  <a:ext cx="5029200" cy="46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4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4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mr>
                              </m:m>
                            </m:e>
                          </m:d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T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h</m:t>
                          </m:r>
                        </m:sub>
                      </m:sSub>
                      <m:r>
                        <m:t xml:space="preserve">⋅</m:t>
                      </m:r>
                      <m:sSubSup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Hx</m:t>
                          </m:r>
                        </m:sub>
                        <m:sup>
                          <m:r>
                            <m:t xml:space="preserve">T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120" name=""/>
            <p:cNvSpPr/>
            <p:nvPr/>
          </p:nvSpPr>
          <p:spPr>
            <a:xfrm>
              <a:off x="609480" y="518148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ince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685800" y="594360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 hav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305920" y="6019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A5531-7689-493E-A0C2-29CF3A556EF1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990720" y="609480"/>
            <a:ext cx="6172200" cy="5702400"/>
            <a:chOff x="990720" y="609480"/>
            <a:chExt cx="6172200" cy="5702400"/>
          </a:xfrm>
        </p:grpSpPr>
        <mc:AlternateContent>
          <mc:Choice xmlns:a14="http://schemas.microsoft.com/office/drawing/2010/main" Requires="a14">
            <p:sp>
              <p:nvSpPr>
                <p:cNvPr id="126" name=""/>
                <p:cNvSpPr txBox="1"/>
                <p:nvPr/>
              </p:nvSpPr>
              <p:spPr>
                <a:xfrm>
                  <a:off x="1295280" y="609480"/>
                  <a:ext cx="5267520" cy="179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,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S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h</m:t>
                          </m:r>
                        </m:sub>
                      </m:sSub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4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4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r>
                        <m:t xml:space="preserve">S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h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Hx</m:t>
                          </m:r>
                        </m:sub>
                      </m:sSub>
                      <m:r>
                        <m:t xml:space="preserve">⋅</m:t>
                      </m:r>
                      <m:sSubSup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h</m:t>
                          </m:r>
                        </m:sub>
                        <m:sup>
                          <m:r>
                            <m:t xml:space="preserve">T</m:t>
                          </m:r>
                        </m:sup>
                      </m:sSubSup>
                      <m:r>
                        <m:t xml:space="preserve">⋅</m:t>
                      </m:r>
                      <m:sSup>
                        <m:e>
                          <m:r>
                            <m:t xml:space="preserve">T</m:t>
                          </m:r>
                        </m:e>
                        <m:sup>
                          <m:r>
                            <m:t xml:space="preserve">T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7" name=""/>
                <p:cNvSpPr txBox="1"/>
                <p:nvPr/>
              </p:nvSpPr>
              <p:spPr>
                <a:xfrm>
                  <a:off x="1295280" y="3124080"/>
                  <a:ext cx="4267440" cy="1917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Hx</m:t>
                          </m:r>
                        </m:sub>
                      </m:sSub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,0</m:t>
                                </m:r>
                                <m:r>
                                  <m:t xml:space="preserve">)</m:t>
                                </m:r>
                              </m:e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,1</m:t>
                                </m:r>
                                <m:r>
                                  <m:t xml:space="preserve">)</m:t>
                                </m:r>
                              </m:e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den>
                                </m:f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,0</m:t>
                                </m:r>
                                <m:r>
                                  <m:t xml:space="preserve">)</m:t>
                                </m:r>
                              </m:e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den>
                                </m:f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,1</m:t>
                                </m:r>
                                <m:r>
                                  <m:t xml:space="preserve">)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,0</m:t>
                                </m:r>
                                <m:r>
                                  <m:t xml:space="preserve">)</m:t>
                                </m:r>
                              </m:e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,1</m:t>
                                </m:r>
                                <m:r>
                                  <m:t xml:space="preserve">)</m:t>
                                </m:r>
                              </m:e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den>
                                </m:f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,0</m:t>
                                </m:r>
                                <m:r>
                                  <m:t xml:space="preserve">)</m:t>
                                </m:r>
                              </m:e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den>
                                </m:f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,1</m:t>
                                </m:r>
                                <m:r>
                                  <m:t xml:space="preserve">)</m:t>
                                </m:r>
                              </m:e>
                            </m:mr>
                            <m:m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s</m:t>
                                    </m:r>
                                  </m:den>
                                </m:f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,0</m:t>
                                </m:r>
                                <m:r>
                                  <m:t xml:space="preserve">)</m:t>
                                </m:r>
                              </m:e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s</m:t>
                                    </m:r>
                                  </m:den>
                                </m:f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,1</m:t>
                                </m:r>
                                <m:r>
                                  <m:t xml:space="preserve">)</m:t>
                                </m:r>
                              </m:e>
                              <m:e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∂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s</m:t>
                                    </m:r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den>
                                </m:f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,0</m:t>
                                </m:r>
                                <m:r>
                                  <m:t xml:space="preserve">)</m:t>
                                </m:r>
                              </m:e>
                              <m:e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∂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s</m:t>
                                    </m:r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den>
                                </m:f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,1</m:t>
                                </m:r>
                                <m:r>
                                  <m:t xml:space="preserve">)</m:t>
                                </m:r>
                              </m:e>
                            </m:mr>
                            <m:m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s</m:t>
                                    </m:r>
                                  </m:den>
                                </m:f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,0</m:t>
                                </m:r>
                                <m:r>
                                  <m:t xml:space="preserve">)</m:t>
                                </m:r>
                              </m:e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s</m:t>
                                    </m:r>
                                  </m:den>
                                </m:f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,1</m:t>
                                </m:r>
                                <m:r>
                                  <m:t xml:space="preserve">)</m:t>
                                </m:r>
                              </m:e>
                              <m:e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∂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s</m:t>
                                    </m:r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den>
                                </m:f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,0</m:t>
                                </m:r>
                                <m:r>
                                  <m:t xml:space="preserve">)</m:t>
                                </m:r>
                              </m:e>
                              <m:e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∂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s</m:t>
                                    </m:r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den>
                                </m:f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,1</m:t>
                                </m:r>
                                <m:r>
                                  <m:t xml:space="preserve">)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28" name=""/>
            <p:cNvSpPr/>
            <p:nvPr/>
          </p:nvSpPr>
          <p:spPr>
            <a:xfrm>
              <a:off x="990720" y="251460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143000" y="5486400"/>
              <a:ext cx="6019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here x coordinates, coordinates of the tangent vectors and twists are specifi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05920" y="6019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79C0D-63C3-4F1C-AFC9-6E1CCC83A313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990720" y="709560"/>
            <a:ext cx="7201440" cy="4738320"/>
            <a:chOff x="990720" y="709560"/>
            <a:chExt cx="7201440" cy="4738320"/>
          </a:xfrm>
        </p:grpSpPr>
        <p:sp>
          <p:nvSpPr>
            <p:cNvPr id="134" name=""/>
            <p:cNvSpPr/>
            <p:nvPr/>
          </p:nvSpPr>
          <p:spPr>
            <a:xfrm>
              <a:off x="1132560" y="709560"/>
              <a:ext cx="6105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Just as the Hermite cubic curves, the Hermit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823760" y="1103400"/>
              <a:ext cx="2323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icubic permits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90760" y="102708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18560" y="1103400"/>
              <a:ext cx="881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nd 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94080" y="102708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317920" y="1103400"/>
              <a:ext cx="2730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ntinuity from on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885680" y="1407960"/>
              <a:ext cx="2178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atch to the nex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191960" y="1917720"/>
              <a:ext cx="1762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st, to have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946240" y="184140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069360" y="1917720"/>
              <a:ext cx="4255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ntinuity, the matching curve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869120" y="2222640"/>
              <a:ext cx="5653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f the two patches must be identical, which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864080" y="2527200"/>
              <a:ext cx="5916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eans the control points for the two surface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884240" y="2832120"/>
              <a:ext cx="4162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ust be identical along the ed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188720" y="3340080"/>
              <a:ext cx="1337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have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01640" y="327672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22240" y="3340080"/>
              <a:ext cx="4705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ntinuity, the control points alon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874160" y="3646440"/>
              <a:ext cx="5541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edge and the tangent and twist vector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889640" y="3951360"/>
              <a:ext cx="3287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cross the edge be equal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185840" y="4471920"/>
              <a:ext cx="1355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have 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14240" y="439596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639880" y="4471920"/>
              <a:ext cx="4365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ntinuity, the tangent and twis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84960" y="4776840"/>
              <a:ext cx="6307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ectors across the edge be in the same direction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857240" y="5081760"/>
              <a:ext cx="5956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 do not need to have the same magnitude.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066680" y="8380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90720" y="20574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90720" y="35053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990720" y="46483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0T18:19:22Z</dcterms:created>
  <dc:creator>Jim X. CHEN</dc:creator>
  <dc:description/>
  <dc:language>en-US</dc:language>
  <cp:lastModifiedBy>jchen</cp:lastModifiedBy>
  <dcterms:modified xsi:type="dcterms:W3CDTF">2002-03-18T22:03:32Z</dcterms:modified>
  <cp:revision>57</cp:revision>
  <dc:subject/>
  <dc:title>No Slide Title</dc:title>
</cp:coreProperties>
</file>