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4525" cy="927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216-3118-4CE5-B765-058D6CAD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5B5-6651-4501-B31C-2DA0C595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DB5-B815-49D9-A782-E8DADE2B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C67-6CA1-45AA-BB04-C8F6CC51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0E43-5D9C-4564-9F48-AD22CB25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CCE3-A20A-41D5-A2B2-B54B4FAF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85A2-8D70-4033-A207-F67F8D25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B87C-9321-4B2A-A818-36D49864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C4EC-9C8A-4D20-84E5-CF6A7600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0D8B-887E-48DF-8AE3-8D6475B1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63A6-B951-4267-95DD-33075C35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43A-259D-4A71-8281-D013672D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A4BE-F1B9-480F-8071-6624D1A5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B43F-70E3-478D-A5C6-14E813B3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000C-8F59-41C7-AEB9-0FEB0EAF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099F-7F4B-4DAF-8056-BC876049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5F26-6F63-4C5F-8C2A-F0CC9F67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FE3-32FD-4188-AB3D-085A92A8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2E9-6D4B-477C-8695-5FF44194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39E-01AC-442B-A9AB-638F4EED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BC8-CCC3-4D78-B782-FF299199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C1A-B35C-4347-B6E2-D8456254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6FB-B161-41D2-9601-47489A63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5F8-14F5-45E1-8B1D-D5ED2911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B6E5-1A1C-48EC-8593-1DCFA1E3971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C820-B96E-435E-8CBF-BFFC458431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40"/>
              </a:gs>
              <a:gs pos="100000">
                <a:srgbClr val="000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9258-03A0-498D-BC2C-97F241231D4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33C6-749D-4140-9F02-3C1D56DD70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40"/>
              </a:gs>
              <a:gs pos="100000">
                <a:srgbClr val="000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99840" y="2360520"/>
            <a:ext cx="7086600" cy="33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mp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ow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143000"/>
            <a:ext cx="7810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dvanced Texture and Light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DE2-9EE5-426D-A009-8CBE7B3B72C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FE27D-B18E-49B7-A23B-1FF3F6CF89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b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A6E-E6F8-4FED-BCB4-55074F79218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E1BFA-CE46-4391-B7FB-94B0364C42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 mapping with GL_REFLECTION_MAP &amp; GL_TEXTURE_CUBE_MAP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.glBindTexture(GL.GL_TEXTURE_CUBE_MAP_POSITIVE_X, cubeMap[0]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BindTexture(GL.GL_TEXTURE_CUBE_MAP_NEGATIVE_X, cubeMap[1]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BindTexture(GL.GL_TEXTURE_CUBE_MAP_POSITIVE_Y, cubeMap[2]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BindTexture(GL.GL_TEXTURE_CUBE_MAP_NEGATIVE_Y, cubeMap[3]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BindTexture(GL.GL_TEXTURE_CUBE_MAP_POSITIVE_Z, cubeMap[4]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BindTexture(GL.GL_TEXTURE_CUBE_MAP_NEGATIVE_Z, cubeMap[5])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Enable(GL.GL_TEXTURE_CUBE_MAP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GL_REFLECTION_MAP for s,t,r texture coordinat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TexGeni(GL.GL_S, GL.GL_TEXTURE_GEN_MODE, GL.GL_REFLECTION_MAP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TexGeni(GL.GL_T, GL.GL_TEXTURE_GEN_MODE, GL.GL_REFLECTION_MAP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TexGeni(GL.GL_R, GL.GL_TEXTURE_GEN_MODE, GL.GL_REFLECTION_MAP)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Enable(GL.GL_TEXTURE_GEN_S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Enable(GL.GL_TEXTURE_GEN_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Enable(GL.GL_TEXTURE_GEN_R)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//Draw shape to aply reflection on 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83C4-EB74-408D-878E-2580ACDF99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F3A0B56-C2B2-48AD-9681-43B23158DF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erical Environ.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fficient than cube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of perfect sphere reflector seen from infinity (orthograph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5145120" cy="294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10080" y="3048120"/>
            <a:ext cx="3251160" cy="32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D49-0259-47AC-9B37-F0B925FC14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823F2-A935-4010-A570-39BE4BE37D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ing Spher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in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Texture use for automatic coordinate gene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gl.glBindTexture(GL.GL_TEXTURE_2D, texture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gl.glEnable(GL.GL_TEXTURE_2D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//Sphere mapping and enable s &amp; t texture gene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gl.glTexGeni(GL.GL_S, GL.GL_TEXTURE_GEN_MODE, GL.GL_SPHERE_MAP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gl.glTexGeni(GL.GL_T, GL.GL_TEXTURE_GEN_MODE, GL.GL_SPHERE_MAP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gl.glEnable(GL.GL_TEXTURE_GEN_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gl.glEnable(GL.GL_TEXTURE_GEN_T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//Draw the shapes to apply the text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non-uniform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non-linear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6DB-528E-4D6D-A9FD-C831BD228D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6EFB9-1894-41D7-AFC0-EC0B12FF85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unifor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122720" cy="2292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417348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3F7-DC72-4117-8A12-B4BC24FF32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769E2-D765-443B-BEBE-C9BF6D230D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linear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interpolation of texture coordinates picks up the wrong texture 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mall polyg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6093000" cy="2697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362320" y="5867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5867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CBF-24DC-4D93-A27A-76EEED6B39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B3837-E9D6-4BB6-A8A2-EF4B0AD99B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67080" y="1828800"/>
            <a:ext cx="4724640" cy="38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DC3-8D42-4E76-ABDA-8068D17B991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9B46C-8FCF-43F1-B3CE-310D2354B8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e-render special lighting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texturing’ idea: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rbitrary texel-by-texel shading calc’d from multiple texture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8120" y="25909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2200" y="25909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13080" y="5638680"/>
            <a:ext cx="17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SimSun"/>
              </a:rPr>
              <a:t>Reflectance</a:t>
            </a:r>
            <a:br>
              <a:rPr sz="2400"/>
            </a:b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SimSun"/>
              </a:rPr>
              <a:t>Texture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  <a:ea typeface="SimSu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7320" y="5686560"/>
            <a:ext cx="304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ght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(Illumination Tex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84520" y="58881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=  Display te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F13-336E-412F-A8C8-C979471666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21F04-A6E2-45DB-984B-7E691B92A8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7391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hadow Mapp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Render scene from light’s point of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ore depth of each pix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13000" y="3541680"/>
            <a:ext cx="2717640" cy="2395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0" t="0" r="2702" b="0"/>
          <a:stretch/>
        </p:blipFill>
        <p:spPr>
          <a:xfrm>
            <a:off x="4424400" y="3541680"/>
            <a:ext cx="2646360" cy="23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482-BEA0-436C-A04A-FA2232A13A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A25CC-C992-4293-844E-BF7409C5BB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7391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hadow Mapp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nder scene from light’s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ore depth of each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en shading a surf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nsform surface point into light co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pare current surface depth to stored depth. If depth &gt; stored depth, the pixel is in shadow; otherwise the pixel is 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B14-3187-4996-97C4-9EB5D1C909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E8990-1241-4377-AACF-342D6C0F4E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mp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exel values to modify vertex/pixel normals of polyg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el values correspond t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rmals (or heights) modifying the current norm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GB =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1)/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2*RGB –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scm2.jpg (57728 bytes)"/>
          <p:cNvPicPr/>
          <p:nvPr/>
        </p:nvPicPr>
        <p:blipFill>
          <a:blip r:embed="rId1"/>
          <a:stretch/>
        </p:blipFill>
        <p:spPr>
          <a:xfrm>
            <a:off x="4876920" y="3581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447-2C4F-4F33-873F-D8CD53AB35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71CC5-C1C8-4C97-A0D3-7F2B69C1F9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lia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3716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SimSun"/>
              </a:rPr>
              <a:t>Williams, Siggraph ‘7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SimSun"/>
              </a:rPr>
              <a:t>render scene from light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SimSun"/>
              </a:rPr>
              <a:t>shadowing by depth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SimSun"/>
              </a:rPr>
              <a:t>prone to aliasing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SimSun"/>
              </a:rPr>
              <a:t>when zooming int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SimSun"/>
              </a:rPr>
              <a:t>shadow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00960" y="18288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34416" t="60328" r="23077" b="2820"/>
          <a:stretch/>
        </p:blipFill>
        <p:spPr>
          <a:xfrm>
            <a:off x="6372360" y="4038480"/>
            <a:ext cx="1933560" cy="1676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981840" y="4876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58160" y="2743200"/>
            <a:ext cx="76176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72360" y="4038480"/>
            <a:ext cx="1904760" cy="1676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2743200"/>
            <a:ext cx="685800" cy="129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19920" y="2743200"/>
            <a:ext cx="457200" cy="129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19920" y="3276720"/>
            <a:ext cx="2286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829200" y="3276720"/>
            <a:ext cx="2286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89600" y="4605480"/>
            <a:ext cx="5349240" cy="709560"/>
            <a:chOff x="1389600" y="4605480"/>
            <a:chExt cx="5349240" cy="709560"/>
          </a:xfrm>
        </p:grpSpPr>
        <p:sp>
          <p:nvSpPr>
            <p:cNvPr id="165" name=""/>
            <p:cNvSpPr/>
            <p:nvPr/>
          </p:nvSpPr>
          <p:spPr>
            <a:xfrm>
              <a:off x="6576840" y="5176800"/>
              <a:ext cx="162000" cy="138240"/>
            </a:xfrm>
            <a:custGeom>
              <a:avLst/>
              <a:gdLst/>
              <a:ahLst/>
              <a:rect l="l" t="t" r="r" b="b"/>
              <a:pathLst>
                <a:path w="102" h="87">
                  <a:moveTo>
                    <a:pt x="9" y="0"/>
                  </a:moveTo>
                  <a:lnTo>
                    <a:pt x="0" y="84"/>
                  </a:lnTo>
                  <a:lnTo>
                    <a:pt x="90" y="87"/>
                  </a:lnTo>
                  <a:lnTo>
                    <a:pt x="10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89600" y="4605480"/>
              <a:ext cx="371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ingle shadow map pix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4876920"/>
              <a:ext cx="18288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EBF-B9C3-402E-AB14-E1947EE4B8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D9E6C-EC70-4408-B1AB-D492ECA9E5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mp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ght source directio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pixel norma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represented in the global coor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, y,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mp map norma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 its local coordinates, which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ngent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xtur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46483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0" y="3581280"/>
            <a:ext cx="4024440" cy="26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7BE-137F-4228-9CFB-FFEDC3F93A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55B0A-7B80-473E-A5F5-1BAD8C2F04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mp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ngent space can be aligned with any orientation as long as they are perpendicular to the norm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hey do not rotate arou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oint to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ngent space coordinatesTNB:  T = NxS; B = Tx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 = (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,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, 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46483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4024080" cy="2657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3962520"/>
            <a:ext cx="35812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NB should be the same across the polygon. So it is calculated at vertex lev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FEF-0D25-448C-9C2A-1F585D3C47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C74C9-3BE8-4EFD-90E9-A9B3EDEB45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cement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mp mapp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t pixe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no geometry/shap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ly modify the surface geometry (vertic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calculate the nor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A15-481C-48C3-9F5F-E3A98348AA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8C322-C6BD-4629-A646-24066336B0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cement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mp mapped normals are inconsistent with actual geometry. No shad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mapping affects the surface 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cm13.jpg (79367 bytes)"/>
          <p:cNvPicPr/>
          <p:nvPr/>
        </p:nvPicPr>
        <p:blipFill>
          <a:blip r:embed="rId1"/>
          <a:stretch/>
        </p:blipFill>
        <p:spPr>
          <a:xfrm>
            <a:off x="685800" y="3429000"/>
            <a:ext cx="7467480" cy="3089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43000" y="3505320"/>
            <a:ext cx="304812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BB4-3BC7-432D-BF57-F8E3FD37C6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F7FF9-0733-485E-9DBC-AEA7CBD623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10280" cy="558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3F3-3493-4016-9DC9-34FB1FD765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06B54-FFEA-45EC-9F9E-9189ED442B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show the reflected colors in shiny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 normalized norm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reflected ra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(n•A) -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391520" cy="233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5A2-9BD3-4DD4-A1F6-FE4ECCEC6D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130FD-2A08-44B7-B086-E6E7890A02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simplified method uses the surface normal as an index for the texel on the cub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" y="2743200"/>
            <a:ext cx="2666880" cy="2536920"/>
            <a:chOff x="228600" y="2743200"/>
            <a:chExt cx="2666880" cy="25369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228600" y="2743200"/>
              <a:ext cx="2666880" cy="25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228600" y="2743200"/>
              <a:ext cx="2666880" cy="253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19520" y="2514600"/>
            <a:ext cx="5790960" cy="2960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0C9-21F4-44EF-B0E3-E5EEF4CF80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7B6D9-8036-4F03-B514-D8710072C2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5T19:08:51Z</dcterms:created>
  <dc:creator/>
  <dc:description/>
  <dc:language>en-US</dc:language>
  <cp:lastModifiedBy>jimxchen</cp:lastModifiedBy>
  <dcterms:modified xsi:type="dcterms:W3CDTF">2009-11-15T00:47:38Z</dcterms:modified>
  <cp:revision>100</cp:revision>
  <dc:subject/>
  <dc:title>PowerPoint Presentation</dc:title>
</cp:coreProperties>
</file>